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C0C-5A04-4F08-B04E-AAF8198C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C32-D96C-4FCC-AAC4-5B8EF3FA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873-631C-49D2-8F52-4639CEEA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1E7-C380-4AF2-9CC2-199AC50B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F6F-865A-4A3C-935A-1C446599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CA9-2BCF-4EB3-A06A-7FF29523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D3B-3115-4713-A617-0AEA0924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EDE-91B5-481C-927C-18E5BEAB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60F-02E8-4DF9-82F3-A90BEC56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A73-874E-4B50-A786-177A7F96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C67-9EAC-427A-95DB-548245B2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22C-FEFB-4B94-AACF-A92A0330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706C-8337-4BE2-99D3-FDFE8F45D23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hyperlink" Target="http://cpz.mef.unizg.hr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342756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2f5597"/>
                </a:solidFill>
                <a:latin typeface="Calibri Light"/>
              </a:rPr>
              <a:t>Medicinski fakultet Sveučilišta u Zagrebu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263840"/>
            <a:ext cx="914400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2f5597"/>
                </a:solidFill>
                <a:latin typeface="Calibri"/>
              </a:rPr>
              <a:t>Danko Relić</a:t>
            </a:r>
            <a:r>
              <a:rPr b="1" lang="sv-SE" sz="2200" spc="-1" strike="noStrike">
                <a:solidFill>
                  <a:srgbClr val="2f5597"/>
                </a:solidFill>
                <a:latin typeface="Calibri"/>
              </a:rPr>
              <a:t>,</a:t>
            </a:r>
            <a:r>
              <a:rPr b="1" lang="hr-HR" sz="2200" spc="-1" strike="noStrike">
                <a:solidFill>
                  <a:srgbClr val="2f5597"/>
                </a:solidFill>
                <a:latin typeface="Calibri"/>
              </a:rPr>
              <a:t> dr.med., predstojnik</a:t>
            </a:r>
            <a:r>
              <a:rPr b="1" lang="sv-SE" sz="2200" spc="-1" strike="noStrike">
                <a:solidFill>
                  <a:srgbClr val="2f559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2f5597"/>
                </a:solidFill>
                <a:latin typeface="Calibri"/>
              </a:rPr>
              <a:t>Profesionalno usmjeravanje u sustavu visokog obrazovanj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2f5597"/>
                </a:solidFill>
                <a:latin typeface="Calibri"/>
              </a:rPr>
              <a:t>aktualno stanje i izazov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2f5597"/>
                </a:solidFill>
                <a:latin typeface="Calibri"/>
              </a:rPr>
              <a:t>22. rujna 2017.g. Sveučilište u Zad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lika 4" descr=""/>
          <p:cNvPicPr/>
          <p:nvPr/>
        </p:nvPicPr>
        <p:blipFill>
          <a:blip r:embed="rId1"/>
          <a:stretch/>
        </p:blipFill>
        <p:spPr>
          <a:xfrm>
            <a:off x="1881360" y="797040"/>
            <a:ext cx="84294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Anketiranje - rezulta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825560"/>
            <a:ext cx="108252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sp>
        <p:nvSpPr>
          <p:cNvPr id="71" name="Content Placeholder 2"/>
          <p:cNvSpPr/>
          <p:nvPr/>
        </p:nvSpPr>
        <p:spPr>
          <a:xfrm>
            <a:off x="720720" y="1674720"/>
            <a:ext cx="87771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 Light"/>
              </a:rPr>
              <a:t>Rangirano od 1 do 10:</a:t>
            </a:r>
            <a:r>
              <a:rPr b="1" lang="hr-HR" sz="2400" spc="-1" strike="noStrike">
                <a:solidFill>
                  <a:srgbClr val="4472c4"/>
                </a:solidFill>
                <a:latin typeface="Calibri Light"/>
              </a:rPr>
              <a:t> 1 – najvažnije, 10 – najmanje važ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6480" y="2300400"/>
          <a:ext cx="5530680" cy="4079880"/>
        </p:xfrm>
        <a:graphic>
          <a:graphicData uri="http://schemas.openxmlformats.org/drawingml/2006/table">
            <a:tbl>
              <a:tblPr/>
              <a:tblGrid>
                <a:gridCol w="503280"/>
                <a:gridCol w="3184560"/>
                <a:gridCol w="1842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Aspekti živ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Medijan odgov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biteljski živ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76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2.8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obri međuljudski odno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.5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3.9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igurno zaposle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.63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4.3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Pomaganje drugim ljud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.67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4.9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inancije i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.68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5.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ogućnost napred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.83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5.4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Ugodan posao bez st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.55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5.9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telektualno izazovan pos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.1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5.9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Društveni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67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7.7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ogućnost rada kao privat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.63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(8.7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Informiranj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825560"/>
            <a:ext cx="108252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Slikovni rezultat za dan liječničkih karijera 2017"/>
          <p:cNvPicPr/>
          <p:nvPr/>
        </p:nvPicPr>
        <p:blipFill>
          <a:blip r:embed="rId2"/>
          <a:stretch/>
        </p:blipFill>
        <p:spPr>
          <a:xfrm>
            <a:off x="4091040" y="1380960"/>
            <a:ext cx="4578120" cy="491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ntent Placeholder 2"/>
          <p:cNvSpPr/>
          <p:nvPr/>
        </p:nvSpPr>
        <p:spPr>
          <a:xfrm>
            <a:off x="866880" y="1473120"/>
            <a:ext cx="83199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 Light"/>
                <a:ea typeface="Verdana"/>
              </a:rPr>
              <a:t>10. lipnja 2016.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 Light"/>
                <a:ea typeface="Verdana"/>
              </a:rPr>
              <a:t>475 prisutnih sudio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 Light"/>
                <a:ea typeface="Verdana"/>
              </a:rPr>
              <a:t>774 pratila konferenciju putem web live-streamin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 Light"/>
                <a:ea typeface="Verdana"/>
              </a:rPr>
              <a:t>20 izlagač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 Light"/>
                <a:ea typeface="Verdana"/>
              </a:rPr>
              <a:t>pokroviteljstvo Hrvatskog sab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Dan liječničkih karijera u </a:t>
            </a:r>
            <a:r>
              <a:rPr b="1" lang="hr-HR" sz="4400" spc="-1" strike="noStrike">
                <a:solidFill>
                  <a:srgbClr val="ff0000"/>
                </a:solidFill>
                <a:latin typeface="Calibri Light"/>
              </a:rPr>
              <a:t>RH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Dan liječničkih karijera u </a:t>
            </a:r>
            <a:r>
              <a:rPr b="1" lang="hr-HR" sz="4400" spc="-1" strike="noStrike">
                <a:solidFill>
                  <a:srgbClr val="ff0000"/>
                </a:solidFill>
                <a:latin typeface="Calibri Light"/>
              </a:rPr>
              <a:t>RH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Slikovni rezultat za dan liječničkih karijera 2017"/>
          <p:cNvPicPr/>
          <p:nvPr/>
        </p:nvPicPr>
        <p:blipFill>
          <a:blip r:embed="rId2"/>
          <a:stretch/>
        </p:blipFill>
        <p:spPr>
          <a:xfrm>
            <a:off x="309600" y="2349360"/>
            <a:ext cx="4486320" cy="299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x-ica.com/ea/wp-content/uploads/2016/06/Lije%C4%8Dnici-oru%C5%BEanih-snaga-Republike-Hrvatske-Medium-e1465564662915.jpg"/>
          <p:cNvPicPr/>
          <p:nvPr/>
        </p:nvPicPr>
        <p:blipFill>
          <a:blip r:embed="rId3"/>
          <a:stretch/>
        </p:blipFill>
        <p:spPr>
          <a:xfrm>
            <a:off x="4913280" y="2349360"/>
            <a:ext cx="2316240" cy="347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x-ica.com/ea/wp-content/uploads/2016/06/Mr.-sc.-Vesna-Bosanac-dr.-med.-Medium.jpg"/>
          <p:cNvPicPr/>
          <p:nvPr/>
        </p:nvPicPr>
        <p:blipFill>
          <a:blip r:embed="rId4"/>
          <a:stretch/>
        </p:blipFill>
        <p:spPr>
          <a:xfrm>
            <a:off x="7346880" y="2349360"/>
            <a:ext cx="4262400" cy="284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kovni rezultat za dani zdravstvenih karijera u rh"/>
          <p:cNvPicPr/>
          <p:nvPr/>
        </p:nvPicPr>
        <p:blipFill>
          <a:blip r:embed="rId1"/>
          <a:stretch/>
        </p:blipFill>
        <p:spPr>
          <a:xfrm>
            <a:off x="19080" y="1515960"/>
            <a:ext cx="12153960" cy="3848040"/>
          </a:xfrm>
          <a:prstGeom prst="rect">
            <a:avLst/>
          </a:prstGeom>
          <a:ln w="0">
            <a:noFill/>
          </a:ln>
        </p:spPr>
      </p:pic>
      <p:pic>
        <p:nvPicPr>
          <p:cNvPr id="86" name="Rezervirano mjesto sadržaja 8" descr=""/>
          <p:cNvPicPr/>
          <p:nvPr/>
        </p:nvPicPr>
        <p:blipFill>
          <a:blip r:embed="rId2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partneri.JPG"/>
          <p:cNvPicPr/>
          <p:nvPr/>
        </p:nvPicPr>
        <p:blipFill>
          <a:blip r:embed="rId1"/>
          <a:stretch/>
        </p:blipFill>
        <p:spPr>
          <a:xfrm>
            <a:off x="861840" y="1467000"/>
            <a:ext cx="8983800" cy="4140000"/>
          </a:xfrm>
          <a:prstGeom prst="rect">
            <a:avLst/>
          </a:prstGeom>
          <a:ln w="0">
            <a:noFill/>
          </a:ln>
        </p:spPr>
      </p:pic>
      <p:pic>
        <p:nvPicPr>
          <p:cNvPr id="88" name="Rezervirano mjesto sadržaja 8" descr=""/>
          <p:cNvPicPr/>
          <p:nvPr/>
        </p:nvPicPr>
        <p:blipFill>
          <a:blip r:embed="rId2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PRH.JPG"/>
          <p:cNvPicPr/>
          <p:nvPr/>
        </p:nvPicPr>
        <p:blipFill>
          <a:blip r:embed="rId3"/>
          <a:stretch/>
        </p:blipFill>
        <p:spPr>
          <a:xfrm>
            <a:off x="6489720" y="4473720"/>
            <a:ext cx="3267000" cy="1714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Dani zdravstvenih karijera u </a:t>
            </a:r>
            <a:r>
              <a:rPr b="1" lang="hr-HR" sz="4400" spc="-1" strike="noStrike">
                <a:solidFill>
                  <a:srgbClr val="ff0000"/>
                </a:solidFill>
                <a:latin typeface="Calibri Light"/>
              </a:rPr>
              <a:t>RH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Dani zdravstvenih karijera u </a:t>
            </a:r>
            <a:r>
              <a:rPr b="1" lang="hr-HR" sz="4400" spc="-1" strike="noStrike">
                <a:solidFill>
                  <a:srgbClr val="ff0000"/>
                </a:solidFill>
                <a:latin typeface="Calibri Light"/>
              </a:rPr>
              <a:t>RH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  <a:ea typeface="Verdana"/>
              </a:rPr>
              <a:t>9. i 10. lipnja 2017.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  <a:ea typeface="Verdana"/>
              </a:rPr>
              <a:t>637 prisutnih sudio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  <a:ea typeface="Verdana"/>
              </a:rPr>
              <a:t>1224 pratilo putem web live-streamin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  <a:ea typeface="Verdana"/>
              </a:rPr>
              <a:t>31 izlagač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800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  <a:ea typeface="Verdana"/>
              </a:rPr>
              <a:t>pokroviteljstvo Predsjednice R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Dani zdravstvenih karijera u </a:t>
            </a:r>
            <a:r>
              <a:rPr b="1" lang="hr-HR" sz="4400" spc="-1" strike="noStrike">
                <a:solidFill>
                  <a:srgbClr val="ff0000"/>
                </a:solidFill>
                <a:latin typeface="Calibri Light"/>
              </a:rPr>
              <a:t>RH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Rezervirano mjesto sadržaja 4" descr="Slika na kojoj se prikazuje na zatvorenom, stol, strop, zid&#10;&#10;Opis je generiran uz vrlo visoku pouzdanost"/>
          <p:cNvPicPr/>
          <p:nvPr/>
        </p:nvPicPr>
        <p:blipFill>
          <a:blip r:embed="rId1"/>
          <a:stretch/>
        </p:blipFill>
        <p:spPr>
          <a:xfrm rot="20904600">
            <a:off x="1359000" y="2050920"/>
            <a:ext cx="4467240" cy="2978280"/>
          </a:xfrm>
          <a:prstGeom prst="rect">
            <a:avLst/>
          </a:prstGeom>
          <a:ln w="0">
            <a:noFill/>
          </a:ln>
        </p:spPr>
      </p:pic>
      <p:pic>
        <p:nvPicPr>
          <p:cNvPr id="96" name="Slika 6" descr="Slika na kojoj se prikazuje osoba, strop, na zatvorenom, tenis&#10;&#10;Opis je generiran uz vrlo visoku pouzdanost"/>
          <p:cNvPicPr/>
          <p:nvPr/>
        </p:nvPicPr>
        <p:blipFill>
          <a:blip r:embed="rId2"/>
          <a:stretch/>
        </p:blipFill>
        <p:spPr>
          <a:xfrm rot="347400">
            <a:off x="5555880" y="2312640"/>
            <a:ext cx="3683160" cy="2455920"/>
          </a:xfrm>
          <a:prstGeom prst="rect">
            <a:avLst/>
          </a:prstGeom>
          <a:ln w="0">
            <a:noFill/>
          </a:ln>
        </p:spPr>
      </p:pic>
      <p:pic>
        <p:nvPicPr>
          <p:cNvPr id="97" name="Slika 8" descr="Slika na kojoj se prikazuje osoba, na zatvorenom, zid, stajanje&#10;&#10;Opis je generiran uz vrlo visoku pouzdanost"/>
          <p:cNvPicPr/>
          <p:nvPr/>
        </p:nvPicPr>
        <p:blipFill>
          <a:blip r:embed="rId3"/>
          <a:stretch/>
        </p:blipFill>
        <p:spPr>
          <a:xfrm rot="20694600">
            <a:off x="8432640" y="3103200"/>
            <a:ext cx="2984760" cy="1989000"/>
          </a:xfrm>
          <a:prstGeom prst="rect">
            <a:avLst/>
          </a:prstGeom>
          <a:ln w="0">
            <a:noFill/>
          </a:ln>
        </p:spPr>
      </p:pic>
      <p:pic>
        <p:nvPicPr>
          <p:cNvPr id="98" name="Rezervirano mjesto sadržaja 8" descr=""/>
          <p:cNvPicPr/>
          <p:nvPr/>
        </p:nvPicPr>
        <p:blipFill>
          <a:blip r:embed="rId4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pic>
        <p:nvPicPr>
          <p:cNvPr id="99" name="Slika 11" descr=""/>
          <p:cNvPicPr/>
          <p:nvPr/>
        </p:nvPicPr>
        <p:blipFill>
          <a:blip r:embed="rId5"/>
          <a:stretch/>
        </p:blipFill>
        <p:spPr>
          <a:xfrm rot="1365600">
            <a:off x="1444680" y="3633840"/>
            <a:ext cx="1954080" cy="2930400"/>
          </a:xfrm>
          <a:prstGeom prst="rect">
            <a:avLst/>
          </a:prstGeom>
          <a:ln w="0">
            <a:noFill/>
          </a:ln>
        </p:spPr>
      </p:pic>
      <p:pic>
        <p:nvPicPr>
          <p:cNvPr id="100" name="Slika 17" descr="Slika na kojoj se prikazuje stol, na zatvorenom, osoba, ljudi&#10;&#10;Opis je generiran uz vrlo visoku pouzdanost"/>
          <p:cNvPicPr/>
          <p:nvPr/>
        </p:nvPicPr>
        <p:blipFill>
          <a:blip r:embed="rId6"/>
          <a:stretch/>
        </p:blipFill>
        <p:spPr>
          <a:xfrm rot="219000">
            <a:off x="3946320" y="3633480"/>
            <a:ext cx="4086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pripravnički sta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specijalističko usavršavan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profesionalno usmjeravanje na razini izbora specijalizaci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poticajne mjere za ostanak i rad u Hrvatsko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iskustva onih koji rade izvan 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perspektive, procjene i planovi vezane za budućnost hrvatskog zdravst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predstavljanje mogućnosti zapošljavanja i rada u depriviranim i manje atraktivnim područjima 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zdravstvene karijere i zdravstvena industri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</a:rPr>
              <a:t>...i mnoge druge aktualne teme hrvatskog zdravst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Naslov 1"/>
          <p:cNvSpPr/>
          <p:nvPr/>
        </p:nvSpPr>
        <p:spPr>
          <a:xfrm>
            <a:off x="838080" y="52380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Dani zdravstvenih karijera u </a:t>
            </a:r>
            <a:r>
              <a:rPr b="1" lang="hr-HR" sz="4400" spc="-1" strike="noStrike">
                <a:solidFill>
                  <a:srgbClr val="ff0000"/>
                </a:solidFill>
                <a:latin typeface="Calibri Light"/>
              </a:rPr>
              <a:t>R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Usmjeravanj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9520" y="2068200"/>
            <a:ext cx="101854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  <a:ea typeface="Verdana"/>
              </a:rPr>
              <a:t>Psihologijsko test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4472c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  <a:ea typeface="Verdana"/>
              </a:rPr>
              <a:t>Test opterećenja paž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4472c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  <a:ea typeface="Verdana"/>
              </a:rPr>
              <a:t>Intelektualne sposobnosti (verbalne, numeričke, apstraktno rasuđivanje, perceptivna brzina i točnost, prostorni odn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4472c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  <a:ea typeface="Verdana"/>
              </a:rPr>
              <a:t>Testovi osobina ličnosti (profil emocija, faktori ličn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  <a:ea typeface="Verdana"/>
              </a:rPr>
              <a:t>Strukturirani intervju sa psiholog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Centar za planiranje zanimanja u </a:t>
            </a:r>
            <a:br>
              <a:rPr sz="4400"/>
            </a:b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biomedicini i zdravstvu Mef Z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20570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osnovan 2012.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aktivnosti od 2015.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ž</a:t>
            </a:r>
            <a:r>
              <a:rPr b="0" lang="en-AU" sz="2800" spc="-1" strike="noStrike">
                <a:solidFill>
                  <a:srgbClr val="4472c4"/>
                </a:solidFill>
                <a:latin typeface="Calibri"/>
              </a:rPr>
              <a:t>elj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a</a:t>
            </a:r>
            <a:r>
              <a:rPr b="0" lang="en-AU" sz="2800" spc="-1" strike="noStrike">
                <a:solidFill>
                  <a:srgbClr val="4472c4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za </a:t>
            </a:r>
            <a:r>
              <a:rPr b="0" lang="en-AU" sz="2800" spc="-1" strike="noStrike">
                <a:solidFill>
                  <a:srgbClr val="4472c4"/>
                </a:solidFill>
                <a:latin typeface="Calibri"/>
              </a:rPr>
              <a:t>aktivnijim utjecanjem 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fakulteta </a:t>
            </a:r>
            <a:r>
              <a:rPr b="0" lang="en-AU" sz="2800" spc="-1" strike="noStrike">
                <a:solidFill>
                  <a:srgbClr val="4472c4"/>
                </a:solidFill>
                <a:latin typeface="Calibri"/>
              </a:rPr>
              <a:t>na buduće zapošljavanje studena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suradnja </a:t>
            </a:r>
            <a:r>
              <a:rPr b="0" lang="en-AU" sz="2800" spc="-1" strike="noStrike">
                <a:solidFill>
                  <a:srgbClr val="4472c4"/>
                </a:solidFill>
                <a:latin typeface="Calibri"/>
              </a:rPr>
              <a:t>sa svim 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relevantnim </a:t>
            </a:r>
            <a:r>
              <a:rPr b="0" lang="en-AU" sz="2800" spc="-1" strike="noStrike">
                <a:solidFill>
                  <a:srgbClr val="4472c4"/>
                </a:solidFill>
                <a:latin typeface="Calibri"/>
              </a:rPr>
              <a:t>institucija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za</a:t>
            </a:r>
            <a:r>
              <a:rPr b="0" lang="en-AU" sz="2800" spc="-1" strike="noStrike">
                <a:solidFill>
                  <a:srgbClr val="4472c4"/>
                </a:solidFill>
                <a:latin typeface="Calibri"/>
              </a:rPr>
              <a:t>laga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nje </a:t>
            </a:r>
            <a:r>
              <a:rPr b="0" lang="en-AU" sz="2800" spc="-1" strike="noStrike">
                <a:solidFill>
                  <a:srgbClr val="4472c4"/>
                </a:solidFill>
                <a:latin typeface="Calibri"/>
              </a:rPr>
              <a:t>za bolje uvjete rada i ostanak liječnika u domov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9880" y="333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Usmjeravanje – zadovoljstvo studena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8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2095560" y="2379600"/>
          <a:ext cx="7661160" cy="3032280"/>
        </p:xfrm>
        <a:graphic>
          <a:graphicData uri="http://schemas.openxmlformats.org/drawingml/2006/table">
            <a:tbl>
              <a:tblPr/>
              <a:tblGrid>
                <a:gridCol w="2314440"/>
                <a:gridCol w="2673360"/>
                <a:gridCol w="2673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=178; ocjene 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vovremeno informi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ihologijsko testi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psihomotoričkih sposob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kturirani razgovor s psiholog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9520" y="168084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9520" y="2504880"/>
            <a:ext cx="5157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72200" y="16808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72200" y="2504880"/>
            <a:ext cx="5183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594240" y="2116080"/>
          <a:ext cx="4806720" cy="3530520"/>
        </p:xfrm>
        <a:graphic>
          <a:graphicData uri="http://schemas.openxmlformats.org/drawingml/2006/table">
            <a:tbl>
              <a:tblPr/>
              <a:tblGrid>
                <a:gridCol w="2230200"/>
                <a:gridCol w="257652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=140; ocjene 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kojoj mjeri se rezultati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lapaju sa želj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kojoj mjeri usmjeravanje smatrate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risn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kojoj mjeri namjeravate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iti prema rezultat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16" name="Title 1"/>
          <p:cNvSpPr/>
          <p:nvPr/>
        </p:nvSpPr>
        <p:spPr>
          <a:xfrm>
            <a:off x="839880" y="3333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Usmjeravanje – zadovoljstvo studen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Izazovi i planov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9520" y="2068200"/>
            <a:ext cx="101854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</a:rPr>
              <a:t>(ne)prepoznatljivost od strane poslodava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</a:rPr>
              <a:t>validacija upitnika/anketa </a:t>
            </a:r>
            <a:r>
              <a:rPr b="1" lang="hr-HR" sz="2800" spc="-1" strike="noStrike">
                <a:solidFill>
                  <a:srgbClr val="4472c4"/>
                </a:solidFill>
                <a:latin typeface="Wingdings"/>
                <a:ea typeface="Wingdings"/>
              </a:rPr>
              <a:t></a:t>
            </a:r>
            <a:r>
              <a:rPr b="1" lang="hr-HR" sz="2800" spc="-1" strike="noStrike">
                <a:solidFill>
                  <a:srgbClr val="4472c4"/>
                </a:solidFill>
                <a:latin typeface="Calibri"/>
              </a:rPr>
              <a:t> znanstvena istraž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</a:rPr>
              <a:t>finan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Naš tim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9520" y="168084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9520" y="2504880"/>
            <a:ext cx="5157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172200" y="16808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72200" y="2504880"/>
            <a:ext cx="5183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Slika 7" descr=""/>
          <p:cNvPicPr/>
          <p:nvPr/>
        </p:nvPicPr>
        <p:blipFill>
          <a:blip r:embed="rId1"/>
          <a:stretch/>
        </p:blipFill>
        <p:spPr>
          <a:xfrm>
            <a:off x="3083040" y="1444680"/>
            <a:ext cx="5270400" cy="5133960"/>
          </a:xfrm>
          <a:prstGeom prst="rect">
            <a:avLst/>
          </a:prstGeom>
          <a:ln w="0">
            <a:noFill/>
          </a:ln>
        </p:spPr>
      </p:pic>
      <p:pic>
        <p:nvPicPr>
          <p:cNvPr id="127" name="Rezervirano mjesto sadržaja 8" descr=""/>
          <p:cNvPicPr/>
          <p:nvPr/>
        </p:nvPicPr>
        <p:blipFill>
          <a:blip r:embed="rId2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Logoti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9520" y="168084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520" y="2504880"/>
            <a:ext cx="5157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172200" y="16808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72200" y="2504880"/>
            <a:ext cx="5183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Slika 6" descr=""/>
          <p:cNvPicPr/>
          <p:nvPr/>
        </p:nvPicPr>
        <p:blipFill>
          <a:blip r:embed="rId1"/>
          <a:stretch/>
        </p:blipFill>
        <p:spPr>
          <a:xfrm>
            <a:off x="1820880" y="1525680"/>
            <a:ext cx="8553600" cy="2571480"/>
          </a:xfrm>
          <a:prstGeom prst="rect">
            <a:avLst/>
          </a:prstGeom>
          <a:ln w="0">
            <a:noFill/>
          </a:ln>
        </p:spPr>
      </p:pic>
      <p:pic>
        <p:nvPicPr>
          <p:cNvPr id="134" name="Slika 7" descr=""/>
          <p:cNvPicPr/>
          <p:nvPr/>
        </p:nvPicPr>
        <p:blipFill>
          <a:blip r:embed="rId2"/>
          <a:stretch/>
        </p:blipFill>
        <p:spPr>
          <a:xfrm>
            <a:off x="2643120" y="4253040"/>
            <a:ext cx="67089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Slikovni rezultat za question mark"/>
          <p:cNvPicPr/>
          <p:nvPr/>
        </p:nvPicPr>
        <p:blipFill>
          <a:blip r:embed="rId1"/>
          <a:stretch/>
        </p:blipFill>
        <p:spPr>
          <a:xfrm>
            <a:off x="3395520" y="179280"/>
            <a:ext cx="5295960" cy="5829480"/>
          </a:xfrm>
          <a:prstGeom prst="rect">
            <a:avLst/>
          </a:prstGeom>
          <a:ln w="0">
            <a:noFill/>
          </a:ln>
        </p:spPr>
      </p:pic>
      <p:pic>
        <p:nvPicPr>
          <p:cNvPr id="136" name="Rezervirano mjesto sadržaja 8" descr=""/>
          <p:cNvPicPr/>
          <p:nvPr/>
        </p:nvPicPr>
        <p:blipFill>
          <a:blip r:embed="rId2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sp>
        <p:nvSpPr>
          <p:cNvPr id="137" name="TekstniOkvir 4"/>
          <p:cNvSpPr/>
          <p:nvPr/>
        </p:nvSpPr>
        <p:spPr>
          <a:xfrm>
            <a:off x="2714760" y="5670720"/>
            <a:ext cx="6656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cpz.mef.unizg.hr/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Programi djelovanj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sp>
        <p:nvSpPr>
          <p:cNvPr id="49" name="TekstniOkvir 9"/>
          <p:cNvSpPr/>
          <p:nvPr/>
        </p:nvSpPr>
        <p:spPr>
          <a:xfrm>
            <a:off x="1109520" y="2379600"/>
            <a:ext cx="99727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800"/>
              </a:spcBef>
              <a:buClr>
                <a:srgbClr val="4472c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472c4"/>
                </a:solidFill>
                <a:latin typeface="Calibri"/>
                <a:ea typeface="Verdana"/>
              </a:rPr>
              <a:t>Problematika </a:t>
            </a:r>
            <a:r>
              <a:rPr b="1" lang="hr-HR" sz="2600" spc="-1" strike="noStrike">
                <a:solidFill>
                  <a:srgbClr val="4472c4"/>
                </a:solidFill>
                <a:latin typeface="Calibri"/>
                <a:ea typeface="Verdana"/>
              </a:rPr>
              <a:t>planiranja kadrova 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  <a:ea typeface="Verdana"/>
              </a:rPr>
              <a:t>u biomedicini i zdravstv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buClr>
                <a:srgbClr val="4472c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472c4"/>
                </a:solidFill>
                <a:latin typeface="Calibri"/>
                <a:ea typeface="Verdana"/>
              </a:rPr>
              <a:t>Profesionalna orijentacija 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  <a:ea typeface="Verdana"/>
              </a:rPr>
              <a:t>na razini izbora specijalizacije te organiziranje edukacijskih tečajeva i stručnih skupova posvećenih planiranju zanim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buClr>
                <a:srgbClr val="4472c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472c4"/>
                </a:solidFill>
                <a:latin typeface="Calibri"/>
                <a:ea typeface="Verdana"/>
              </a:rPr>
              <a:t>Istraživanje faktora 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  <a:ea typeface="Verdana"/>
              </a:rPr>
              <a:t>koji utječu na izbor zanim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buClr>
                <a:srgbClr val="4472c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472c4"/>
                </a:solidFill>
                <a:latin typeface="Calibri"/>
                <a:ea typeface="Verdana"/>
              </a:rPr>
              <a:t>Pravni aspekti</a:t>
            </a:r>
            <a:r>
              <a:rPr b="0" lang="hr-HR" sz="2600" spc="-1" strike="noStrike">
                <a:solidFill>
                  <a:srgbClr val="4472c4"/>
                </a:solidFill>
                <a:latin typeface="Calibri"/>
                <a:ea typeface="Verdana"/>
              </a:rPr>
              <a:t> planiranja zanimanj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Programi djelovanj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sp>
        <p:nvSpPr>
          <p:cNvPr id="52" name="TekstniOkvir 9"/>
          <p:cNvSpPr/>
          <p:nvPr/>
        </p:nvSpPr>
        <p:spPr>
          <a:xfrm>
            <a:off x="1109520" y="2455920"/>
            <a:ext cx="997272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4472c4"/>
                </a:solidFill>
                <a:latin typeface="Calibri"/>
                <a:ea typeface="Verdana"/>
              </a:rPr>
              <a:t>ANKETIRANJ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4472c4"/>
                </a:solidFill>
                <a:latin typeface="Calibri"/>
                <a:ea typeface="Verdana"/>
              </a:rPr>
              <a:t>INFORMIRANJ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4472c4"/>
                </a:solidFill>
                <a:latin typeface="Calibri"/>
                <a:ea typeface="Verdana"/>
              </a:rPr>
              <a:t>USMJERAVANJ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Medicina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560"/>
            <a:ext cx="108252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regulirana profes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javni sek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deficita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obvezan pripravnički staž (5 – 12 mjeseci) i specijalističko usavršavanje (4 – 6 god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liječnici – koliko specijalizaci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Anketiranj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560"/>
            <a:ext cx="108252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1. go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4. go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6. go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plan </a:t>
            </a:r>
            <a:r>
              <a:rPr b="0" lang="hr-HR" sz="3200" spc="-1" strike="noStrike">
                <a:solidFill>
                  <a:srgbClr val="4472c4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4472c4"/>
                </a:solidFill>
                <a:latin typeface="Calibri"/>
              </a:rPr>
              <a:t> svakih 6 godina (pri relicenciranj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Anketiranj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560"/>
            <a:ext cx="108252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</a:rPr>
              <a:t>Stud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</a:rPr>
              <a:t>Emigr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</a:rPr>
              <a:t>Interes za zna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</a:rPr>
              <a:t>Pripravnički sta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</a:rPr>
              <a:t>Specijalističko usavrša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</a:rPr>
              <a:t>Povjerenje u sust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472c4"/>
                </a:solidFill>
                <a:latin typeface="Calibri"/>
              </a:rPr>
              <a:t>Demografski pod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Anketiranje - rezulta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560"/>
            <a:ext cx="108252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</a:rPr>
              <a:t>77% 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studenata bi opet upisalo studij medicine </a:t>
            </a:r>
            <a:r>
              <a:rPr b="0" i="1" lang="hr-HR" sz="2000" spc="-1" strike="noStrike">
                <a:solidFill>
                  <a:srgbClr val="4472c4"/>
                </a:solidFill>
                <a:latin typeface="Calibri"/>
              </a:rPr>
              <a:t>(8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</a:rPr>
              <a:t>62% 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studenata je ženskog spola</a:t>
            </a:r>
            <a:r>
              <a:rPr b="0" lang="hr-HR" sz="2000" spc="-1" strike="noStrike">
                <a:solidFill>
                  <a:srgbClr val="4472c4"/>
                </a:solidFill>
                <a:latin typeface="Calibri"/>
              </a:rPr>
              <a:t> (67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</a:rPr>
              <a:t>37,8% 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studenata ima liječnika u bližoj obitelji </a:t>
            </a:r>
            <a:r>
              <a:rPr b="0" lang="hr-HR" sz="2000" spc="-1" strike="noStrike">
                <a:solidFill>
                  <a:srgbClr val="4472c4"/>
                </a:solidFill>
                <a:latin typeface="Calibri"/>
              </a:rPr>
              <a:t>(3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472c4"/>
                </a:solidFill>
                <a:latin typeface="Calibri"/>
              </a:rPr>
              <a:t>53% </a:t>
            </a:r>
            <a:r>
              <a:rPr b="0" lang="hr-HR" sz="2800" spc="-1" strike="noStrike">
                <a:solidFill>
                  <a:srgbClr val="4472c4"/>
                </a:solidFill>
                <a:latin typeface="Calibri"/>
              </a:rPr>
              <a:t>studenata je tokom studija primalo stipendiju </a:t>
            </a:r>
            <a:r>
              <a:rPr b="0" lang="hr-HR" sz="2000" spc="-1" strike="noStrike">
                <a:solidFill>
                  <a:srgbClr val="4472c4"/>
                </a:solidFill>
                <a:latin typeface="Calibri"/>
              </a:rPr>
              <a:t>(5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zervirano mjesto sadržaja 8" descr=""/>
          <p:cNvPicPr/>
          <p:nvPr/>
        </p:nvPicPr>
        <p:blipFill>
          <a:blip r:embed="rId1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6" descr=""/>
          <p:cNvPicPr/>
          <p:nvPr/>
        </p:nvPicPr>
        <p:blipFill>
          <a:blip r:embed="rId1"/>
          <a:stretch/>
        </p:blipFill>
        <p:spPr>
          <a:xfrm>
            <a:off x="2243160" y="1359000"/>
            <a:ext cx="7682040" cy="5164200"/>
          </a:xfrm>
          <a:prstGeom prst="rect">
            <a:avLst/>
          </a:prstGeom>
          <a:ln w="0">
            <a:noFill/>
          </a:ln>
        </p:spPr>
      </p:pic>
      <p:pic>
        <p:nvPicPr>
          <p:cNvPr id="66" name="Rezervirano mjesto sadržaja 8" descr=""/>
          <p:cNvPicPr/>
          <p:nvPr/>
        </p:nvPicPr>
        <p:blipFill>
          <a:blip r:embed="rId2"/>
          <a:stretch/>
        </p:blipFill>
        <p:spPr>
          <a:xfrm>
            <a:off x="9756720" y="179280"/>
            <a:ext cx="2166840" cy="2014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472c4"/>
                </a:solidFill>
                <a:latin typeface="Calibri Light"/>
              </a:rPr>
              <a:t>Anketiranje - rezulta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4T15:31:58Z</dcterms:created>
  <dc:creator>masic00ana@gmail.com</dc:creator>
  <dc:description/>
  <dc:language>en-US</dc:language>
  <cp:lastModifiedBy>Danko Relić</cp:lastModifiedBy>
  <dcterms:modified xsi:type="dcterms:W3CDTF">2017-09-21T11:40:14Z</dcterms:modified>
  <cp:revision>55</cp:revision>
  <dc:subject/>
  <dc:title>Centar za planiranje zanimanja u biomedicini i zdravstvu (CPZ) Medicinskog fakulteta Sveučilišta u Zagrebu</dc:title>
</cp:coreProperties>
</file>