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F12-BDAC-40D6-98C9-189A93EE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62D-CA94-4CFD-B0BB-D9AD036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CFC-24DF-40E0-8D81-2118988F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8CA-95F1-47F6-96B9-4162ACA6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CA99-5DEA-4DC3-9F3F-E6C0698B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0C54-440C-4015-9C6A-892B1D6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E9B1-34BA-4856-9939-116AD7D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38F-0DE6-4A19-AE35-E0B4474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04C-1CC2-4AB1-8404-F74F7EB6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13E8-92AB-498C-93B5-C8F3DA7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CC4-A99A-4D81-AF57-694B4AF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4C0-DA34-46A3-9260-41EB068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9CD-55FA-4D4E-ADF4-0E496DD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3EF9-8E69-4B90-8B5C-C346A54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CC2F-9C5E-45E3-89B3-A2CFD58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D482-D582-4D7A-B699-9E8525A9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1C63-10CD-4600-8D3D-A1FCA74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E8D-5D6B-4395-B0E4-6DBE9979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A57-4C7F-4052-98F4-C1EC6615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C2D-0B30-461D-9C6B-C53AEA7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F47-631E-4EC4-835C-1ECB2E2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5F9-FEDF-4B4B-8577-56FE0B3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6C7-B4E2-40CA-9FE7-1115314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B73-DE89-420B-8D04-C2D73210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D8E-B3C6-458D-8875-32D669F4F99C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788-D1E3-4B38-8752-3909F787054D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689040" y="1054080"/>
            <a:ext cx="7778520" cy="4103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63640" y="551664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70c0"/>
                </a:solidFill>
                <a:latin typeface="Corbel"/>
              </a:rPr>
              <a:t>Agencija za znanost i visoko obrazovanj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70c0"/>
                </a:solidFill>
                <a:latin typeface="Corbel"/>
              </a:rPr>
              <a:t>Seminar Savez europskih sveučilišta i združeni studiji, Zagreb, 30. listopada </a:t>
            </a:r>
            <a:r>
              <a:rPr b="0" i="1" lang="it-IT" sz="1600" spc="-1" strike="noStrike">
                <a:solidFill>
                  <a:srgbClr val="0070c0"/>
                </a:solidFill>
                <a:latin typeface="Corbel"/>
              </a:rPr>
              <a:t>2019</a:t>
            </a:r>
            <a:r>
              <a:rPr b="0" i="1" lang="hr-HR" sz="1600" spc="-1" strike="noStrike">
                <a:solidFill>
                  <a:srgbClr val="0070c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3924360" y="4156200"/>
            <a:ext cx="1008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0070c0"/>
                </a:solidFill>
                <a:latin typeface="Corbel"/>
              </a:rPr>
              <a:t>Hvala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59aaf2"/>
                </a:solidFill>
                <a:latin typeface="Constantia"/>
                <a:ea typeface="SimSun"/>
              </a:rPr>
              <a:t>www.unizd.hr/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59aaf2"/>
                </a:solidFill>
                <a:latin typeface="Constantia"/>
                <a:ea typeface="SimSun"/>
              </a:rPr>
              <a:t>info@unizd.h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59aaf2"/>
                </a:solidFill>
                <a:latin typeface="Constantia"/>
                <a:ea typeface="SimSun"/>
              </a:rPr>
              <a:t>	</a:t>
            </a:r>
            <a:r>
              <a:rPr b="1" lang="hr-HR" sz="2600" spc="-1" strike="noStrike">
                <a:solidFill>
                  <a:srgbClr val="59aaf2"/>
                </a:solidFill>
                <a:latin typeface="Constantia"/>
                <a:ea typeface="SimSun"/>
              </a:rPr>
              <a:t>https://www.facebook.com/unizd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915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Corbel"/>
              </a:rPr>
              <a:t>Združeni studij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Međunarodni združeni diplomski studij kulturne sociologi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Međunarodni združeni doktorski studij sociologije regionalnog i lokalnog razvo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48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1. </a:t>
            </a: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Međunarodni združeni diplomski studij kulturne sociologi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Partnerska sveučiliš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Karl-Franzens-Universität Graz, Austrij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Masarykova Univerzita Brno, Češka Republi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Università diTrento, Itali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Sveučilište u Zadru, Hrvats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nstantia"/>
              </a:rPr>
              <a:t>https://www.jointdegree.eu/en/cs/programme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2133360"/>
            <a:ext cx="8435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Partnerska sveučiliš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Sveučilište u Zad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Università di Teramo, Itali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Prvi međunarodni združeni doktorski studijski program u Jadransko-jonskoj regiji na temu regionalnog i lokalnog razvoja (0d akad. god. 2010./2011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08000" y="1197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2. Međunarodni združeni doktorski studij sociologije regionalnog i lokalnog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Corbel"/>
              </a:rPr>
              <a:t>Komentari studenata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557360"/>
            <a:ext cx="7848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rbel"/>
              </a:rPr>
              <a:t>a) Prednost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studiranje u različitim gradovima i studiranje sa studentima iz cijeloga svije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obveza jednog semestra u mobil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akademski profil i budući profesionalni razvoj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bogata ponuda izbornih kolegi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priznavanje mobil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100720" y="1557000"/>
            <a:ext cx="8636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1125360"/>
            <a:ext cx="82184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nstantia"/>
              </a:rPr>
              <a:t>b</a:t>
            </a: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) Nedostaci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mali broj studen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financiranje obveznog semestra na drugom sveučilišt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nedostatak kolegija na engleskom jeziku na pojedinim sveučilišt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Corbel"/>
              </a:rPr>
              <a:t>izborni kolegiji vezani uz posebne t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84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520200"/>
            <a:ext cx="864216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Corbel"/>
              </a:rPr>
              <a:t>Izazovi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rbel"/>
              </a:rPr>
              <a:t>Akreditacija studi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rbel"/>
              </a:rPr>
              <a:t>Različiti zakonski okvi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trajanje studi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sustav studiranja (</a:t>
            </a:r>
            <a:r>
              <a:rPr b="1" i="1" lang="hr-HR" sz="2400" spc="-1" strike="noStrike">
                <a:solidFill>
                  <a:srgbClr val="0070c0"/>
                </a:solidFill>
                <a:latin typeface="Corbel"/>
              </a:rPr>
              <a:t>majors / minors</a:t>
            </a: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izdavanje zajedničke dipl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67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- </a:t>
            </a:r>
            <a:r>
              <a:rPr b="1" lang="hr-HR" sz="2400" spc="-1" strike="noStrike">
                <a:solidFill>
                  <a:srgbClr val="0070c0"/>
                </a:solidFill>
                <a:latin typeface="Corbel"/>
              </a:rPr>
              <a:t>novi izazov</a:t>
            </a:r>
            <a:r>
              <a:rPr b="1" lang="hr-HR" sz="2100" spc="-1" strike="noStrike">
                <a:solidFill>
                  <a:srgbClr val="0070c0"/>
                </a:solidFill>
                <a:latin typeface="Corbel"/>
              </a:rPr>
              <a:t>: višestruka diploma / europska diploma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4617b"/>
                </a:solidFill>
                <a:latin typeface="Calibri"/>
              </a:rPr>
              <a:t>Privlačenje stranih studenata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62864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nstantia"/>
              </a:rPr>
              <a:t>unaprjeđenje programa mobil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nstantia"/>
              </a:rPr>
              <a:t>reorganizacija postojećih i osnivanje novih združenih studi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nstantia"/>
              </a:rPr>
              <a:t>studijski programi na engleskom jezi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70c0"/>
                </a:solidFill>
                <a:latin typeface="Constantia"/>
              </a:rPr>
              <a:t>EU - CONEX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02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70c0"/>
                </a:solidFill>
                <a:latin typeface="Corbel"/>
              </a:rPr>
              <a:t>Mobilnost na Sveučilištu u Zadru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27160" y="1125360"/>
            <a:ext cx="819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3:16:12Z</dcterms:created>
  <dc:creator>Neda</dc:creator>
  <dc:description/>
  <dc:language>en-US</dc:language>
  <cp:lastModifiedBy>nbalic@unizd.hr</cp:lastModifiedBy>
  <dcterms:modified xsi:type="dcterms:W3CDTF">2019-10-29T11:11:22Z</dcterms:modified>
  <cp:revision>56</cp:revision>
  <dc:subject/>
  <dc:title>GLI SCRITTORI ITALIANI A ZARA NEGLI ANNI PRECEDENTI LA PRIMA GUERRA MONDIALE (1900-1915)</dc:title>
</cp:coreProperties>
</file>