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2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48F-F79F-4FAF-801C-3E5E3EFE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0E9-8BBF-4195-9A48-3F49CC5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48C-9AD3-4A10-9924-722E07FB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8EE-E2EC-4E09-BE0A-BA1233E5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E7A-0E5B-4B30-8F3F-0C0743D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DCD-F077-4277-884F-314D8D27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2FB24-4A7A-4FC2-B2C3-6E55C3D63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000A-D0EC-4958-A040-53FB4E03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AF9F5-4D3A-4F09-BF2B-8F36B18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B3E-78E8-47F2-95D5-4B50301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8A740-112F-40D8-93AC-091B7EA4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E6E8E-9A73-4C72-A256-C87389AC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3D5AD-6897-41E6-9700-B3317F1C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1CB6C-827E-4437-AD69-6AC8B98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D6FF4-6EB6-45BD-92AD-9D555B2A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BC745-7A3D-4959-9C19-2A0892A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4EE88-956D-4EF4-A7AB-8EA3A8F3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C23D-C127-4072-947C-B8E33F9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66D43-8AE0-4460-9E39-076C5CECD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B33-6197-48EE-A164-19A36C0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D7F-6E53-4ED4-9966-29DDD355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241-B5EA-46A7-845E-7E99F43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71F-47B2-43D5-B13B-BAE94CE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CC2-5D1A-4390-ADA6-F4A456F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r-H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D5C6E-4A38-420D-BB63-4085805EBC1B}" type="slidenum">
              <a:rPr b="0" lang="hr-H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ktangel 2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gradFill rotWithShape="0">
            <a:gsLst>
              <a:gs pos="0">
                <a:srgbClr val="e21d24"/>
              </a:gs>
              <a:gs pos="100000">
                <a:srgbClr val="b814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 Ligh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7"/>
          <p:cNvSpPr/>
          <p:nvPr/>
        </p:nvSpPr>
        <p:spPr>
          <a:xfrm>
            <a:off x="0" y="6238800"/>
            <a:ext cx="9144000" cy="0"/>
          </a:xfrm>
          <a:prstGeom prst="line">
            <a:avLst/>
          </a:prstGeom>
          <a:ln w="12600">
            <a:solidFill>
              <a:srgbClr val="b814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8016840" y="109440"/>
            <a:ext cx="1004760" cy="1006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239760" y="6332400"/>
            <a:ext cx="2997000" cy="45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6953400" y="6473880"/>
            <a:ext cx="790560" cy="2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4070520" y="6221520"/>
            <a:ext cx="1701720" cy="58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7777080" y="6473880"/>
            <a:ext cx="1317600" cy="20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7"/>
          <a:stretch/>
        </p:blipFill>
        <p:spPr>
          <a:xfrm>
            <a:off x="6267600" y="6383160"/>
            <a:ext cx="583920" cy="322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6"/>
          <p:cNvSpPr/>
          <p:nvPr/>
        </p:nvSpPr>
        <p:spPr>
          <a:xfrm>
            <a:off x="3639960" y="6626160"/>
            <a:ext cx="2586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600" spc="-1" strike="noStrike">
                <a:solidFill>
                  <a:srgbClr val="7f7f7f"/>
                </a:solidFill>
                <a:latin typeface="Cambria"/>
                <a:ea typeface="MS Mincho"/>
              </a:rPr>
              <a:t>  </a:t>
            </a:r>
            <a:r>
              <a:rPr b="0" lang="hr-HR" sz="600" spc="-1" strike="noStrike">
                <a:solidFill>
                  <a:srgbClr val="7f7f7f"/>
                </a:solidFill>
                <a:latin typeface="Calibri"/>
                <a:ea typeface="MS Mincho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700" spc="-1" strike="noStrike">
                <a:solidFill>
                  <a:srgbClr val="7f7f7f"/>
                </a:solidFill>
                <a:latin typeface="Calibri"/>
                <a:ea typeface="MS Mincho"/>
              </a:rPr>
              <a:t>Projekt je sufinancirala Europska unija iz Europskog socijalnog fo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Gruppe 13" descr=""/>
          <p:cNvPicPr/>
          <p:nvPr/>
        </p:nvPicPr>
        <p:blipFill>
          <a:blip r:embed="rId2"/>
          <a:stretch/>
        </p:blipFill>
        <p:spPr>
          <a:xfrm>
            <a:off x="-23760" y="-23760"/>
            <a:ext cx="9246960" cy="2071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Your footno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Your Lo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azvo.hr/hr/preglednik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azvo.hr/hr/azvo-vijesti/1585-otvorena-javna-rasprava-o-standardima-i-postupku-reakreditacije-visokih-ucilista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akreditacija-visoko@azvo.hr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Users\ttomljen\Desktop\Stablo1.png"/>
          <p:cNvPicPr/>
          <p:nvPr/>
        </p:nvPicPr>
        <p:blipFill>
          <a:blip r:embed="rId1"/>
          <a:stretch/>
        </p:blipFill>
        <p:spPr>
          <a:xfrm>
            <a:off x="5999040" y="436680"/>
            <a:ext cx="3144960" cy="5678280"/>
          </a:xfrm>
          <a:prstGeom prst="rect">
            <a:avLst/>
          </a:prstGeom>
          <a:ln w="0">
            <a:noFill/>
          </a:ln>
        </p:spPr>
      </p:pic>
      <p:sp>
        <p:nvSpPr>
          <p:cNvPr id="168" name="Rektangel 11"/>
          <p:cNvSpPr/>
          <p:nvPr/>
        </p:nvSpPr>
        <p:spPr>
          <a:xfrm>
            <a:off x="-14400" y="6114960"/>
            <a:ext cx="9180720" cy="743040"/>
          </a:xfrm>
          <a:prstGeom prst="rect">
            <a:avLst/>
          </a:prstGeom>
          <a:gradFill rotWithShape="0">
            <a:gsLst>
              <a:gs pos="0">
                <a:srgbClr val="e21d24"/>
              </a:gs>
              <a:gs pos="100000">
                <a:srgbClr val="b8141d"/>
              </a:gs>
            </a:gsLst>
            <a:lin ang="27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 Ligh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12680" y="3538440"/>
            <a:ext cx="4991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tupak reakreditacije visokih učilišta i Sustav ocjenjivanja i vrednovanja kvalitete visokog učilišta u postupku reakreditacije visokih učiliš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12680" y="2938320"/>
            <a:ext cx="6215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eakreditacija visokih učil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C:\Users\ttomljen\Desktop\logo_bijeli.png"/>
          <p:cNvPicPr/>
          <p:nvPr/>
        </p:nvPicPr>
        <p:blipFill>
          <a:blip r:embed="rId2"/>
          <a:stretch/>
        </p:blipFill>
        <p:spPr>
          <a:xfrm>
            <a:off x="324000" y="6259680"/>
            <a:ext cx="2987640" cy="453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ttomljen\Desktop\ENQA_logo_bijeli.png"/>
          <p:cNvPicPr/>
          <p:nvPr/>
        </p:nvPicPr>
        <p:blipFill>
          <a:blip r:embed="rId3"/>
          <a:stretch/>
        </p:blipFill>
        <p:spPr>
          <a:xfrm>
            <a:off x="6327720" y="6300720"/>
            <a:ext cx="682560" cy="389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ttomljen\Desktop\eqar_logo_bijeli.png"/>
          <p:cNvPicPr/>
          <p:nvPr/>
        </p:nvPicPr>
        <p:blipFill>
          <a:blip r:embed="rId4"/>
          <a:stretch/>
        </p:blipFill>
        <p:spPr>
          <a:xfrm>
            <a:off x="7027920" y="6380280"/>
            <a:ext cx="850680" cy="27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5"/>
          <a:stretch/>
        </p:blipFill>
        <p:spPr>
          <a:xfrm>
            <a:off x="7896240" y="6391440"/>
            <a:ext cx="1287360" cy="237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6"/>
          <p:cNvSpPr/>
          <p:nvPr/>
        </p:nvSpPr>
        <p:spPr>
          <a:xfrm>
            <a:off x="3665520" y="6600960"/>
            <a:ext cx="2585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600" spc="-1" strike="noStrike">
                <a:solidFill>
                  <a:srgbClr val="000000"/>
                </a:solidFill>
                <a:latin typeface="Cambria"/>
                <a:ea typeface="MS Mincho"/>
              </a:rPr>
              <a:t>  </a:t>
            </a:r>
            <a:r>
              <a:rPr b="0" lang="hr-HR" sz="600" spc="-1" strike="noStrike">
                <a:solidFill>
                  <a:srgbClr val="333333"/>
                </a:solidFill>
                <a:latin typeface="Calibri"/>
                <a:ea typeface="MS Mincho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700" spc="-1" strike="noStrike">
                <a:solidFill>
                  <a:srgbClr val="ffffff"/>
                </a:solidFill>
                <a:latin typeface="Calibri"/>
                <a:ea typeface="MS Mincho"/>
              </a:rPr>
              <a:t>Projekt je sufinancirala Europska unija iz Europskog socijalnog fo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6"/>
          <a:stretch/>
        </p:blipFill>
        <p:spPr>
          <a:xfrm>
            <a:off x="3871800" y="6067440"/>
            <a:ext cx="2171880" cy="743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0" y="5062680"/>
            <a:ext cx="6645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200" spc="-1" strike="noStrike">
                <a:solidFill>
                  <a:srgbClr val="ff0000"/>
                </a:solidFill>
                <a:latin typeface="Arial"/>
              </a:rPr>
              <a:t>Sadržaj ove prezentacije isključiva je odgovornost Agencije za znanost i visoko obrazovanj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Naknadno praćenje (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Follow-up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) u slučaju pisma očekivanj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kcijski plan i preporuke za poboljšan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7620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kon Akreditacijske preporuke Agencij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219240" y="3652920"/>
            <a:ext cx="3003480" cy="1577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3395520" y="3822840"/>
            <a:ext cx="52768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458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Javnost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8" name="Content Placeholder 5" descr=""/>
          <p:cNvPicPr/>
          <p:nvPr/>
        </p:nvPicPr>
        <p:blipFill>
          <a:blip r:embed="rId1"/>
          <a:stretch/>
        </p:blipFill>
        <p:spPr>
          <a:xfrm>
            <a:off x="1317600" y="1181160"/>
            <a:ext cx="65818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1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www.azvo.hr/hr/preglednik</a:t>
            </a:r>
            <a:r>
              <a:rPr b="0" lang="hr-HR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9520" y="328320"/>
            <a:ext cx="71582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glednik studijskih programa visokih učilišta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1716120" y="1047600"/>
            <a:ext cx="542448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JAVNA RASPRAVA DO 28.2.2017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www.azvo.hr/hr/azvo-vijesti/1585-otvorena-javna-rasprava-o-standardima-i-postupku-reakreditacije-visokih-ucilis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458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Javna rasprava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3592440" y="3251160"/>
            <a:ext cx="492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PRIJAVITE SE: 7 pilota na jesen, 2017. god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akreditacija-visoko@azvo.h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458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7 PILOTA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2"/>
          <a:stretch/>
        </p:blipFill>
        <p:spPr>
          <a:xfrm>
            <a:off x="3944880" y="4008600"/>
            <a:ext cx="48513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tent Placeholder 3" descr=""/>
          <p:cNvPicPr/>
          <p:nvPr/>
        </p:nvPicPr>
        <p:blipFill>
          <a:blip r:embed="rId1"/>
          <a:stretch/>
        </p:blipFill>
        <p:spPr>
          <a:xfrm>
            <a:off x="1171440" y="1181160"/>
            <a:ext cx="6873840" cy="4897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458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vala na pažnji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Zakon o osiguranju kvalitete u znanosti i visokom obrazovanju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Pravilnik o sadržaju dopusnice te uvjetima za izdavanje dopusnice za obavljanje djelatnosti visokog obrazovanja, izvođenje studijskog programa i reakreditaciju visokih učiliš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Pravilnik o uvjetima za izdavanje dopusnice za obavljanje znanstvene djelatnosti, uvjetima za reakreditaciju znanstvenih organizacija i sadržaju dopusn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72c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4472c4"/>
                </a:solidFill>
                <a:latin typeface="Arial"/>
              </a:rPr>
              <a:t>Standardi za vrednovanje kvalitete sveučilišta ili fakulteta i umjetničkih akademija u sastavu sveučilišta u postupku reakreditacije </a:t>
            </a:r>
            <a:r>
              <a:rPr b="1" lang="hr-HR" sz="2100" spc="-1" strike="noStrike">
                <a:solidFill>
                  <a:srgbClr val="4472c4"/>
                </a:solidFill>
                <a:latin typeface="Arial"/>
              </a:rPr>
              <a:t>ILI</a:t>
            </a:r>
            <a:r>
              <a:rPr b="0" lang="hr-HR" sz="2100" spc="-1" strike="noStrike">
                <a:solidFill>
                  <a:srgbClr val="4472c4"/>
                </a:solidFill>
                <a:latin typeface="Arial"/>
              </a:rPr>
              <a:t> Standardi za vrednovanje kvalitete veleučilišta i visokih škol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Europski standardi i smjernice za osiguravanje kvalitete u visokom obrazovanju (ESG, 2015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458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Dokumenti za provođenje postupka reakreditacije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6491160" y="4799160"/>
            <a:ext cx="166860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"/>
          <p:cNvGrpSpPr/>
          <p:nvPr/>
        </p:nvGrpSpPr>
        <p:grpSpPr>
          <a:xfrm>
            <a:off x="277920" y="1527120"/>
            <a:ext cx="8189640" cy="4410000"/>
            <a:chOff x="277920" y="1527120"/>
            <a:chExt cx="8189640" cy="4410000"/>
          </a:xfrm>
        </p:grpSpPr>
        <p:sp>
          <p:nvSpPr>
            <p:cNvPr id="182" name="Freeform 2"/>
            <p:cNvSpPr/>
            <p:nvPr/>
          </p:nvSpPr>
          <p:spPr>
            <a:xfrm rot="16200000">
              <a:off x="-1436040" y="3800880"/>
              <a:ext cx="3853440" cy="418680"/>
            </a:xfrm>
            <a:custGeom>
              <a:avLst/>
              <a:gdLst/>
              <a:ahLst/>
              <a:rect l="l" t="t" r="r" b="b"/>
              <a:pathLst>
                <a:path w="3857149" h="419497">
                  <a:moveTo>
                    <a:pt x="0" y="0"/>
                  </a:moveTo>
                  <a:lnTo>
                    <a:pt x="3857149" y="0"/>
                  </a:lnTo>
                  <a:lnTo>
                    <a:pt x="3857149" y="419497"/>
                  </a:lnTo>
                  <a:lnTo>
                    <a:pt x="0" y="41949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3697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722520" y="2091600"/>
              <a:ext cx="2216520" cy="27572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370080" bIns="128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tručnjak iz područja visokog obrazovanja i znanos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Rectangle 6"/>
            <p:cNvGrpSpPr/>
            <p:nvPr/>
          </p:nvGrpSpPr>
          <p:grpSpPr>
            <a:xfrm>
              <a:off x="277920" y="1527120"/>
              <a:ext cx="846720" cy="846720"/>
              <a:chOff x="277920" y="1527120"/>
              <a:chExt cx="846720" cy="846720"/>
            </a:xfrm>
          </p:grpSpPr>
          <p:pic>
            <p:nvPicPr>
              <p:cNvPr id="185" name="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77920" y="1527120"/>
                <a:ext cx="846720" cy="84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281160" y="1530000"/>
                <a:ext cx="83844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Freeform 7"/>
            <p:cNvSpPr/>
            <p:nvPr/>
          </p:nvSpPr>
          <p:spPr>
            <a:xfrm rot="16200000">
              <a:off x="1675080" y="3800160"/>
              <a:ext cx="3853440" cy="420480"/>
            </a:xfrm>
            <a:custGeom>
              <a:avLst/>
              <a:gdLst/>
              <a:ahLst/>
              <a:rect l="l" t="t" r="r" b="b"/>
              <a:pathLst>
                <a:path w="3857149" h="419497">
                  <a:moveTo>
                    <a:pt x="0" y="0"/>
                  </a:moveTo>
                  <a:lnTo>
                    <a:pt x="3857149" y="0"/>
                  </a:lnTo>
                  <a:lnTo>
                    <a:pt x="3857149" y="419497"/>
                  </a:lnTo>
                  <a:lnTo>
                    <a:pt x="0" y="41949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369720" tIns="420480" bIns="-429454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3493080" y="2091600"/>
              <a:ext cx="2088000" cy="277596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1880" rIns="191880" tIns="37008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hr-HR" sz="21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tručnjak iz gospodarstv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Rectangle 9"/>
            <p:cNvGrpSpPr/>
            <p:nvPr/>
          </p:nvGrpSpPr>
          <p:grpSpPr>
            <a:xfrm>
              <a:off x="3385440" y="1527120"/>
              <a:ext cx="852840" cy="846720"/>
              <a:chOff x="3385440" y="1527120"/>
              <a:chExt cx="852840" cy="846720"/>
            </a:xfrm>
          </p:grpSpPr>
          <p:pic>
            <p:nvPicPr>
              <p:cNvPr id="19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385440" y="1527120"/>
                <a:ext cx="852840" cy="84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3391920" y="1530000"/>
                <a:ext cx="83844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Freeform 10"/>
            <p:cNvSpPr/>
            <p:nvPr/>
          </p:nvSpPr>
          <p:spPr>
            <a:xfrm rot="16200000">
              <a:off x="4721760" y="3800160"/>
              <a:ext cx="3853440" cy="420480"/>
            </a:xfrm>
            <a:custGeom>
              <a:avLst/>
              <a:gdLst/>
              <a:ahLst/>
              <a:rect l="l" t="t" r="r" b="b"/>
              <a:pathLst>
                <a:path w="3857149" h="419497">
                  <a:moveTo>
                    <a:pt x="0" y="0"/>
                  </a:moveTo>
                  <a:lnTo>
                    <a:pt x="3857149" y="0"/>
                  </a:lnTo>
                  <a:lnTo>
                    <a:pt x="3857149" y="419497"/>
                  </a:lnTo>
                  <a:lnTo>
                    <a:pt x="0" y="41949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369720" tIns="-4294546560" bIns="420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6379560" y="2125080"/>
              <a:ext cx="2088000" cy="274428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1880" rIns="191880" tIns="37008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hr-HR" sz="21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tude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6385680" y="1530000"/>
              <a:ext cx="839160" cy="837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458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tručno povjerenstvo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09640" y="5076720"/>
            <a:ext cx="7707240" cy="862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Izjava o povjerljivosti i nepostojanju sukoba int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Radionica za pisanje samoanaliz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Forum o kvalitet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Rok 90 dana – na hrvatskom i engleskom jezik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Analitički prilog iz Mozvag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458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moanaliza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6246720" y="1447920"/>
            <a:ext cx="2836800" cy="2324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344760" y="3247920"/>
            <a:ext cx="31258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72c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4472c4"/>
                </a:solidFill>
                <a:latin typeface="Arial"/>
              </a:rPr>
              <a:t>Način donošenja ocjene prema Standardima za vrednovanje kvalite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72c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4472c4"/>
                </a:solidFill>
                <a:latin typeface="Arial"/>
              </a:rPr>
              <a:t>Mišljenje AS savjeta i način donošenja mišljenja 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72c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4472c4"/>
                </a:solidFill>
                <a:latin typeface="Arial"/>
              </a:rPr>
              <a:t>Prigovor visokog učilišta na mišljenje AS i Povjerenstvo za prigov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9520" y="328320"/>
            <a:ext cx="5929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Glavne promjene u odnosu na „stari” dokument Postupak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862520" y="3652920"/>
            <a:ext cx="28670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Arial"/>
              </a:rPr>
              <a:t>Tem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nterno osiguranje kvalitete i društvena uloga visokog učilišta (ESG – 1.1; 1.7; 1.8) – 5 standard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tudijski programi (ESG – 1.2; 1.9) – 7 standard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Nastavni proces i podrška studentima (ESG 1.3; 1.4; 1.6) – 10 standard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Nastavnički i institucijski kapaciteti (ESG – 1.5; 1.6) – 7 standard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Znanstvena/umjetnička djelatnost – 5 standard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9 KLJUČNIH STANDARAD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Ocjena standarda/teme: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nezadovoljavajuća razina kvalitete, minimalna razina kvalitete, zadovoljavajuća razina kvalitete i visoka razina kvalite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6800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Način donošenja ocjene prema Standardima za vrednovanje kvalitete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ko je najmanje jedna tema ocijenjena ocjenom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nezadovoljavajuća razina kvalitet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ishod postupka reakreditacije može biti izdavanje pisma očekivanja ili uskrata dopusn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ko je najmanje jedna tema ocijenjena ocjenom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minimalna razina kvalitet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ishod postupka može biti izdavanje pisma očekivanj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ko su sve teme ocijenjene ocjenama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zadovoljavajuća razina kvalitet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visoka razina kvalitete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, ishod postupka je izdavanje potvr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7575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išljenje AS i način donošenja mišljenja A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Mišljenje Akreditacijskog savjeta dostavlja se visokom učilištu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 roku od 15 da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Prigovor se može podnijeti zbog bitne povrede akreditacijskih pravila koje su dovele ili mogle dovesti do pogreške u davanju mišljenja Akreditacijskog savje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 prigovoru se ne mogu iznositi nove činjenice i novi dokazi koji nisu izneseni do dana završetka posjeta stručnog povjerenstv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Povjerenstvo za prigovor (vanjski članovi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Mišljenje Povjerenstva dostavlja se Akreditacijskom savjet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9520" y="328320"/>
            <a:ext cx="7602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Prigovor visokog učilišta na mišljenje AS i Povjerenstvo za prigovor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18880" y="1181160"/>
            <a:ext cx="8778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zdavanje potvrde o ispunjavanju uvjeta za obavljanje djelatnosti visokog obrazovanja i/ili znanstvene djelatnosti odnosno dijela djelatnost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skratu dopusnice za obavljanje djelatnosti visokog obrazovanja i/ili znanstvene djelatnosti odnosno dijela djelatnost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zdavanje pisma očekivanja s rokom uklanjanja nedostataka do tri godin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9160" y="328320"/>
            <a:ext cx="6356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kreditacijska preporuka Agencij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5041800" y="3652920"/>
            <a:ext cx="2718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08:19:46Z</dcterms:created>
  <dc:creator>Ivana Borošić</dc:creator>
  <dc:description/>
  <dc:language>en-US</dc:language>
  <cp:lastModifiedBy>Vlatka Derenčinović</cp:lastModifiedBy>
  <cp:lastPrinted>2017-02-15T14:06:25Z</cp:lastPrinted>
  <dcterms:modified xsi:type="dcterms:W3CDTF">2017-02-22T08:55:15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8754869991</vt:lpwstr>
  </property>
</Properties>
</file>