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11.wmf" ContentType="image/x-wmf"/>
  <Override PartName="/ppt/media/image7.jpeg" ContentType="image/jpe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91A2A-24C2-49C2-8B3E-AA0EB2562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10920" y="4071240"/>
            <a:ext cx="6481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F52F3-C8C6-4BBD-A634-9069E7AEE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410920" y="407124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32280" y="407124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FCF70-72BC-4260-8D58-64ADB6AEA4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2600" y="170136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94280" y="170136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410920" y="407124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02600" y="407124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94280" y="407124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1AA28-C94F-44F2-BEA7-6E3FFB41A1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907640" y="691920"/>
            <a:ext cx="69850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410920" y="407124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F2B95-5D46-48EA-B46F-06E133EA0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732280" y="407124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410920" y="4071240"/>
            <a:ext cx="6481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410920" y="4071240"/>
            <a:ext cx="6481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410920" y="407124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732280" y="407124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02600" y="170136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794280" y="170136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410920" y="407124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602600" y="407124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794280" y="4071240"/>
            <a:ext cx="208692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E9E1-3517-4435-B446-9CA45B5F87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2E927-F248-4B83-B182-EFBDF4EC92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3177A-F023-4435-B41D-0410E2C9BF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07640" y="691920"/>
            <a:ext cx="698508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2C8BE-7DC5-4FDC-9EDC-D62C5597BC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410920" y="407124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04A20-7986-4731-AFDF-3DF11229C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32280" y="407124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24608-0638-411E-A909-11B9059DB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32280" y="1701360"/>
            <a:ext cx="316296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410920" y="4071240"/>
            <a:ext cx="6481800" cy="21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75CDC-124C-4FEE-9EF4-AF709CB9E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651640" y="189000"/>
            <a:ext cx="3240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r-H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ff"/>
                </a:solidFill>
                <a:latin typeface="Times New Roman"/>
              </a:rPr>
              <a:t>Implementacija EFQM modela u CARNet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388360" y="6524640"/>
            <a:ext cx="43344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C15A-E75D-4D91-8250-D74AB927EF4A}" type="slidenum"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r>
              <a:rPr b="1" lang="en-US" sz="900" spc="-1" strike="noStrike">
                <a:solidFill>
                  <a:srgbClr val="333399"/>
                </a:solidFill>
                <a:latin typeface="Times New Roman"/>
              </a:rPr>
              <a:t>/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24000" y="18900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A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3"/>
          </p:nvPr>
        </p:nvSpPr>
        <p:spPr>
          <a:xfrm>
            <a:off x="7092720" y="3644640"/>
            <a:ext cx="187164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36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2268360" y="1916280"/>
            <a:ext cx="66247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2340000" y="3644640"/>
            <a:ext cx="4248000" cy="215640"/>
          </a:xfrm>
          <a:prstGeom prst="rect">
            <a:avLst/>
          </a:prstGeom>
          <a:noFill/>
          <a:ln w="0">
            <a:noFill/>
          </a:ln>
        </p:spPr>
        <p:txBody>
          <a:bodyPr lIns="0" rIns="0" tIns="90000" bIns="360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11111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11111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111111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carnet.hr/organizacija/kvaliteta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http://www.efqm.org/" TargetMode="External"/><Relationship Id="rId7" Type="http://schemas.openxmlformats.org/officeDocument/2006/relationships/hyperlink" Target="http://www.efqm.org/" TargetMode="External"/><Relationship Id="rId8" Type="http://schemas.openxmlformats.org/officeDocument/2006/relationships/hyperlink" Target="http://www.efqm.org/" TargetMode="External"/><Relationship Id="rId9" Type="http://schemas.openxmlformats.org/officeDocument/2006/relationships/hyperlink" Target="http://www.efqm.org/" TargetMode="External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2.png"/><Relationship Id="rId9" Type="http://schemas.openxmlformats.org/officeDocument/2006/relationships/image" Target="../media/image8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31640" y="1916280"/>
            <a:ext cx="756108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100" spc="-1" strike="noStrike">
                <a:solidFill>
                  <a:srgbClr val="ffffff"/>
                </a:solidFill>
                <a:latin typeface="Arial"/>
              </a:rPr>
              <a:t>Implementacija EFQM modela izvrsnosti u CARNetu 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62472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50360" y="365904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utor: Gordana Ju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17840" y="365904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8.5.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Projekt “EFQM vanjska evaluacija”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Cilj: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dobivanje 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EFQM 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certifikata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 Commited to Excellenc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Proces dobivanja certifikat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Izrada i slanje aplikacij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Rad s vanjskim konzultantim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Komunikacija s EFQM kontakt osobom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Projekti poboljšanj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Mentoriranj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Tematski brojevi web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Indikatori za usluge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F693-6685-40B3-8754-54D41D1C4F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Vanjska evaluacija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31640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Pripremni dogovori i radnj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Dolazak evaluator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111111"/>
                </a:solidFill>
                <a:latin typeface="Arial"/>
              </a:rPr>
              <a:t>Sastanak s CEC-om i timom projekata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111111"/>
                </a:solidFill>
                <a:latin typeface="Arial"/>
              </a:rPr>
              <a:t>Razgovori s korisnicima projekata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111111"/>
                </a:solidFill>
                <a:latin typeface="Arial"/>
              </a:rPr>
              <a:t>Odluka o certifikatu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Dobivanje certifikat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773680" y="1701720"/>
          <a:ext cx="3071880" cy="4537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73680" y="1701720"/>
                    <a:ext cx="30718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0A40-DEA1-4898-8890-6E0F9A40D9E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vala na pažnji!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270792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http://www.carnet.hr/organizacija/kvalitet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Gordana.Jugo@CARNet.hr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BD643-6EBD-4EEF-9D6F-13ED9436FC33}" type="slidenum">
              <a:t>12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Što je to EFQM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Europska zaklada za upravljanje kvalitetom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Neprofitna organizacija osnovana 1988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.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od 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 vode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ć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ih 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urop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skih tvrtki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Misija: pokreta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č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 odr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ž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ive izvrsnosti u europskim organizacijama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5 stupnjeva izvrsnosti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 u="sng">
                <a:solidFill>
                  <a:srgbClr val="00b200"/>
                </a:solidFill>
                <a:uFillTx/>
                <a:latin typeface="Arial"/>
                <a:hlinkClick r:id="rId6"/>
              </a:rPr>
              <a:t>www.</a:t>
            </a:r>
            <a:r>
              <a:rPr b="0" lang="hr-HR" sz="2000" spc="-1" strike="noStrike" u="sng">
                <a:solidFill>
                  <a:srgbClr val="00b200"/>
                </a:solidFill>
                <a:uFillTx/>
                <a:latin typeface="Arial"/>
                <a:hlinkClick r:id="rId7"/>
              </a:rPr>
              <a:t>efqm</a:t>
            </a:r>
            <a:r>
              <a:rPr b="0" lang="hr-HR" sz="2000" spc="-1" strike="noStrike" u="sng">
                <a:solidFill>
                  <a:srgbClr val="00b200"/>
                </a:solidFill>
                <a:uFillTx/>
                <a:latin typeface="Arial"/>
                <a:hlinkClick r:id="rId8"/>
              </a:rPr>
              <a:t>.</a:t>
            </a:r>
            <a:r>
              <a:rPr b="0" lang="hr-HR" sz="2000" spc="-1" strike="noStrike" u="sng">
                <a:solidFill>
                  <a:srgbClr val="00b200"/>
                </a:solidFill>
                <a:uFillTx/>
                <a:latin typeface="Arial"/>
                <a:hlinkClick r:id="rId9"/>
              </a:rPr>
              <a:t>org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2050920" y="4437000"/>
            <a:ext cx="6396120" cy="144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3EBDF-8DD5-41BD-B875-4A957292295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FQM Model izvrsnosti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55640" y="1844640"/>
            <a:ext cx="7272360" cy="412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93C8-22B8-4CCE-B524-00AD6A973C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snove EFQM koncepta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Usmjerenost na r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e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ult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ate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Usmjerenost na korisnik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Vodstvo i stalnost svrh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Upravljanje pomoću procesa 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i činjenic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Razvoj i uključenost zaposlenik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Kontinuirano učenja, inovacija i poboljšanj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Razvoj p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artners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tv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Društvena odgovornost organizacij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CA13-FFBB-43BF-9CC7-F07D233A62B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FQM u Europi 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Više od 800 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lanica iz gotovo svih dr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ž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ava Europ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Neki od nositelja certifikata:</a:t>
            </a:r>
            <a:r>
              <a:rPr b="0" lang="en-GB" sz="2000" spc="-1" strike="noStrike">
                <a:solidFill>
                  <a:srgbClr val="111111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Nokia,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Vodafone,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DHL,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Lufthansa,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Siemens,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Oracle…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AF98-44D5-4503-B849-951E646B394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EFQM u Hrvatskoj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Arial"/>
              </a:rPr>
              <a:t>Hrvatske članice: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Podravk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Dalmaconsult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  <a:ea typeface="Times New Roman"/>
              </a:rPr>
              <a:t>Udruga poslovnih savjetnika</a:t>
            </a:r>
            <a:r>
              <a:rPr b="0" lang="en-GB" sz="1800" spc="-1" strike="noStrike">
                <a:solidFill>
                  <a:srgbClr val="1111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Prvi certifikat u HR: </a:t>
            </a:r>
            <a:r>
              <a:rPr b="0" lang="en-US" sz="2000" spc="-1" strike="noStrike">
                <a:solidFill>
                  <a:srgbClr val="111111"/>
                </a:solidFill>
                <a:latin typeface="Arial"/>
                <a:ea typeface="Arial"/>
              </a:rPr>
              <a:t>Ericsson Nikola Tesl</a:t>
            </a: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2003. Recognised for Excellenc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Arial"/>
              </a:rPr>
              <a:t>Pripreme započele 1996.</a:t>
            </a:r>
            <a:r>
              <a:rPr b="0" lang="hr-HR" sz="18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Drugi certifikat u HR: CARNe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111111"/>
                </a:solidFill>
                <a:latin typeface="Arial"/>
              </a:rPr>
              <a:t>2005. Commited to Excellenc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111111"/>
                </a:solidFill>
                <a:latin typeface="Arial"/>
              </a:rPr>
              <a:t>Tko je sljedeći?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D43F-CE82-49F8-9600-E5ED20D6E0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Zašto EFQM u CARNetu?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leksibilnost model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Usmjerenost na stalno učenje i poboljšanje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Vrijednosti koncepta EFQM-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C5E2-BBFF-4D68-B3D2-EC14721088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ces implementacije EFQM-a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10920" y="1701360"/>
            <a:ext cx="6481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Pokrenuta inicijativa, siječanj 2004. 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Interna evaluacija, ožujak 2004.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Niz projekata poboljšanja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Apliciranje za certifikat, siječanj 2005.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Vanjska evaluacija, studeni 2005.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B09E5-E522-4B1E-93C7-B3350973184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7640" y="691920"/>
            <a:ext cx="6985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Interna evaluacija (samoprocjena)</a:t>
            </a:r>
            <a:endParaRPr b="1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10920" y="1701720"/>
            <a:ext cx="648180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1428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Uključeni svi zaposlenici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1428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Vanjski konzultanti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1428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Rad u grupama po kriterijim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SzPct val="1157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Što radimo dobro, što treba poboljšati?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1428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Diskusija i zaključak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1428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Odluka o projektima poboljšanj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5148360" y="3987720"/>
            <a:ext cx="2946240" cy="221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8"/>
          <a:stretch/>
        </p:blipFill>
        <p:spPr>
          <a:xfrm>
            <a:off x="2050920" y="4005360"/>
            <a:ext cx="2922840" cy="219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aslov prezentacij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D730-52A4-4733-81F4-BEB970EF075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4:10:03Z</dcterms:created>
  <dc:creator>CARNet</dc:creator>
  <dc:description/>
  <dc:language>en-US</dc:language>
  <cp:lastModifiedBy>gbuhin</cp:lastModifiedBy>
  <dcterms:modified xsi:type="dcterms:W3CDTF">2007-05-28T12:34:39Z</dcterms:modified>
  <cp:revision>92</cp:revision>
  <dc:subject/>
  <dc:title>Naslov prezentacije</dc:title>
</cp:coreProperties>
</file>