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C385-C965-4F85-8162-EFB45AE8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7790-A3F2-4A84-9EEA-3C702227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98F0-761A-43BE-A945-7EFF5EFA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E2F4-B37C-4663-BC14-E96CB1FD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E46F-87DC-40CA-92AF-997E972B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111F0-6E69-45C8-88D5-A6E4350F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553A-DEAC-4620-96C6-945754CF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BF86-9E95-48C3-8614-E33E9825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8809-3110-4BB9-A935-C43549B6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9E08-81F0-4270-8EB1-CF7DFCA8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DC99D-9EE4-41A3-A3CC-E4BE29A5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DFD5-5E44-4B4C-9734-E83172BB0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B810-7847-4080-99EF-DF3AC287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188E-3D29-4FA2-8BE8-06356A94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074C-B96C-473B-9A24-A94CC82A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8CFB-15BC-4979-90FD-F13A637B1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0A82-7163-4208-8662-1E710947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62F20-816A-41AA-BD4D-7149C22D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42FD7-C96E-4BB6-A5BA-0783C77A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F99C3-9A05-41A1-AADC-52CD979A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146A4-7AE5-41DB-A54A-3AFB2CC0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73278-BFD7-4CCD-A0C5-DCD4FDFD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6F3C-35F2-43A3-9D72-E4A1AE81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06B91-F1D4-4DEA-9A0E-B6453D0E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D474E-3699-4703-B168-512D727B1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5CCC7-959E-4ED5-B5C9-976FCC8B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A3C69-658C-4756-AC37-303991F4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AED77-7729-4B58-AA28-ED6DFE5A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308E5-42E5-4FD1-8FF8-376C6B8B2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1BB0F-8999-4432-82E1-31EB8BB9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DAA8-B556-429D-8D9D-AE1661FA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18BA-A6AE-4DE1-9773-7E5FA52C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E3F0-77F4-47EE-A29D-16C33AFB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0563-9D14-4C74-B9A0-C7EC1762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4C18-9413-4BAB-B921-8A499E42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801B-817B-4D4E-A91D-ADBAB2A9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96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64000" y="6244920"/>
            <a:ext cx="324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6000" y="6244920"/>
            <a:ext cx="1450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0DDA-E39C-4BEA-9ABD-F1BE691E0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08720" y="6165720"/>
            <a:ext cx="75564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83B0-D053-4F17-B4D6-A0A2A26D4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8DF4-4B71-440B-9EBB-9F6119B3B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Vanjsko osiguranje kvalitete ustanova visokog obrazov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ergij Gabrš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CARDS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Jačanje Agencije za znanost i visoko obrazovan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u ulozi osiguranja kvalitete i razvoj prateće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informacijskog sustava - QACHE</a:t>
            </a: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31E2-1579-4D87-970D-CBC8901F1DC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riteriji za odlučivanje</a:t>
            </a:r>
            <a:r>
              <a:rPr b="0" lang="hr-HR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aka formalna odluka donesena kao rezultat aktivnosti vanjskog osiguranja kvalitete mora biti temeljena na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jasnim, objavljenim kriterijim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koji se dosljedno primjenjuj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C277-0FEC-4ECC-836A-1BB8EF4B921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riteriji za odlučivanje</a:t>
            </a:r>
            <a:r>
              <a:rPr b="0" lang="hr-HR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mjer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ormalne odluke koje donose agencije za osiguranje kvalitete imaju važan učinak na razmatrane ustanove i programe. U interesu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avednosti i pouzdanost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odluke se moraju temeljiti na objavljenim kriterijima i tumačiti na provjeren nač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Zaključci se moraju temeljiti n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zabilježenim dokazim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a ako bude potrebno agencije moraju imati pripravne metode moderiranja zaključak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23E-B3CD-4690-A2ED-6B1D481DDC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ocesi prikladni svrsi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i procesi vanjskog osiguranja kvalitete moraju biti napravljeni tako da se osigura njihova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činkovitost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u postizanju predviđenih ciljeva i namje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79C7-2FBC-47DA-BD1A-0294FB4E30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ocesi prikladni svrsi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mjer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gencije osiguranja kvalitete u Europskog prostora visokog obrazovanja poduzimaju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različit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vanjske procese u različite svrhe i na različite način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skustvo je pokazalo da postoje neki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pće korišteni element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u procesima vanjske revizije koji ne samo da pomažu u osiguranju njihove valjanosti, pouzdanosti i korisnosti, već pružaju i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snovu za europsku dimenzij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u osiguranju kvalite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DCA-9987-411C-AFB7-B45DB94AFF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ocesi prikladni svrsi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mjer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ebno su vrijedni sljedeći od tih elemen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zistiranje d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tručnjac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koji obavljaju vanjsko osiguranje kvalitete budu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ompetentn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za obavljanje svoje zadać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ažljivo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biranj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tručnjak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gućnost potrebnih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trening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 brifinga za stručnjak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rištenje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međunarodnih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tručnjak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ADA-7451-42E9-B296-2169BA81039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ocesi prikladni svrsi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mjer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djelovanj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tudenat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iguravanje postupaka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egled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koji će potvrditi donesene zaključke i rezultat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treba samo-evaluacije/obilaska terena/objavljivanje izvješća/modela koji će jamčit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omjen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nakon pregled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znavanje važnost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institucionalnog napredovan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 poboljšavanja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trategija razvo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kao temeljnih elemenata u osiguranju kvalite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4BD7-F356-4203-867F-24BB547F6B0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5. Izvještavanje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vješća se trebaju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bjavljivat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te trebaju biti pisana stilom koji će biti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jasan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 čitljiv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ciljanom čitateljstvu. Sve odluke, preporuke ili pohvale u izvješću trebaju biti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lako dostupn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čitateljima.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5DD6-4E66-4DA0-AF0E-2E54B38C645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5. Izvještavanje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mjer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a bi se osigurala maksimalna korist od procesa vanjskog osiguranja kvalitete, važno je da izvješć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dovoljavaju potrebama ciljanoga čitateljstv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vješća su često namijenjena različitim grupama čitatelja, te stoga treba obratiti posebnu pažnju n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trukturu, sadržaj, stil i ton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pćenito, izvješća moraju biti složena tako da sadrže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pise, analiz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(uključujući relevantne dokaze),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zaključke, naloge i preporuk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5B9-EC25-484C-AB3D-1C7B573D84B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5. Izvještavanje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mjer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toga je prethodno potrebno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laičkog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čitatelj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nformirat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o svrsi pregleda, njenoj formi i kriterijima korištenima u donošenju odluk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ljučni zaključci i preporuke trebaju biti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lako dostupn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čitateljima. Izvješća treba tiskati u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lako čitljivoj form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a čitatelji i korisnici izvješća (unutar i izvan relevantnih ustanova) moraju imati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mogućnost komentirat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njihovu korisno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2937-AF58-4470-8AA6-BDE578ABB27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6. Postupci za daljnje djelovanje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tandard: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ocesi osiguranja kvalitete, koji sadrže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eporuk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za akciju ili koji zahtijevaju kasniji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lan akcij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moraju imati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naprijed određen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ostupke za daljnje djelovanje koji se dosljedno primjenjuju.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09A-AFCD-4E1E-AE40-EE70E3F4C8D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Uvod u smjernice (ES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govoreni niz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tandarda, postupaka i smjernic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za osiguranje kvalitete,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čin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kojima se osigurava odgovarajući sustav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ovjer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za agencije za osiguranje kvalitete i/ili akredit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EBE-A1B8-4CAF-B516-85F6FD99401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6. Postupci za daljnje djelovanje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mjer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osiguranju kvalitete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isu primarni individualni događaj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vanjske kontrole; primarno je neprestano nastojati obaviti što bolji posao. Vanjsko osiguranje kvalitete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završav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objavljivanjem izvješć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9790-0AEC-4862-BF29-0B3B9F052A6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6. Postupci za daljnje djelovanje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mjer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no treba uključiti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trukturirane postupk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za daljnje djelovanje kojima će se osigurati da se preporuke odgovarajuće provedu, te da se svi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trebni postupci izrade i proved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 Ovo može uključivati i daljnje sastanke s predstavnicima ustanova i progr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ilj je osigurati da se što prije obrade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dručja koja zahtijevaju poboljšanj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te da se potiče svako daljnje poboljšanj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FAF9-1C98-4C73-8AF2-2B27D0F98DC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7. Periodični pregledi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anjsko osiguranje kvalitete ustanova i programa treba provoditi na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cikličkoj osnov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 Trajanje ciklusa, kao i postupke koji će biti korišteni tijekom pregleda treba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naprijed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jasno odrediti i objavi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C5C2-43D4-4129-8D3E-6E904AE732A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7. Periodični pregle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mjer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siguranje kvalitete nije statičan, već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inamičan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roces. Ono mora biti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prestan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, a ne jednokratno. Ono ne završava prvim pregledom ili objavljivanjem formalnih postupaka za daljnje djelovanje. Ono se mora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eriodički obnavljat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D12A-4CB8-46C3-A28D-E20314A4593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7. Periodični pregle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mjer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i sljedeći vanjski pregledi moraju uzeti u obzir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predak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postignut od zadnjeg pregleda.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gencija za vanjsko osiguranje kvalitet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trebala bi jasno odrediti procese kojima će se koristiti, i oni ustanovama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e smiju predstavljati napor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veći od potrebnog za ostvarenje ciljev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2F62-CD0F-49AC-942B-806B33497F0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8. Opća anal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gencije za osiguranje kvalitete povremeno moraju objavljivati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ažeta izvješć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u kojima će iznositi opise i analize glavnih zaključaka svojih pregleda, evaluacija, procjena i s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46A-915E-46CB-9AB2-55C44D73CE9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8. Opća anal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mjer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e agencije za vanjsko osiguranje kvalitete posjeduju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noštvo informacij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o pojedinačnim programima i/ili ustanovama. Te informacije pružaju materijal za obavljanje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trukturiranih analiz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širom cijelog visokoobrazovnog sist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4B8-5A17-4F05-A8D6-7BDCBBB13F8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8. Opća anali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mjer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akve analize mogu pružiti vrlo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orisne informacij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razvoju, trendovima, nastajanju dobre praks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 o područjima s stalno prisutnim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labostima ili teškoćam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te mogu postati korisno oruđe z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razvitak strategija i poboljšanje kvalitet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. Agencije bi u svoje aktivnosti trebale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ključiti postupke istraživan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27D6-3DAE-4063-8411-41BF093FAF7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Standardi i smjernice (ES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tandardi obuhvaćaj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unutarn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osiguranje kvalitete u UV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vanjsko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osiguranje kvalitete visokog obrazovan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siguranje kvalitete 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agencija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za vanjsko osiguranje kvalite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A8C4-1838-48D8-9624-880E48B706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Unutarnje osiguranje kvalit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litike i postupci za osiguranje kvalit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dobrenje, nadziranje i periodični pregled programa i kvalifik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cjenjivanje stude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siguranje kvalitete nastavničkog ka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zvori za učenje i pomoć studen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nformacijski susta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Javno inform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CC2-D2C5-4B79-8970-EAF15FE1F5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Europski standardi i smjernice za vanjsko osiguranje kvalitete u visokom obrazovanju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C9ED-DEA2-453C-ADDD-A8600013F4C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1. Upotreba postupaka unutarnjeg osiguranja kvalitete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tupci vanjskog osiguranja kvalitete moraju uzeti u obzir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činkovitost postupaka unutarnjeg osiguranja kvalitet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opisanih u 1. dijelu Europskih standarda i smjernica.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3366-50FA-4E1D-B008-4FA5D00BBA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1. Upotreba postupaka unutarnjeg osiguranja kvalitete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mjer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snova za vanjskog osiguranja kvalitete su Standardi za unutarnje osiguranje kvalit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ažljiva procjena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nutarnjih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načela i postupka ustanova tijekom provođenja vanjskih postup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ko su visokoobrazovne ustanove u mogućnost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dokazati učinkovitos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svojih vlastitih procesa unutarnjeg osiguranja kvalitete i ako ti procesi mogu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odgovarajuće osigurati kvalitetu i standard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, onda vanjski proces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moraju biti opsežni kao što bi inače bil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7A7A-B681-40D4-8615-0BD536AAF1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. Razvoj procesa vanjskog osiguranja kvalitete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mjere i ciljevi proces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osiguranja kvalitete moraju biti definirani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ij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nego se odrede sami procesi. To moraju napraviti odgovorni (uključujući visokoobrazovne ustanove) i to se mora objaviti zajedno s opisom svih postupaka koje će se koristit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8B8D-BBCF-44F0-B69A-26D73324A97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. Razvoj procesa vanjskog osiguranja kvalitete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mjern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 jasnoću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vrhe i transparentnos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procedura, u procese oblikovanja i razvijanja metoda vanjskoga osiguranja kvalitete se trebaju uključiti glavni nositelji interesa,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ključujući ustanove visokog obrazovan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udući da vanjsko osiguranje zahtijeva određeni angažman uključenih ustanova, preporučuje se provođenj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reliminarnog ispitivan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kojim će se utvrditi prikladnost planiranih metoda, da se na taj način osigura nesmetan rad visokoobrazovnih ustan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B5C-2B17-4ECC-8820-BDD7E0F9222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Vanjsko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1:15:13Z</dcterms:created>
  <dc:creator>Sergij</dc:creator>
  <dc:description/>
  <dc:language>en-US</dc:language>
  <cp:lastModifiedBy>Sergij</cp:lastModifiedBy>
  <dcterms:modified xsi:type="dcterms:W3CDTF">2007-05-30T06:33:02Z</dcterms:modified>
  <cp:revision>74</cp:revision>
  <dc:subject/>
  <dc:title>Slide 1</dc:title>
</cp:coreProperties>
</file>