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wmf" ContentType="image/x-wmf"/>
  <Override PartName="/ppt/media/image9.wmf" ContentType="image/x-wmf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638925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AD6-B127-4259-B5AF-D0B7CD8B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3257-A74B-490D-8F67-12AC9DDA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CDAA-8767-4627-B15C-B0C0AC1C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5AC-4A9B-4A77-AF9C-C8ECA0A3C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9BB8-99E4-463A-A689-936627999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76548-DF6A-4E05-964A-6395DAAD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0970-5DD9-46C3-9DE0-7354F5A8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C82D-B2FE-4110-B672-60BC4A46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329F-F4CD-42FE-9104-A46C1B65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60EA-C81F-4303-992F-D4B39ED7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7FC9-5042-4CB2-854B-ED0D4438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6171-E74F-4521-BC05-2C15C84E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69139-4F08-49F0-A23C-665B560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BF06-3E35-4BD2-88D7-EF9EFA14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670F-F6F3-473B-B349-F5F4A4A9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F54B0-E9AB-4812-8B46-F2F37D0F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274D-FB06-41CC-9A15-78D5BA686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A786-BCAE-4872-83C9-A2F1B32F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CD07-D7F5-485A-9447-2C7F38E8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E21-2547-4359-A5BA-5F2A9AEE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4885-5368-431C-B098-0EB3DFDE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1A6F-423F-46CC-8C9B-8DA7BADB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5B3E-D4B8-410C-ABE3-59A9F72C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FAFD-CFC2-4A05-A905-45B5006A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1A99-F5F9-41C1-846A-3BF2FCBE9929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41C4-5DA0-4F4B-8650-7D1C4C7B700D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hyperlink" Target="http://www.qualityresearchinternational.com/glossary/" TargetMode="External"/><Relationship Id="rId4" Type="http://schemas.openxmlformats.org/officeDocument/2006/relationships/hyperlink" Target="http://www.qualityresearchinternational.com/glossary/" TargetMode="External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fmd.org/equis" TargetMode="External"/><Relationship Id="rId2" Type="http://schemas.openxmlformats.org/officeDocument/2006/relationships/hyperlink" Target="http://www.efmd.org/equis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990720"/>
            <a:ext cx="835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3800" spc="-1" strike="noStrike">
                <a:solidFill>
                  <a:srgbClr val="e5780b"/>
                </a:solidFill>
                <a:latin typeface="Arial"/>
              </a:rPr>
              <a:t>Experience of European Countries in Conducting External Evaluation of HEIs</a:t>
            </a:r>
            <a:endParaRPr b="0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3886200"/>
            <a:ext cx="47242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Tibor Sza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ffff"/>
                </a:solidFill>
                <a:latin typeface="Arial"/>
              </a:rPr>
              <a:t>CARDS 200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587700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Seminars for Croatian HEIs, Zagreb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r-HR" sz="1800" spc="-1" strike="noStrike">
                <a:solidFill>
                  <a:srgbClr val="ffffff"/>
                </a:solidFill>
                <a:latin typeface="Arial"/>
              </a:rPr>
              <a:t>29-31 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May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55280" y="836280"/>
            <a:ext cx="8388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66ff"/>
                </a:solidFill>
                <a:latin typeface="Arial"/>
              </a:rPr>
              <a:t>Reference points: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. eval.:     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mission, goal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f inst./progr. (+ criteria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. accred.: 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threshold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criteri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+ mission, goal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. audit: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set of standards for Q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target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66ff"/>
                </a:solidFill>
                <a:latin typeface="Arial"/>
              </a:rPr>
              <a:t>Results / consequenc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recommendation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+ judgment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yes-no decisio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+ conditions to be met + recommend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udit decisio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passed or re-audit)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certific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66ff"/>
                </a:solidFill>
                <a:latin typeface="Arial"/>
              </a:rPr>
              <a:t>Focus on: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enhancement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+ accountability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ccountability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+ enhancement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QA mechanisms and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896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 – comparison of </a:t>
            </a:r>
            <a:r>
              <a:rPr b="0" i="1" lang="hr-HR" sz="2200" spc="-1" strike="noStrike">
                <a:solidFill>
                  <a:srgbClr val="e5780b"/>
                </a:solidFill>
                <a:latin typeface="Arial"/>
              </a:rPr>
              <a:t>evaluation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i="1" lang="hr-HR" sz="2200" spc="-1" strike="noStrike">
                <a:solidFill>
                  <a:srgbClr val="e5780b"/>
                </a:solidFill>
                <a:latin typeface="Arial"/>
              </a:rPr>
              <a:t>accreditation 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and </a:t>
            </a:r>
            <a:r>
              <a:rPr b="0" i="1" lang="hr-HR" sz="2200" spc="-1" strike="noStrike">
                <a:solidFill>
                  <a:srgbClr val="e5780b"/>
                </a:solidFill>
                <a:latin typeface="Arial"/>
              </a:rPr>
              <a:t>audi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4B2-A84F-46B2-999B-D1033D76757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1" dur="500"/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8920" y="549360"/>
            <a:ext cx="67690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e5780b"/>
                </a:solidFill>
                <a:latin typeface="Arial"/>
              </a:rPr>
              <a:t>Actual situation in Croatia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916280"/>
            <a:ext cx="2303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New i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st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xist. inst / fa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New p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ogr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Exist. prog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43280" y="1413000"/>
            <a:ext cx="53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evaluation   Accreditation    Audi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843280" y="2060640"/>
          <a:ext cx="5616360" cy="2587680"/>
        </p:xfrm>
        <a:graphic>
          <a:graphicData uri="http://schemas.openxmlformats.org/drawingml/2006/table">
            <a:tbl>
              <a:tblPr/>
              <a:tblGrid>
                <a:gridCol w="1584360"/>
                <a:gridCol w="2303280"/>
                <a:gridCol w="1728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) + 2</a:t>
                      </a:r>
                      <a:r>
                        <a:rPr b="1" lang="hr-HR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008 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2008 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0" y="0"/>
            <a:ext cx="28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FE3-AFAF-499C-9E6E-76F03C27DBE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wipe dir="l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18920" y="620280"/>
            <a:ext cx="6769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e5780b"/>
                </a:solidFill>
                <a:latin typeface="Arial"/>
              </a:rPr>
              <a:t>Possible options for Croatia?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1413000"/>
            <a:ext cx="53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evaluation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Accreditation      Audi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700360" y="2133720"/>
          <a:ext cx="5832360" cy="2604960"/>
        </p:xfrm>
        <a:graphic>
          <a:graphicData uri="http://schemas.openxmlformats.org/drawingml/2006/table">
            <a:tbl>
              <a:tblPr/>
              <a:tblGrid>
                <a:gridCol w="1644480"/>
                <a:gridCol w="2392560"/>
                <a:gridCol w="1795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   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(next cycle?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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hr-HR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0" y="0"/>
            <a:ext cx="28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2017800"/>
            <a:ext cx="23036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New i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nst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/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a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xist. inst / fa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New p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rogr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Exist. prog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Them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8E8C-DD32-4425-8EC3-670D48D8FE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wipe dir="l"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71640" y="1628640"/>
            <a:ext cx="7416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.1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A policy, strategy,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2  Programme approval, monitoring, and re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3  Assessment of students (consistency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4  QA of teaching staff (internal mechanisms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5  Learning resources and studen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6  Internal information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.7  Public information on programmes and awa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r-HR" sz="2200" spc="-1" strike="noStrike">
                <a:solidFill>
                  <a:srgbClr val="ff66ff"/>
                </a:solidFill>
                <a:latin typeface="Arial"/>
              </a:rPr>
              <a:t>Renumbering of ESG chapters in 2007 edition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260280"/>
            <a:ext cx="8424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5780b"/>
                </a:solidFill>
                <a:latin typeface="Arial"/>
              </a:rPr>
              <a:t>II. The European background: ESG Part 1</a:t>
            </a:r>
            <a:br>
              <a:rPr sz="3200"/>
            </a:br>
            <a:r>
              <a:rPr b="0" lang="hr-HR" sz="2800" spc="-1" strike="noStrike">
                <a:solidFill>
                  <a:srgbClr val="e5780b"/>
                </a:solidFill>
                <a:latin typeface="Arial"/>
              </a:rPr>
              <a:t>Standards for HE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1B9B-AC10-48ED-A6DE-23DF8B82F0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32000" y="1268280"/>
            <a:ext cx="7129440" cy="47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1  Use of </a:t>
            </a:r>
            <a:r>
              <a:rPr b="0" lang="en-GB" sz="2400" spc="-1" strike="noStrike">
                <a:solidFill>
                  <a:srgbClr val="66ffff"/>
                </a:solidFill>
                <a:latin typeface="Arial"/>
              </a:rPr>
              <a:t>internal Q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2  Development of external proced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ims, objectives, </a:t>
            </a:r>
            <a:r>
              <a:rPr b="0" lang="en-GB" sz="2200" spc="-1" strike="noStrike">
                <a:solidFill>
                  <a:srgbClr val="66ffff"/>
                </a:solidFill>
                <a:latin typeface="Arial"/>
              </a:rPr>
              <a:t>involvement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public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3  Criteria for decisions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ublished, </a:t>
            </a:r>
            <a:r>
              <a:rPr b="0" lang="en-GB" sz="2200" spc="-1" strike="noStrike">
                <a:solidFill>
                  <a:srgbClr val="66ffff"/>
                </a:solidFill>
                <a:latin typeface="Arial"/>
              </a:rPr>
              <a:t>consistency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4  Processes fit for purpo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experts: selection, </a:t>
            </a:r>
            <a:r>
              <a:rPr b="0" lang="en-GB" sz="2200" spc="-1" strike="noStrike">
                <a:solidFill>
                  <a:srgbClr val="66ffff"/>
                </a:solidFill>
                <a:latin typeface="Arial"/>
              </a:rPr>
              <a:t>training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internat. exper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articipation of studen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5  Repor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6  Follow-up procedures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accred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.7  Periodic revie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.8  System wide analy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26028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5780b"/>
                </a:solidFill>
                <a:latin typeface="Arial"/>
              </a:rPr>
              <a:t>ESG Part 2 - </a:t>
            </a:r>
            <a:r>
              <a:rPr b="0" lang="hr-HR" sz="2800" spc="-1" strike="noStrike">
                <a:solidFill>
                  <a:srgbClr val="e5780b"/>
                </a:solidFill>
                <a:latin typeface="Arial"/>
              </a:rPr>
              <a:t>Standards for external QA</a:t>
            </a:r>
            <a:r>
              <a:rPr b="0" lang="hr-HR" sz="3200" spc="-1" strike="noStrike">
                <a:solidFill>
                  <a:srgbClr val="e5780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4A27-2D6B-4D17-A9E1-CECF3B642A9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SG: implementation i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C initiations: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Bologna promoters, seminars, project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NQA: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membership criteria, compulsory review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4 partners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ENQA, EUA, ESIB, EURASHE)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daptation of national reg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government, HEI and agency* responsibil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monitoring and stocktaking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BFUG, national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* Council – Board – Agenc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0"/>
            <a:ext cx="8208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e5780b"/>
                </a:solidFill>
                <a:latin typeface="Arial"/>
              </a:rPr>
              <a:t>III. European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0CE3-D100-4C7C-9BAC-451C0CC9D55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2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6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10920" y="90756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tocktaking Report 2007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BFUG Working group)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While the </a:t>
            </a:r>
            <a:r>
              <a:rPr b="0" i="1" lang="hr-HR" sz="2400" spc="-1" strike="noStrike">
                <a:solidFill>
                  <a:srgbClr val="66ffff"/>
                </a:solidFill>
                <a:latin typeface="Arial"/>
              </a:rPr>
              <a:t>formal structures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for quality assurance are in place, (...) there is a </a:t>
            </a:r>
            <a:r>
              <a:rPr b="0" i="1" lang="hr-HR" sz="2400" spc="-1" strike="noStrike">
                <a:solidFill>
                  <a:srgbClr val="66ffff"/>
                </a:solidFill>
                <a:latin typeface="Arial"/>
              </a:rPr>
              <a:t>need to provide more support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for internal quality assurance / quality improvement processes that will “embed” a genuine quality culture in higher education institutions.” (p.19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9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hr-HR" sz="20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i="1" lang="hr-HR" sz="2000" spc="-1" strike="noStrike">
                <a:solidFill>
                  <a:srgbClr val="ff66ff"/>
                </a:solidFill>
                <a:latin typeface="Arial"/>
              </a:rPr>
              <a:t> </a:t>
            </a:r>
            <a:r>
              <a:rPr b="0" i="1" lang="hr-HR" sz="2200" spc="-1" strike="noStrike">
                <a:solidFill>
                  <a:srgbClr val="ff66ff"/>
                </a:solidFill>
                <a:latin typeface="Arial"/>
              </a:rPr>
              <a:t>www.dfes.gov.uk/bolog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48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London stocktak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2B60-E337-42A3-8EBA-8D8C04C68C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2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55640" y="98064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Future challenges mentioned in national repor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Number of countries (%: n = 48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30000"/>
              </a:lnSpc>
              <a:spcBef>
                <a:spcPts val="601"/>
              </a:spcBef>
              <a:buClr>
                <a:srgbClr val="66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Quality assurance, accreditation 27 (56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tudent and staff mobility (more related to students) 23 (48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mployability and stakeholder involvement 20 (42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search (including doctoral studies) 18 (38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National qualifications framework, outcomes-based qualifications 17 (3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485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London stocktaking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FE5-3F7C-4505-BD02-76D88D31C15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610920" y="105228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Measures and current state*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ct and Ordinance adap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EIs redefining aims and objectives and curric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ologna promoters on nat. and inst. lev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ologna semin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ESG Part 1: big differences between HEI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SG Parts 2-3: substantial compl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Clas-Uno Frykholm, 12.02.07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32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-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Swed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1152360" cy="93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917-FA54-419E-AD2D-B1AC67E7BD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5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32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-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Swed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55640" y="90792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xternal QA in Swed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udit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of HEI’s internal QA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Subject and program review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6 year cycle),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wo ste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overview: documents, figures, simplified self-ev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in-depth review of subjects and programs at risk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~30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ccreditatio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of new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Thematic studie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on specific top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5. Award for excell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66ff"/>
                </a:solidFill>
                <a:latin typeface="Arial"/>
              </a:rPr>
              <a:t>Active involvement of stakeholder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541-BD85-4566-9102-6DC01063C2B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9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6000" y="609120"/>
            <a:ext cx="482436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5780b"/>
                </a:solidFill>
                <a:latin typeface="Arial"/>
              </a:rPr>
              <a:t>In this se</a:t>
            </a:r>
            <a:r>
              <a:rPr b="1" lang="hr-HR" sz="3200" spc="-1" strike="noStrike">
                <a:solidFill>
                  <a:srgbClr val="e5780b"/>
                </a:solidFill>
                <a:latin typeface="Arial"/>
              </a:rPr>
              <a:t>minar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6697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Types and foci of extern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I.  The European 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xamples from European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6920" y="706320"/>
            <a:ext cx="1368720" cy="56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EAE9-225C-41AA-964C-3AF6045C7F9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459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HSV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= Hogskoleverket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HSV / NAHE)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founded in 199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cope: HE in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oard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11, by Gov.)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taff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~ 140!), “Univ. Chancellor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asks: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broad mandate,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val. / accred. / audit  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 supervision of H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 reviews and analy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 evaluation of foreign qualific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 info service, HE statist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right to withdraw entitlement to award degre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xternally reviewed, confirmed full member of ENQ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english.hsv.se/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 (very informative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327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-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Swede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B37-3733-41D0-B530-AED65B2A8A4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"/>
                            </p:stCondLst>
                            <p:childTnLst>
                              <p:par>
                                <p:cTn id="5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0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8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1500"/>
                            </p:stCondLst>
                            <p:childTnLst>
                              <p:par>
                                <p:cTn id="5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7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332000" y="980640"/>
            <a:ext cx="720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nitiation: 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Agency or Govern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written reports by HEI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meetings, expert team – each HE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review report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 description and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 assessment of HE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- examples of good pract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im: to stimulate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losing conference + follow-up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~ 3 yea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308720" y="1557360"/>
            <a:ext cx="1443240" cy="1027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61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Sweden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thematic evalu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FE5-3237-48EF-93AA-6FB92353381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9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4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0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4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812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Internationalisation of programmes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2003-05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Method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questionnaire + visit </a:t>
            </a:r>
            <a:r>
              <a:rPr b="0" lang="hr-HR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repor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Finding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ncoming &gt; outgoing stud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partnerships, internat. networks on the 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outdated mission statements and strategi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ologna: waiting for gov. initia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Best: Uppsala Univ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Recomm.: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every grad. student should have the opportunity to have a study period in a foreign coun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451640" y="117360"/>
            <a:ext cx="1081080" cy="9874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0"/>
            <a:ext cx="615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Sweden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thematic evaluati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31CD-2F94-499F-88F5-B60CF363EC5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500"/>
                            </p:stCondLst>
                            <p:childTnLst>
                              <p:par>
                                <p:cTn id="6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4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00000" y="1052640"/>
            <a:ext cx="8028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The French QA system: </a:t>
            </a:r>
            <a:r>
              <a:rPr b="0" lang="hr-HR" sz="2600" spc="-1" strike="noStrike" u="sng">
                <a:solidFill>
                  <a:srgbClr val="66ffff"/>
                </a:solidFill>
                <a:uFillTx/>
                <a:latin typeface="Arial"/>
              </a:rPr>
              <a:t>VERY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complex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CNE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Comit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 National d’</a:t>
            </a:r>
            <a:r>
              <a:rPr b="0" i="1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  <a:ea typeface="Arial"/>
              </a:rPr>
              <a:t>valuation*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984 -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1989 on: reports to the President of the Re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oard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25, by Pres. Rep.)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+ staff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24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sponsible for institutional evaluation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(public inst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+ “cross-cutting” evaluations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themes, discipl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 u="sng">
                <a:solidFill>
                  <a:srgbClr val="66ffff"/>
                </a:solidFill>
                <a:uFillTx/>
                <a:latin typeface="Arial"/>
              </a:rPr>
              <a:t>2007</a:t>
            </a:r>
            <a:r>
              <a:rPr b="0" lang="hr-HR" sz="2600" spc="-1" strike="noStrike" u="sng">
                <a:solidFill>
                  <a:srgbClr val="66ffff"/>
                </a:solidFill>
                <a:uFillTx/>
                <a:latin typeface="Arial"/>
              </a:rPr>
              <a:t> </a:t>
            </a:r>
            <a:r>
              <a:rPr b="0" lang="hr-HR" sz="2600" spc="-1" strike="noStrike" u="sng">
                <a:solidFill>
                  <a:srgbClr val="ffffff"/>
                </a:solidFill>
                <a:uFillTx/>
                <a:latin typeface="Wingdings"/>
                <a:ea typeface="Wingdings"/>
              </a:rPr>
              <a:t></a:t>
            </a:r>
            <a:r>
              <a:rPr b="0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 AERES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hr-HR" sz="2200" spc="-1" strike="noStrike">
                <a:solidFill>
                  <a:srgbClr val="ffffff"/>
                </a:solidFill>
                <a:latin typeface="Arial"/>
              </a:rPr>
              <a:t>Agence d’evaluation de la recherce et de l’enseignement superieu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20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ww.cne-evaluation.fr/versions/anglais.htm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80360" y="549360"/>
            <a:ext cx="1571400" cy="1584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0" y="0"/>
            <a:ext cx="77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France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institutional eval. </a:t>
            </a:r>
            <a:r>
              <a:rPr b="0" lang="hr-HR" sz="2000" spc="-1" strike="noStrike">
                <a:solidFill>
                  <a:srgbClr val="66ffff"/>
                </a:solidFill>
                <a:latin typeface="Arial"/>
              </a:rPr>
              <a:t>(CNE </a:t>
            </a:r>
            <a:r>
              <a:rPr b="0" lang="hr-HR" sz="20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66ffff"/>
                </a:solidFill>
                <a:latin typeface="Arial"/>
              </a:rPr>
              <a:t> AE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023D-8556-4D90-9CB8-B115407006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0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9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9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4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9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9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4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42560" y="907560"/>
            <a:ext cx="810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Procedure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~ 1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(CNE schedul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people in charge” for the given eval.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hr-HR" sz="2200" spc="-1" strike="noStrike" u="sng">
                <a:solidFill>
                  <a:srgbClr val="66ffff"/>
                </a:solidFill>
                <a:uFillTx/>
                <a:latin typeface="Arial"/>
              </a:rPr>
              <a:t>CNE team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CNE team visit to HE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self-evaluation of HEI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2-3 month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experts selected by CNE te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peer-review, visit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3 day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confidential report by the expert te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draft report by CNE, </a:t>
            </a:r>
            <a:r>
              <a:rPr b="0" lang="hr-HR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plenary </a:t>
            </a:r>
            <a:r>
              <a:rPr b="0" lang="hr-HR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HEI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dialogue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final, public report </a:t>
            </a: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by CNE, 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recommend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~ 400 hard copies sent out 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+ internet</a:t>
            </a: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77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France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institutional eval. </a:t>
            </a:r>
            <a:r>
              <a:rPr b="0" lang="hr-HR" sz="2000" spc="-1" strike="noStrike">
                <a:solidFill>
                  <a:srgbClr val="66ffff"/>
                </a:solidFill>
                <a:latin typeface="Arial"/>
              </a:rPr>
              <a:t>(CNE </a:t>
            </a:r>
            <a:r>
              <a:rPr b="0" lang="hr-HR" sz="20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66ffff"/>
                </a:solidFill>
                <a:latin typeface="Arial"/>
              </a:rPr>
              <a:t> AE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84D4-005E-4AB7-8F5B-2335A04CBF1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0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5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0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5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5" dur="5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0" dur="5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00000" y="764640"/>
            <a:ext cx="7632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66ffff"/>
                </a:solidFill>
                <a:latin typeface="Arial"/>
              </a:rPr>
              <a:t>Handbook of standards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hree chap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education poli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research polic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tructure 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66ff"/>
                </a:solidFill>
                <a:latin typeface="Arial"/>
              </a:rPr>
              <a:t>see hand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headings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thematic grouping of standard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standards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26 + 8 +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29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good practices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example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Qualitative standards only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documents, processe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ww.cne-evaluation.fr/WCNE_pdf/LDRCNE_English.pd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451640" y="162864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77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France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institutional eval. </a:t>
            </a:r>
            <a:r>
              <a:rPr b="0" lang="hr-HR" sz="2000" spc="-1" strike="noStrike">
                <a:solidFill>
                  <a:srgbClr val="66ffff"/>
                </a:solidFill>
                <a:latin typeface="Arial"/>
              </a:rPr>
              <a:t>(CNE </a:t>
            </a:r>
            <a:r>
              <a:rPr b="0" lang="hr-HR" sz="20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66ffff"/>
                </a:solidFill>
                <a:latin typeface="Arial"/>
              </a:rPr>
              <a:t> AE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BDD-80DF-40F0-BCB9-76BBDB11155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0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1500"/>
                            </p:stCondLst>
                            <p:childTnLst>
                              <p:par>
                                <p:cTn id="8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4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500"/>
                            </p:stCondLst>
                            <p:childTnLst>
                              <p:par>
                                <p:cTn id="8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3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8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3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8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42920" y="981000"/>
            <a:ext cx="7632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Handbook 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as guideli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evidence-based proces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self-evaluation as a progress too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HEI to be aware of its strenghts and weakn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[QA principl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3000" spc="-1" strike="noStrike">
                <a:solidFill>
                  <a:srgbClr val="ff66ff"/>
                </a:solidFill>
                <a:latin typeface="Arial"/>
              </a:rPr>
              <a:t>To do it better, to make it conscious.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59640" y="4869000"/>
            <a:ext cx="1176120" cy="1665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0" y="0"/>
            <a:ext cx="77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France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institutional eval. </a:t>
            </a:r>
            <a:r>
              <a:rPr b="0" lang="hr-HR" sz="2000" spc="-1" strike="noStrike">
                <a:solidFill>
                  <a:srgbClr val="66ffff"/>
                </a:solidFill>
                <a:latin typeface="Arial"/>
              </a:rPr>
              <a:t>(CNE </a:t>
            </a:r>
            <a:r>
              <a:rPr b="0" lang="hr-HR" sz="2000" spc="-1" strike="noStrike">
                <a:solidFill>
                  <a:srgbClr val="66ffff"/>
                </a:solidFill>
                <a:latin typeface="Wingdings"/>
                <a:ea typeface="Wingdings"/>
              </a:rPr>
              <a:t></a:t>
            </a:r>
            <a:r>
              <a:rPr b="0" lang="hr-HR" sz="2000" spc="-1" strike="noStrike">
                <a:solidFill>
                  <a:srgbClr val="66ffff"/>
                </a:solidFill>
                <a:latin typeface="Arial"/>
              </a:rPr>
              <a:t> AER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138-41D2-4C3E-8B23-3E925E0A4E1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0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0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5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0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5" dur="500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0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4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8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8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15640" y="1484280"/>
            <a:ext cx="720108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EU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= European University Assoc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~ 800 members in 46 countr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conferences, projects, public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policy making rol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66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I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nstitutional </a:t>
            </a: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E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valuation </a:t>
            </a: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P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rogramme</a:t>
            </a:r>
            <a:br>
              <a:rPr sz="2600"/>
            </a:b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as a service to member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eua.be/eua/index.jsp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11592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EUA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IE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303640" cy="9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F24-4608-4094-9F5F-9248076DFCB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9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618920" y="1052640"/>
            <a:ext cx="72738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Launched in 1994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ver 150 univs evalu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ector-wide evaluation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too (from 2001 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ntentions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of EUA)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increase strategic capac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evelop internal quality cul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Methodolog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lf-evaluation + external </a:t>
            </a:r>
            <a:r>
              <a:rPr b="0" lang="hr-HR" sz="2400" spc="-1" strike="noStrike" u="sng">
                <a:solidFill>
                  <a:srgbClr val="66ffff"/>
                </a:solidFill>
                <a:uFillTx/>
                <a:latin typeface="Arial"/>
              </a:rPr>
              <a:t>peer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review (2 visi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External evaluation of IEP in 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Self-reflection of IEP in 2005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5920"/>
            <a:ext cx="774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EUA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Institutional Evaluation Programm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1D8F-A783-42BB-9C59-046FDBB6327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6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1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5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0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5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9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4" dur="500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9" dur="500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42920" y="1196640"/>
            <a:ext cx="7632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hilosoph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fitness for purpose (goals of the univ.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institution as a whole, strategic managemen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with possible other foci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emphasis on the self-evaluation phas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supportive yet critic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o criteria - </a:t>
            </a:r>
            <a:r>
              <a:rPr b="0" lang="hr-HR" sz="2800" spc="-1" strike="noStrike">
                <a:solidFill>
                  <a:srgbClr val="66ffff"/>
                </a:solidFill>
                <a:latin typeface="Arial"/>
              </a:rPr>
              <a:t>Four questions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inst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831600" cy="3618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0" y="11592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EUA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IE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9DBC-C2C7-4060-99C0-81FADAF2440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0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9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4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9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4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5780b"/>
                </a:solidFill>
                <a:latin typeface="Arial"/>
              </a:rPr>
              <a:t>I. About types of external Q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4898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The term “quality assurance” in this report includes processes such as </a:t>
            </a:r>
            <a:r>
              <a:rPr b="0" i="1" lang="hr-HR" sz="2600" spc="-1" strike="noStrike">
                <a:solidFill>
                  <a:srgbClr val="66ffff"/>
                </a:solidFill>
                <a:latin typeface="Arial"/>
              </a:rPr>
              <a:t>evaluation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hr-HR" sz="2600" spc="-1" strike="noStrike">
                <a:solidFill>
                  <a:srgbClr val="66ffff"/>
                </a:solidFill>
                <a:latin typeface="Arial"/>
              </a:rPr>
              <a:t>accreditation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hr-HR" sz="2600" spc="-1" strike="noStrike">
                <a:solidFill>
                  <a:srgbClr val="66ffff"/>
                </a:solidFill>
                <a:latin typeface="Arial"/>
              </a:rPr>
              <a:t>audit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hr-HR" sz="2100" spc="-1" strike="noStrike">
                <a:solidFill>
                  <a:srgbClr val="ffffff"/>
                </a:solidFill>
                <a:latin typeface="Arial"/>
              </a:rPr>
              <a:t>(ESG, p. 5.)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[External QA activities] 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  may involve </a:t>
            </a:r>
            <a:r>
              <a:rPr b="0" i="1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evaluation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hr-HR" sz="2600" spc="-1" strike="noStrike">
                <a:solidFill>
                  <a:srgbClr val="ff66ff"/>
                </a:solidFill>
                <a:latin typeface="Arial"/>
              </a:rPr>
              <a:t>review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audit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hr-HR" sz="2600" spc="-1" strike="noStrike">
                <a:solidFill>
                  <a:srgbClr val="ff66ff"/>
                </a:solidFill>
                <a:latin typeface="Arial"/>
              </a:rPr>
              <a:t>assessment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accreditation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 or other similar activities and should be part of the core functions of the agenc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ESG, Guidelines to standard 3.3, p. 24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+ </a:t>
            </a:r>
            <a:r>
              <a:rPr b="0" lang="hr-HR" sz="2600" spc="-1" strike="noStrike">
                <a:solidFill>
                  <a:srgbClr val="ff66ff"/>
                </a:solidFill>
                <a:latin typeface="Arial"/>
              </a:rPr>
              <a:t>benchmarking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28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8753-1341-4E3D-9ED0-99E2060843E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26920" y="1267920"/>
            <a:ext cx="712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he four quest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What is the institution trying to d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ow is the institution trying to do i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ow does the institution know it work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ow does the institution change in order to improv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 rot="5400000">
            <a:off x="5560560" y="927000"/>
            <a:ext cx="831600" cy="36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028000" y="1700280"/>
            <a:ext cx="9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ffff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ffff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ffff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66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508640"/>
            <a:ext cx="734544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Evaluation and recommendations by the team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Consistency: induction course + Guidelin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15920"/>
            <a:ext cx="38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EUA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IEP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2AC3-C70A-4865-B83D-4AD677510C3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00"/>
                            </p:stCondLst>
                            <p:childTnLst>
                              <p:par>
                                <p:cTn id="10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6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1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6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66ff"/>
                </a:solidFill>
                <a:latin typeface="Arial"/>
              </a:rPr>
              <a:t>NVAO, </a:t>
            </a:r>
            <a:r>
              <a:rPr b="0" i="1" lang="hr-HR" sz="2600" spc="-1" strike="noStrike">
                <a:solidFill>
                  <a:srgbClr val="ffffff"/>
                </a:solidFill>
                <a:latin typeface="Arial"/>
              </a:rPr>
              <a:t>Nederlands-Vlaamse Accreditatieorganisatie</a:t>
            </a:r>
            <a:r>
              <a:rPr b="0" lang="hr-HR" sz="2600" spc="-1" strike="noStrike">
                <a:solidFill>
                  <a:srgbClr val="ff66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ccreditation Organisation of The Netherlands and Flanders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www.nvao.nl</a:t>
            </a:r>
            <a:r>
              <a:rPr b="0" lang="hr-H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In operation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in this form)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since 2004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Major task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ccreditatio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of existing study program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validatio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of new study programmes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initial accr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3419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-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NVA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508720" y="189000"/>
            <a:ext cx="3168720" cy="6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28F-6C6F-4A71-9B08-E6D0114003C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1053" dur="indefinite" restart="never" nodeType="tmRoot">
          <p:childTnLst>
            <p:seq>
              <p:cTn id="1054" dur="indefinite" nodeType="mainSeq">
                <p:childTnLst>
                  <p:par>
                    <p:cTn id="1055" fill="hold">
                      <p:stCondLst>
                        <p:cond delay="0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3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8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3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fill="hold">
                            <p:stCondLst>
                              <p:cond delay="500"/>
                            </p:stCondLst>
                            <p:childTnLst>
                              <p:par>
                                <p:cTn id="10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7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2" dur="50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186920" y="907560"/>
            <a:ext cx="77043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The Dutch-Flemish speciality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99"/>
              </a:spcBef>
              <a:buClr>
                <a:srgbClr val="66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ssessing body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VBI / VAI)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  </a:t>
            </a:r>
            <a:r>
              <a:rPr b="1" lang="hr-HR" sz="3200" spc="-1" strike="noStrike">
                <a:solidFill>
                  <a:srgbClr val="66ffff"/>
                </a:solidFill>
                <a:latin typeface="Times New Roman"/>
              </a:rPr>
              <a:t>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ccrediting body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NVAO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+ recognition by the min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66ff"/>
                </a:solidFill>
                <a:latin typeface="Arial"/>
              </a:rPr>
              <a:t>Remember: accreditation ≠ licensing! </a:t>
            </a:r>
            <a:r>
              <a:rPr b="0" lang="hr-HR" sz="2200" spc="-1" strike="noStrike">
                <a:solidFill>
                  <a:srgbClr val="ff66ff"/>
                </a:solidFill>
                <a:latin typeface="Arial"/>
              </a:rPr>
              <a:t>(slide 7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Assessing bodies (VAIs) work within the limi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of the accreditation and validation </a:t>
            </a: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framework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made by NVAO, see next slid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NVAO assesses these bodies </a:t>
            </a:r>
            <a:r>
              <a:rPr b="0" lang="hr-HR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annual lis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7 VAIs in 2006, NL – VLIR and VLHORA, B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5920"/>
            <a:ext cx="82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NVAO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accreditation of exist. program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996-F491-485B-9C98-E92AFC0DFEF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9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4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9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9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4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7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1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6" dur="5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0" dur="500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hr-HR" sz="2800" spc="-1" strike="noStrike">
                <a:solidFill>
                  <a:srgbClr val="66ffff"/>
                </a:solidFill>
                <a:latin typeface="Arial"/>
              </a:rPr>
              <a:t>accreditation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66ffff"/>
                </a:solidFill>
                <a:latin typeface="Arial"/>
              </a:rPr>
              <a:t>frame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66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66ff"/>
                </a:solidFill>
                <a:latin typeface="Arial"/>
              </a:rPr>
              <a:t>assessment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framework, consisting of </a:t>
            </a:r>
            <a:r>
              <a:rPr b="0" i="1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subjects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facets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rules for </a:t>
            </a:r>
            <a:r>
              <a:rPr b="0" lang="hr-HR" sz="2600" spc="-1" strike="noStrike">
                <a:solidFill>
                  <a:srgbClr val="ff66ff"/>
                </a:solidFill>
                <a:latin typeface="Arial"/>
              </a:rPr>
              <a:t>accredit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criteria for assessment of the followed procedure and of the </a:t>
            </a:r>
            <a:r>
              <a:rPr b="0" lang="hr-HR" sz="2600" spc="-1" strike="noStrike">
                <a:solidFill>
                  <a:srgbClr val="ff66ff"/>
                </a:solidFill>
                <a:latin typeface="Arial"/>
              </a:rPr>
              <a:t>report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of the Visitating and Assessing Institution (VAI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a description of the </a:t>
            </a:r>
            <a:r>
              <a:rPr b="0" lang="hr-HR" sz="2600" spc="-1" strike="noStrike">
                <a:solidFill>
                  <a:srgbClr val="ff66ff"/>
                </a:solidFill>
                <a:latin typeface="Arial"/>
              </a:rPr>
              <a:t>procedure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used for accreditation of existing degree cour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96360" y="1989000"/>
            <a:ext cx="831600" cy="362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115920"/>
            <a:ext cx="82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NVAO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accreditation of exist. program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E94-FF5C-4723-A632-F01B1CCDCA6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0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2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7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2" dur="5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57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547640" y="1125360"/>
            <a:ext cx="7345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u-HU" sz="2800" spc="-1" strike="noStrike">
                <a:solidFill>
                  <a:srgbClr val="66ffff"/>
                </a:solidFill>
                <a:latin typeface="Arial"/>
              </a:rPr>
              <a:t>Assessment </a:t>
            </a:r>
            <a:r>
              <a:rPr b="0" lang="hu-HU" sz="2800" spc="-1" strike="noStrike" u="sng">
                <a:solidFill>
                  <a:srgbClr val="66ffff"/>
                </a:solidFill>
                <a:uFillTx/>
                <a:latin typeface="Arial"/>
              </a:rPr>
              <a:t>subjects</a:t>
            </a:r>
            <a:r>
              <a:rPr b="0" lang="hu-HU" sz="2800" spc="-1" strike="noStrike">
                <a:solidFill>
                  <a:srgbClr val="ff6600"/>
                </a:solidFill>
                <a:latin typeface="Arial"/>
              </a:rPr>
              <a:t>* </a:t>
            </a: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(„aspects of quality”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ims and objectives of the degree cou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gram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deployme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f st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cilities and prov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nal quality assu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3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facets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hr-HR" sz="2600" spc="-1" strike="noStrike" u="sng">
                <a:solidFill>
                  <a:srgbClr val="ffffff"/>
                </a:solidFill>
                <a:uFillTx/>
                <a:latin typeface="Arial"/>
              </a:rPr>
              <a:t>criteria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for each subject, as e.g. ..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see </a:t>
            </a:r>
            <a:r>
              <a:rPr b="0" lang="hr-HR" sz="2000" spc="-1" strike="noStrike">
                <a:solidFill>
                  <a:srgbClr val="ff66ff"/>
                </a:solidFill>
                <a:latin typeface="Arial"/>
              </a:rPr>
              <a:t>handout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 for “programme” facets and criteri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6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6600"/>
                </a:solidFill>
                <a:latin typeface="Arial"/>
              </a:rPr>
              <a:t>*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r-HR" sz="2000" spc="-1" strike="noStrike">
                <a:solidFill>
                  <a:srgbClr val="ffffff"/>
                </a:solidFill>
                <a:latin typeface="Arial"/>
              </a:rPr>
              <a:t>Not to be mixed with “subjects” taught at cours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31960" cy="361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115920"/>
            <a:ext cx="82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NVAO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accreditation of exist. program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797-9A90-426A-941E-053349155C7C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0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1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79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4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9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4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9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4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9" dur="5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4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7" dur="50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826560" y="907920"/>
            <a:ext cx="8317080" cy="48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Arial"/>
              </a:rPr>
              <a:t>Features of assessment (VAI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self-assessment by HE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four-point scal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as per each subject and fac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excellent, good, satisfactory, unsatisfactor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no quantitative criteri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except credit min.), [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hreshold!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internal QA expected on the programme leve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3 fac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report ends with a conclusive 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VAI report sent to NVAO by HEI, request for acc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NVAO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assesses the report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may request additional inf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600" spc="-1" strike="noStrike">
                <a:solidFill>
                  <a:srgbClr val="66ffff"/>
                </a:solidFill>
                <a:latin typeface="Arial"/>
              </a:rPr>
              <a:t>makes the </a:t>
            </a:r>
            <a:r>
              <a:rPr b="0" lang="hr-HR" sz="2800" spc="-1" strike="noStrike">
                <a:solidFill>
                  <a:srgbClr val="66ffff"/>
                </a:solidFill>
                <a:latin typeface="Arial"/>
              </a:rPr>
              <a:t>accreditation decision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for 6 year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115920"/>
            <a:ext cx="82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II. Examples – </a:t>
            </a:r>
            <a:r>
              <a:rPr b="0" lang="hr-HR" sz="2200" spc="-1" strike="noStrike" u="sng">
                <a:solidFill>
                  <a:srgbClr val="e5780b"/>
                </a:solidFill>
                <a:uFillTx/>
                <a:latin typeface="Arial"/>
              </a:rPr>
              <a:t>NVAO</a:t>
            </a: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, </a:t>
            </a:r>
            <a:r>
              <a:rPr b="0" lang="hr-HR" sz="2200" spc="-1" strike="noStrike">
                <a:solidFill>
                  <a:srgbClr val="66ffff"/>
                </a:solidFill>
                <a:latin typeface="Arial"/>
              </a:rPr>
              <a:t>accreditation of exist. programm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67F-943B-4B42-B2AD-CA69C5782BF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0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9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4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500"/>
                            </p:stCondLst>
                            <p:childTnLst>
                              <p:par>
                                <p:cTn id="1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8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8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3" dur="500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8" dur="500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3" dur="500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7" dur="500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050920" y="1268280"/>
            <a:ext cx="47246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6600"/>
                </a:solidFill>
                <a:latin typeface="Arial"/>
              </a:rPr>
              <a:t>T</a:t>
            </a:r>
            <a:r>
              <a:rPr b="0" lang="hr-HR" sz="4000" spc="-1" strike="noStrike">
                <a:solidFill>
                  <a:srgbClr val="ff6600"/>
                </a:solidFill>
                <a:latin typeface="Arial"/>
              </a:rPr>
              <a:t>hank you for your attention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7800" y="3645000"/>
            <a:ext cx="253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000" spc="-1" strike="noStrike">
                <a:solidFill>
                  <a:srgbClr val="66ffff"/>
                </a:solidFill>
                <a:latin typeface="Wingdings"/>
                <a:ea typeface="Wingdings"/>
              </a:rPr>
              <a:t></a:t>
            </a:r>
            <a:r>
              <a:rPr b="0" lang="hr-HR" sz="6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hr-HR" sz="6000" spc="-1" strike="noStrike">
                <a:solidFill>
                  <a:srgbClr val="66ffff"/>
                </a:solidFill>
                <a:latin typeface="Wingdings"/>
                <a:ea typeface="Wingdings"/>
              </a:rPr>
              <a:t></a:t>
            </a:r>
            <a:r>
              <a:rPr b="0" lang="hr-HR" sz="60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hr-HR" sz="6000" spc="-1" strike="noStrike">
                <a:solidFill>
                  <a:srgbClr val="66ffff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4005360"/>
            <a:ext cx="1604880" cy="19731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0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8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e5780b"/>
                </a:solidFill>
                <a:latin typeface="Arial"/>
              </a:rPr>
              <a:t>1. Evaluation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6985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ossible interpretatio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verarching term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includes all typ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hr-HR" sz="2600" spc="-1" strike="noStrike" u="sng">
                <a:solidFill>
                  <a:srgbClr val="ff66ff"/>
                </a:solidFill>
                <a:uFillTx/>
                <a:latin typeface="Arial"/>
              </a:rPr>
              <a:t>E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valuation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Narrow sense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special type of Q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hr-HR" sz="2600" spc="-1" strike="noStrike" u="sng">
                <a:solidFill>
                  <a:srgbClr val="ff66ff"/>
                </a:solidFill>
                <a:uFillTx/>
                <a:latin typeface="Arial"/>
              </a:rPr>
              <a:t>e</a:t>
            </a: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valuation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28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B69-7C60-4FA3-8E60-7A0A418AC6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86920" y="907560"/>
            <a:ext cx="7201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evaluatio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(of quality or standards) is the process of examining and passing a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judgment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on the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ppropriatenes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or leve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hr-HR" sz="2400" spc="-1" strike="noStrike" u="sng">
                <a:solidFill>
                  <a:srgbClr val="3366ff"/>
                </a:solidFill>
                <a:uFillTx/>
                <a:latin typeface="Arial"/>
                <a:hlinkClick r:id="rId1" action="ppaction://hlinksldjump"/>
              </a:rPr>
              <a:t>quality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lang="hr-HR" sz="2400" spc="-1" strike="noStrike" u="sng">
                <a:solidFill>
                  <a:srgbClr val="3366ff"/>
                </a:solidFill>
                <a:uFillTx/>
                <a:latin typeface="Arial"/>
                <a:hlinkClick r:id="rId2" action="ppaction://hlinksldjump"/>
              </a:rPr>
              <a:t>standards</a:t>
            </a: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2000" spc="-1" strike="noStrike" u="sng">
                <a:solidFill>
                  <a:srgbClr val="3366ff"/>
                </a:solidFill>
                <a:uFillTx/>
                <a:latin typeface="Arial"/>
                <a:hlinkClick r:id="rId3"/>
              </a:rPr>
              <a:t>www.qualityresearchinternational.com</a:t>
            </a:r>
            <a:r>
              <a:rPr b="0" lang="en-GB" sz="2000" spc="-1" strike="noStrike" u="sng">
                <a:solidFill>
                  <a:srgbClr val="3366ff"/>
                </a:solidFill>
                <a:uFillTx/>
                <a:latin typeface="Arial"/>
                <a:hlinkClick r:id="rId4"/>
              </a:rPr>
              <a:t>/glossary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 u="sng">
                <a:solidFill>
                  <a:srgbClr val="ffffff"/>
                </a:solidFill>
                <a:uFillTx/>
                <a:latin typeface="Arial"/>
              </a:rPr>
              <a:t>evaluatio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is systematic appraisal and highlighting of value or comparison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gainst objectives and targets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, and “measurement” of performance (assessment, as in quality assessment)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gainst set criteria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FINHEEC Audit Manual, p. 32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www.kka.fi/pdf/julkaisut/KKA_406.pd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28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6C5-FDEA-4AD9-8AF5-C53487A538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84836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e5780b"/>
                </a:solidFill>
                <a:latin typeface="Arial"/>
              </a:rPr>
              <a:t>2. Accreditation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268280"/>
            <a:ext cx="763272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The word ’accreditation’ (Lati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d + creder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) means to </a:t>
            </a:r>
            <a:r>
              <a:rPr b="0" i="1" lang="en-GB" sz="2400" spc="-1" strike="noStrike">
                <a:solidFill>
                  <a:srgbClr val="66ffff"/>
                </a:solidFill>
                <a:latin typeface="Arial"/>
              </a:rPr>
              <a:t>prove something creditable</a:t>
            </a:r>
            <a:r>
              <a:rPr b="0" i="1" lang="hr-HR" sz="24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66ffff"/>
                </a:solidFill>
                <a:latin typeface="Arial"/>
              </a:rPr>
              <a:t>and publicly acknowledge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its worth in </a:t>
            </a:r>
            <a:r>
              <a:rPr b="0" i="1" lang="en-GB" sz="2400" spc="-1" strike="noStrike">
                <a:solidFill>
                  <a:srgbClr val="66ffff"/>
                </a:solidFill>
                <a:latin typeface="Arial"/>
              </a:rPr>
              <a:t>relation to external criteria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ccreditation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usually refers either to an </a:t>
            </a:r>
            <a:r>
              <a:rPr b="0" i="1" lang="en-GB" sz="2400" spc="-1" strike="noStrike">
                <a:solidFill>
                  <a:srgbClr val="ff66ff"/>
                </a:solidFill>
                <a:latin typeface="Arial"/>
              </a:rPr>
              <a:t>official approval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of HEIs or their programmes </a:t>
            </a:r>
            <a:r>
              <a:rPr b="0" i="1" lang="en-GB" sz="2400" spc="-1" strike="noStrike">
                <a:solidFill>
                  <a:srgbClr val="ff66ff"/>
                </a:solidFill>
                <a:latin typeface="Arial"/>
              </a:rPr>
              <a:t>or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to the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warding of different </a:t>
            </a:r>
            <a:r>
              <a:rPr b="0" i="1" lang="en-GB" sz="2400" spc="-1" strike="noStrike">
                <a:solidFill>
                  <a:srgbClr val="ff66ff"/>
                </a:solidFill>
                <a:latin typeface="Arial"/>
              </a:rPr>
              <a:t>quality labels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to HEIs or their program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FINHEEC Audit Manual, p. 31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Arial"/>
              </a:rPr>
              <a:t>Problem with “official approval”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66ffff"/>
                </a:solidFill>
                <a:latin typeface="Arial"/>
              </a:rPr>
              <a:t>Accreditation  </a:t>
            </a:r>
            <a:r>
              <a:rPr b="0" lang="hr-HR" sz="3400" spc="-1" strike="noStrike">
                <a:solidFill>
                  <a:srgbClr val="66ffff"/>
                </a:solidFill>
                <a:latin typeface="Arial"/>
                <a:ea typeface="Arial"/>
              </a:rPr>
              <a:t>≠  licensing</a:t>
            </a:r>
            <a:r>
              <a:rPr b="0" lang="hr-HR" sz="3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24720" y="5157720"/>
            <a:ext cx="831960" cy="362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0"/>
            <a:ext cx="28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B416-0ECE-40E3-AA59-4554A356DFA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wipe dir="l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32000" y="1052640"/>
            <a:ext cx="741672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66ff"/>
                </a:solidFill>
                <a:latin typeface="Arial"/>
              </a:rPr>
              <a:t>Accreditation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in H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ttestation of quality, proving cred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y an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independent professional organis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66ff"/>
                </a:solidFill>
                <a:latin typeface="Arial"/>
              </a:rPr>
              <a:t>Licensing </a:t>
            </a:r>
            <a:r>
              <a:rPr b="0" lang="hr-HR" sz="2400" spc="-1" strike="noStrike">
                <a:solidFill>
                  <a:srgbClr val="ff66ff"/>
                </a:solidFill>
                <a:latin typeface="Arial"/>
              </a:rPr>
              <a:t>(official approva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Permission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for operation, administrative a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By relevant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stat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ffffff"/>
                </a:solidFill>
                <a:uFillTx/>
                <a:latin typeface="Arial"/>
              </a:rPr>
              <a:t>Croatia</a:t>
            </a: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1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Accreditation is considered as a legal proces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to “approve” institutions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OECD Country Report 200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50920" y="1125360"/>
            <a:ext cx="831600" cy="362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0"/>
            <a:ext cx="28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A5CF-F9D7-41CB-A824-9B9A4D251FA1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wipe dir="l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1341360"/>
            <a:ext cx="72738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Accreditation 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(as to ownershi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Nation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 (regional), public, oblig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Private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, internat. org., “label”, volunta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e.g. EQUIS + EPAS,  </a:t>
            </a:r>
            <a:r>
              <a:rPr b="0" lang="hr-HR" sz="2000" spc="-1" strike="noStrike" u="sng">
                <a:solidFill>
                  <a:srgbClr val="3366ff"/>
                </a:solidFill>
                <a:uFillTx/>
                <a:latin typeface="Arial"/>
                <a:hlinkClick r:id="rId1"/>
              </a:rPr>
              <a:t>www.efmd.org/</a:t>
            </a:r>
            <a:r>
              <a:rPr b="0" lang="hr-HR" sz="2000" spc="-1" strike="noStrike" u="sng">
                <a:solidFill>
                  <a:srgbClr val="3366ff"/>
                </a:solidFill>
                <a:uFillTx/>
                <a:latin typeface="Arial"/>
                <a:hlinkClick r:id="rId2"/>
              </a:rPr>
              <a:t>equ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40000"/>
              </a:lnSpc>
              <a:buClr>
                <a:srgbClr val="66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66ffff"/>
                </a:solidFill>
                <a:latin typeface="Arial"/>
              </a:rPr>
              <a:t>Self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-accreditation </a:t>
            </a:r>
            <a:r>
              <a:rPr b="0" lang="hr-HR" sz="2000" spc="-1" strike="noStrike">
                <a:solidFill>
                  <a:srgbClr val="ffffff"/>
                </a:solidFill>
                <a:latin typeface="Arial"/>
              </a:rPr>
              <a:t>(e.g. Sweden, beyond nation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History, trends  -  East and W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28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4B1-C563-4B7E-9F6A-4990AD43814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wipe dir="l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e5780b"/>
                </a:solidFill>
                <a:latin typeface="Arial"/>
              </a:rPr>
              <a:t>3. Audit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7848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Auditing is independent external evaluation to ascertain whether a </a:t>
            </a:r>
            <a:r>
              <a:rPr b="0" i="1" lang="hr-HR" sz="2400" spc="-1" strike="noStrike" u="sng">
                <a:solidFill>
                  <a:srgbClr val="66ffff"/>
                </a:solidFill>
                <a:uFillTx/>
                <a:latin typeface="Arial"/>
              </a:rPr>
              <a:t>QA system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 conforms to its stated objectives, is effective and fits its purpose. Auditing</a:t>
            </a:r>
            <a:r>
              <a:rPr b="0" i="1" lang="hr-HR" sz="2400" spc="-1" strike="noStrike">
                <a:solidFill>
                  <a:srgbClr val="66ffff"/>
                </a:solidFill>
                <a:latin typeface="Arial"/>
              </a:rPr>
              <a:t> does not address the objectives or the results of operations </a:t>
            </a:r>
            <a:r>
              <a:rPr b="0" i="1" lang="hr-HR" sz="2400" spc="-1" strike="noStrike">
                <a:solidFill>
                  <a:srgbClr val="ffffff"/>
                </a:solidFill>
                <a:latin typeface="Arial"/>
              </a:rPr>
              <a:t>as such but evaluates the processes that the HEI uses to manage and improve the quality of its education and other 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r-HR" sz="2200" spc="-1" strike="noStrike">
                <a:solidFill>
                  <a:srgbClr val="ffffff"/>
                </a:solidFill>
                <a:latin typeface="Arial"/>
              </a:rPr>
              <a:t>(FINHEEC Audit Manual, p. 31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hr-HR" sz="2400" spc="-1" strike="noStrike">
                <a:solidFill>
                  <a:srgbClr val="ff66ff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ff66ff"/>
                </a:solidFill>
                <a:latin typeface="Arial"/>
              </a:rPr>
              <a:t>Audit” is also used in a general sense, like “Evaluation”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2843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e5780b"/>
                </a:solidFill>
                <a:latin typeface="Arial"/>
              </a:rPr>
              <a:t>I. Types and foc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eminars for Croatian HEIs, Zagreb Tibor Szanto, CARDS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D236-FC51-4118-99CA-96C234086F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-31 May 2007</a:t>
            </a:r>
          </a:p>
        </p:txBody>
      </p:sp>
    </p:spTree>
  </p:cSld>
  <p:transition>
    <p:pull dir="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4T09:51:26Z</dcterms:created>
  <dc:creator>Tibor Szanto</dc:creator>
  <dc:description/>
  <dc:language>en-US</dc:language>
  <cp:lastModifiedBy>AZVO</cp:lastModifiedBy>
  <cp:lastPrinted>2003-02-25T09:42:14Z</cp:lastPrinted>
  <dcterms:modified xsi:type="dcterms:W3CDTF">2007-05-30T08:06:23Z</dcterms:modified>
  <cp:revision>397</cp:revision>
  <dc:subject/>
  <dc:title>Experience of European Countries in Conducting External Evaluation of HEIs</dc:title>
</cp:coreProperties>
</file>