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277C-0A93-4B98-A343-F9892BD1F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032-0703-499E-8946-AE769753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C1B0-A755-4ADA-BD83-B9A8A0B82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55C-B432-4C84-A86E-D8A761B4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714-F428-4C8E-B2B4-99F5213E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EA8-D0A3-492C-808F-AD5A799E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AE2-2813-4B9C-AA8A-36BC46F2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05B-40C4-4EDB-A008-CFAE6333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2D12-1F21-4055-9C51-E24E5287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2AB-4D2E-49CC-A81C-8F134ECD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0EAF-A6AD-467E-97E2-2EE0989D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E0F-A57B-4AE4-9E6E-304ED874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962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64000" y="6244920"/>
            <a:ext cx="3240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6000" y="6244920"/>
            <a:ext cx="1450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9CFF-BF7E-4A31-9690-090ACD3074B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08720" y="6165720"/>
            <a:ext cx="75564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0000"/>
                </a:solidFill>
                <a:latin typeface="Arial"/>
              </a:rPr>
              <a:t>Unutarnje osiguranje kvalite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ergij Gabršč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ARDS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Jačanje Agencije za znanost i visoko obrazova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u ulozi osiguranja kvalitete i razvoj prateće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nformacijskog sustava - QACHE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2E2C-F79F-4539-902E-427E323975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 je odgovoran za osiguranje kvalite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5760" y="1687680"/>
          <a:ext cx="8229240" cy="3514320"/>
        </p:xfrm>
        <a:graphic>
          <a:graphicData uri="http://schemas.openxmlformats.org/drawingml/2006/table">
            <a:tbl>
              <a:tblPr/>
              <a:tblGrid>
                <a:gridCol w="2057400"/>
                <a:gridCol w="2057040"/>
                <a:gridCol w="2057760"/>
                <a:gridCol w="2057040"/>
              </a:tblGrid>
              <a:tr h="15076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oji li na Vašoj ustanovi odjel i / ili povjerenstvo odgovorno za interno osiguranje kvalitete na ustanovi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j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jerenst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sob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osto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77AE-F85F-458E-9484-631D49BB9BF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Broj formalno uključe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1773360"/>
          <a:ext cx="7705800" cy="3776400"/>
        </p:xfrm>
        <a:graphic>
          <a:graphicData uri="http://schemas.openxmlformats.org/drawingml/2006/table">
            <a:tbl>
              <a:tblPr/>
              <a:tblGrid>
                <a:gridCol w="3236760"/>
                <a:gridCol w="2157480"/>
                <a:gridCol w="2311560"/>
              </a:tblGrid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o radno vrije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datni angaž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 djelatnika u odjelu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j odgovornih osoba u instituciji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C882-66E0-468D-92EE-3183F9229A8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ključenost stud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2549160"/>
        </p:xfrm>
        <a:graphic>
          <a:graphicData uri="http://schemas.openxmlformats.org/drawingml/2006/table">
            <a:tbl>
              <a:tblPr/>
              <a:tblGrid>
                <a:gridCol w="5945040"/>
                <a:gridCol w="1100160"/>
                <a:gridCol w="118440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u li predstavnici studenata uključeni u povjerenstvo za osiguranje kvalitete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C27-D8A0-48BF-B6E0-A07480FC77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QA sustavi u ustanov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11280" y="1268280"/>
          <a:ext cx="7846920" cy="2743200"/>
        </p:xfrm>
        <a:graphic>
          <a:graphicData uri="http://schemas.openxmlformats.org/drawingml/2006/table">
            <a:tbl>
              <a:tblPr/>
              <a:tblGrid>
                <a:gridCol w="2881080"/>
                <a:gridCol w="2880000"/>
                <a:gridCol w="2085840"/>
              </a:tblGrid>
              <a:tr h="947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oji li sustav osiguranja kvalitete na razini ustanove / fakultet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4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u pisanom obliku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u primjen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55640" y="4363920"/>
          <a:ext cx="7737480" cy="1673280"/>
        </p:xfrm>
        <a:graphic>
          <a:graphicData uri="http://schemas.openxmlformats.org/drawingml/2006/table">
            <a:tbl>
              <a:tblPr/>
              <a:tblGrid>
                <a:gridCol w="2521080"/>
                <a:gridCol w="2663640"/>
                <a:gridCol w="2552760"/>
              </a:tblGrid>
              <a:tr h="121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iramo uvesti takav su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ravo radimo na provedbi takvog sust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planiramo uspostaviti takav interni susta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A4E-3D6F-4CD1-996B-1CC0DBD0A16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SO standa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1280" y="1405080"/>
          <a:ext cx="7846920" cy="2166840"/>
        </p:xfrm>
        <a:graphic>
          <a:graphicData uri="http://schemas.openxmlformats.org/drawingml/2006/table">
            <a:tbl>
              <a:tblPr/>
              <a:tblGrid>
                <a:gridCol w="2016000"/>
                <a:gridCol w="2232000"/>
                <a:gridCol w="2305080"/>
                <a:gridCol w="129384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oliko imate interni sustav osiguranja kvalitete na čemu je temelje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Q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Q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11280" y="3789360"/>
          <a:ext cx="7848360" cy="2125800"/>
        </p:xfrm>
        <a:graphic>
          <a:graphicData uri="http://schemas.openxmlformats.org/drawingml/2006/table">
            <a:tbl>
              <a:tblPr/>
              <a:tblGrid>
                <a:gridCol w="5276880"/>
                <a:gridCol w="1452600"/>
                <a:gridCol w="1118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5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85680" indent="-856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oliko se radi o sustavu temeljenom na ISO standardu, je li provedena certifikacij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FA46-CE32-4785-BF1F-D32A00F2695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QA sustavi u institucij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5760" y="3429000"/>
          <a:ext cx="8234280" cy="2685960"/>
        </p:xfrm>
        <a:graphic>
          <a:graphicData uri="http://schemas.openxmlformats.org/drawingml/2006/table">
            <a:tbl>
              <a:tblPr/>
              <a:tblGrid>
                <a:gridCol w="2638440"/>
                <a:gridCol w="2016000"/>
                <a:gridCol w="3579840"/>
              </a:tblGrid>
              <a:tr h="947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te li provodili samo-evaluacije na razini ustanove/fakulteta?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1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š nism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mo, jednom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mo, više pu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1125360"/>
          <a:ext cx="7775280" cy="1462320"/>
        </p:xfrm>
        <a:graphic>
          <a:graphicData uri="http://schemas.openxmlformats.org/drawingml/2006/table">
            <a:tbl>
              <a:tblPr/>
              <a:tblGrid>
                <a:gridCol w="5616360"/>
                <a:gridCol w="1040040"/>
                <a:gridCol w="11188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te li provodili revizije programa s vanjskim recenzentim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8B6-43E0-4840-8661-570A81A6EF8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Sudjelovanje u aktivnostima iz područja osiguranja kvalite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49360" y="1846440"/>
          <a:ext cx="8045280" cy="3717720"/>
        </p:xfrm>
        <a:graphic>
          <a:graphicData uri="http://schemas.openxmlformats.org/drawingml/2006/table">
            <a:tbl>
              <a:tblPr/>
              <a:tblGrid>
                <a:gridCol w="3019320"/>
                <a:gridCol w="1419120"/>
                <a:gridCol w="1457280"/>
                <a:gridCol w="214956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te li sudjelovali u aktivnostima  iz područja osiguranja kvalitet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9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jedn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više put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astanci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seminari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 radionica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75E-7D7E-4767-B83A-4391E6D3DBC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Analize potreb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549360" y="1484280"/>
          <a:ext cx="8045280" cy="4641840"/>
        </p:xfrm>
        <a:graphic>
          <a:graphicData uri="http://schemas.openxmlformats.org/drawingml/2006/table">
            <a:tbl>
              <a:tblPr/>
              <a:tblGrid>
                <a:gridCol w="3019320"/>
                <a:gridCol w="1419120"/>
                <a:gridCol w="1457280"/>
                <a:gridCol w="214956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te li do sada provodili 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e potreb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 razini ustanove / fakultet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13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jedn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više puta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nastavnici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studenti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bivšim studentima (alumni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interesno-utjecajnim skupinam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: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A9C0-ABC5-4885-964D-844B2C10AC3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Analize potr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229600" cy="2549160"/>
        </p:xfrm>
        <a:graphic>
          <a:graphicData uri="http://schemas.openxmlformats.org/drawingml/2006/table">
            <a:tbl>
              <a:tblPr/>
              <a:tblGrid>
                <a:gridCol w="5945040"/>
                <a:gridCol w="1100160"/>
                <a:gridCol w="118440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5760" indent="-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oliko da, jeste li potom proveli neke mjere temeljene na rezultatima istraživanj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0F7E-378E-4627-8C0F-0C137AD69F6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Istraživanje zadovoljst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549360" y="1484280"/>
          <a:ext cx="8045280" cy="4673520"/>
        </p:xfrm>
        <a:graphic>
          <a:graphicData uri="http://schemas.openxmlformats.org/drawingml/2006/table">
            <a:tbl>
              <a:tblPr/>
              <a:tblGrid>
                <a:gridCol w="3019320"/>
                <a:gridCol w="1419120"/>
                <a:gridCol w="1457280"/>
                <a:gridCol w="2149560"/>
              </a:tblGrid>
              <a:tr h="947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te li do sada provodili 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aživanje zadovoljstv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a razini ustanove / fakultet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jedno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, više put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nastavnici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studentim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bivšim studentima (alumni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đu interesno-utjecajnim skupinam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o: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D9CE-4797-4C0F-ABCD-E3027E71B01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. Projekt CARDS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5204-FFE3-4F64-8464-0465765FEA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692280"/>
          <a:ext cx="7848360" cy="5257800"/>
        </p:xfrm>
        <a:graphic>
          <a:graphicData uri="http://schemas.openxmlformats.org/drawingml/2006/table">
            <a:tbl>
              <a:tblPr/>
              <a:tblGrid>
                <a:gridCol w="2879640"/>
                <a:gridCol w="4968720"/>
              </a:tblGrid>
              <a:tr h="1334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ljevi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traživanj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ratna informacija za proces učenja i poučavanja (različiti aspekti – komunikacija sa učiteljima, zadovoljstvo sa predmetima, prolaznost na ispitim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ni uvjeti za učite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zultati i posljedice</a:t>
                      </a: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traživanja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vratna informacija za učitel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oljšanje ili reorganizacija nastavnog proce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oljšanje u infrastrukturi i organizaci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195-BD3E-4605-B52B-E057FEF783E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Metode poboljš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2549160"/>
        </p:xfrm>
        <a:graphic>
          <a:graphicData uri="http://schemas.openxmlformats.org/drawingml/2006/table">
            <a:tbl>
              <a:tblPr/>
              <a:tblGrid>
                <a:gridCol w="5945040"/>
                <a:gridCol w="1100160"/>
                <a:gridCol w="1184400"/>
              </a:tblGrid>
              <a:tr h="88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8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85760" indent="-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odite li metode poboljšanja kvalitete na razini ustanove / fakulteta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B43-76AE-4449-8FF6-B553C23F953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692280"/>
          <a:ext cx="7848360" cy="514656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je metode ste do sada primijenili?</a:t>
                      </a: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dišnja izvješć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ješća studentskog zbo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ske anke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o-anal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ođenje novih metoda nast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jentacijsko-motivacijske radion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501E-E0DC-46B6-9537-EA977979AEC6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11280" y="692280"/>
          <a:ext cx="7848360" cy="533232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5760" indent="-18576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je vrste mjera ste poduzimali za poboljšanje kvalitete podučavanja i učenja na razini ustanove / fakulteta?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boljšanje infrastrukture (prostora i oprem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tvo studenti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ođenje novih oblika poučavan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itnici, interviju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 za nastavnike i nastavno osobl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ćenje proces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ođenje novih tehnolog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2D82-7C92-45BC-A0C9-E0B70242646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skustva usta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68360" y="1341360"/>
          <a:ext cx="8218440" cy="467208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zitivna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ćina iskustava pozitivni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parentno sagledavanje stvarnog stanja, prednosti i nedostataka sustava što omogućava pravovremenu i učinkovitu reakciju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a pažnja koja se kvaliteti pridaje utječe na povećano zalaganje (samokontro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F62-795C-47B2-A522-9EEFE1A4F6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skustva usta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68360" y="1341360"/>
          <a:ext cx="8218440" cy="467208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teškoć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opterećenost nastavn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jska pitanj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ostojanje standarda i iskustva provođenja samo-evaluacijskih postup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inuirani proces - velika postignuća nisu moguća u kratkom vreme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8B0-344E-4CE1-A732-7DB38BBF859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skustva ustan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1341360"/>
          <a:ext cx="8218440" cy="4214880"/>
        </p:xfrm>
        <a:graphic>
          <a:graphicData uri="http://schemas.openxmlformats.org/drawingml/2006/table">
            <a:tbl>
              <a:tblPr/>
              <a:tblGrid>
                <a:gridCol w="82184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85680" indent="-8568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o biste savjetovali onim ustanovama koje još nisu uvele interni sustav osiguranja kvalitet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vesti što prije - pomoći će im u radu; postaviti realne ciljeve, odabrati najprimjereniju met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v se razvija postupno ali se mora držati kontinuitet i sustavno dorađivati sustav nast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6552-DDD2-4712-9EE2-A3C1118009A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Potrebna pomo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9640" y="1341360"/>
          <a:ext cx="8147160" cy="4903920"/>
        </p:xfrm>
        <a:graphic>
          <a:graphicData uri="http://schemas.openxmlformats.org/drawingml/2006/table">
            <a:tbl>
              <a:tblPr/>
              <a:tblGrid>
                <a:gridCol w="5581800"/>
                <a:gridCol w="2565360"/>
              </a:tblGrid>
              <a:tr h="13737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kvu vrstu pomoći najviše trebate pri uspostavi i primjeni internog sustava osiguranja kvalitete?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ni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sane dokumen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mene informaci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ning, tečajeve i semin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ravno savjetovanje stručnja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stranice, internetska platfor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14D3-3FA6-4762-9B7C-CF59AD817C1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Želje i interesi vezani uz područja mogućih seminara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11280" y="1341360"/>
          <a:ext cx="8075520" cy="5113440"/>
        </p:xfrm>
        <a:graphic>
          <a:graphicData uri="http://schemas.openxmlformats.org/drawingml/2006/table">
            <a:tbl>
              <a:tblPr/>
              <a:tblGrid>
                <a:gridCol w="291960"/>
                <a:gridCol w="5935680"/>
                <a:gridCol w="353880"/>
                <a:gridCol w="354240"/>
                <a:gridCol w="565200"/>
                <a:gridCol w="574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niranje organizacija i izvještavanje o evaluacijama i plan akcija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zajn kurikuluma i evaluacija progra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ode samoprocjene institucija, studentskih procjena i certifikaci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zajniranje i izrada evaluacija i instrumenata povratnih inform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pravljanje programom, praćenje razvoja studijskih programa i njihova povremena evalua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teško planiranje, razvoj institucije i metode samoprocjene instituc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varanje i korištenje informacija za osiguranje kvalitete (uključujući i informacijske sustav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F78A-C56F-44FA-AEB0-5657DD0DB0D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II. Europski standardi i smjernice za unutarnje osiguranje kvalitete u institucijama visokog obrazo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C89E-A158-44AB-B576-F6C079797AA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Cilj projek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movirati reformu visokog obrazovanja u Republici Hrvatskoj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užanjem podrške razvo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cesa, procedura, sustava i struktura osiguranja kvalitet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 hrvatskom visokom obrazovanju koji će potaknuti i uspostaviti kvalitetu visokog obrazovanja pruženu studentim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užanjem podršk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voju i provedbi informacijskog susta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 tako da se isti može koristiti za pouzdano unošenje podataka i analizu procesa osiguranja kvalitete i upravljanja kvalite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5C55-B556-4241-AD44-8C0B1DC691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Uvod u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mjernice </a:t>
            </a:r>
            <a:r>
              <a:rPr b="1" lang="sl-SI" sz="3200" spc="-1" strike="noStrike">
                <a:solidFill>
                  <a:srgbClr val="000000"/>
                </a:solidFill>
                <a:latin typeface="Arial"/>
              </a:rPr>
              <a:t>(ES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ndat je bio izradi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govoreni niz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tandarda, postupaka i smjernic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za osiguranje kvalitete,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način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kojima se osigurava odgovarajući sustav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ovjer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- „peer evaluation“ agencija za osiguranje kvalitete i/ili akredit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E8BA-B51D-4515-87C7-CEB23FD3E38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lavni rezultati i preporu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radit će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europski standard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za unutarnje i vanjsko osiguranje kvalitete, te za agencije za vanjsko osiguranje kvalit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d europskih će se agencija za osiguranje kvalitete očekivati da se podvrgnu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periodičkoj provjer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u razdobljima ne dužim od pet god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Naglasak će biti na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subsidijarnosti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, a provjera će se provoditi nacionalno tamo gdje je to moguć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Izradit će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europski registar agencija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za osiguranje kvalite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Europski odbor za registraciju provjeravat će uključivanje agencija u regist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Osnovat će se </a:t>
            </a:r>
            <a:r>
              <a:rPr b="1" lang="hr-HR" sz="2200" spc="-1" strike="noStrike">
                <a:solidFill>
                  <a:srgbClr val="000000"/>
                </a:solidFill>
                <a:latin typeface="Arial"/>
              </a:rPr>
              <a:t>europski konzultativni forum</a:t>
            </a:r>
            <a:r>
              <a:rPr b="0" lang="hr-HR" sz="2200" spc="-1" strike="noStrike">
                <a:solidFill>
                  <a:srgbClr val="000000"/>
                </a:solidFill>
                <a:latin typeface="Arial"/>
              </a:rPr>
              <a:t> za osiguranje kvalitete u visokom obrazovanj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9D85-8F17-475A-9DCB-0EC8559716F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ticati zainteresiranost studenata i poslodavac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ao i društva u cjelini, za  podizanje kvalitete visokog obrazovanj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nstitucionalne samostalnosti- autonomija sveučilišta koja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donosi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zbiljne odgovornos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 Prva odgovornost institucija koje pružaju visoko obrazovanje jest kvaliteta njihove usluge i osiguranje te kvalitet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treba z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vanjskim osiguranjem kvalitet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oje mora odgovarati svojoj svrsi i koje mora institucijama nametati samo onoliko opterećenja koliko je prikladno i potrebno za ostvarivanje njihovih ciljev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B61-4AE3-4539-AB0E-1299F1EC9A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valiteta akademskih program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mora biti izrađena i poboljšana za studente i ostale korisnike visokog obrazovanja u Europskom području visokog obrazovanj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trebne su djelotvorne i valjane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organizacijske struktur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unutar kojih se ovi akademski programi mogu provoditi i podržavati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u procesima osiguranja kvalitete važni su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transparentnos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orištenje vanjske stručnos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nstitucije visokog obrazovanja trebaju ohrabrivati razvoj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kulture kvalitet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04F-05EE-438A-A876-6B6883370D1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č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otrebno je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izraditi proces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kroz koje institucije visokog obrazovanja mogu pokazati svoju odgovornost, uključujući odgovornost za ulaganje državnog i privatnog novc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osiguranje kvalitete za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potrebe odgovornosti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 u potpunosti je kompatibilno s osiguranjem kvalitete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za potrebe poboljšanja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nstitucije bi trebale pokazati svoju kvalitetu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u zemlji i inozemstvu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ocesi koji se koriste ne bi smjeli sprječavati </a:t>
            </a:r>
            <a:r>
              <a:rPr b="1" lang="hr-HR" sz="2600" spc="-1" strike="noStrike">
                <a:solidFill>
                  <a:srgbClr val="000000"/>
                </a:solidFill>
                <a:latin typeface="Arial"/>
              </a:rPr>
              <a:t>raznolikost i inovativnost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40CC-5659-4AA4-9ED1-601859EDDC9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nutarnje osigur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litike i postupci za osiguranje kvalit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dobrenje, nadziranje i periodični pregled programa i kvalifik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cjenjivanje stud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Osiguranje kvalitete nastavničkog ka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zvori za učenje i pomoć student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nformacijski susta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Javno informir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328-FD4A-456F-A891-A30E771E1BD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 Politika i postupci za osiguranje kvalit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stitucije bi trebale ima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litik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njoj pridružene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postupk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za osiguranje kvalitete i standarde za svoje programe i kvalifik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stitucije bi se izričito trebale posveti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razvijanju kultur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koja priznaje važnost kvalitete i osiguranja kvalitete u svojem rad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Ka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stitucije bi trebale izraditi i provodi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strategij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za stalno jačanje kvalite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ategija, politika i postupci bi trebali imat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formalni status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biti javno dostupn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ne bi trebale uključivati i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ulogu studenat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 ostalih zainteresiranih st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10A1-2982-4987-969F-D34432CE2A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 Politika i postupci za osiguranje kvalitet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zjave o politici/politikama institucije trebaju uključi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odnose između nastave i istraživanje u institucij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strategiju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institucije za kvalitetu i standar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organizaciju sustav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za osiguranje kvalit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odgovornosti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odjela, škola, fakulteta i ostalih organizacijskih jedinica i pojedinaca za osiguranje kvalit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uključenje studenat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u osiguranje kvalite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načine na koje će se politika provoditi, pratiti i revidi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B0E7-68D5-4B4A-885F-E479BF1EB28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1. Politika i postupci za osiguranje kvalitete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nstitucija bi trebala na svim razinama osigurati da: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njezini programi imaju predviđene jasne i izričite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ish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je njezino osoblje spremno, voljno i sposobno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osigurati nastavu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 i pomoć učenju koji će pomoći njezinim studentima da ostvare te rezultate;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onim članovima njezinog osoblja koji pokažu izvrsnost, stručnost i predanost takav doprinos radu institucije bude u potpunosti, pravovremeno i opipljivo priz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ve bi institucije visokog obrazovanja trebale težiti ka 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oboljšaju i unapređenju obrazovanj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koje nude svojim studen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6896-72FA-4990-A033-014525B5B2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Odobrenje, nadziranje i periodično vrednovanje programa i kvalifikacij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itucije bi trebale imati formalne mehanizme 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obrava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iodične provjer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ćen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ojih programa i kvalifikac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D317-72D4-4DB2-9D68-7DCEBAED85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0000"/>
                </a:solidFill>
                <a:latin typeface="Arial"/>
              </a:rPr>
              <a:t>Nacionalna shema osiguranja kvalitete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ina politike poslovanja koja utvrđuje opća pravila i smjernice za sustav kvalitete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litika kvalite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rganizacijska razina koja razvija pokazatelje i druge standarde te uspostavlja procedure za proces kontrole kvalitete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kontrola kvalite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;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vršna razina koja prenosi te odredbe u operativni sustav njihove institucije (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pravljanje kvalitetom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33EC-1EAD-45E1-85DC-AF88A6A988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Odobrenje, nadziranje i periodično vrednovanje programa i kvalifikacija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Očekuje se da osiguranje kvalitete programa i kvalifikacija uključuj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izradu i objavljivanje izričitih predviđenih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ishoda učenja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zornost posvećenu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izradi i sadržaju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nastavnog plana i program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posebne potrebe za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različite načine provođenja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(na primjer, redovno, izvanredno, učenje na daljinu, e-učenje) i vrste visokog obrazovanja (na primjer, akademsko, strukovno, stručno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dostupnost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odgovarajućih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resursa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za učenj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C14-EB72-4958-9F85-0C4E60D455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2. Odobrenje, nadziranje i periodično vrednovanje programa i kvalifikacija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formalni postupci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 odobravanja programa – nezavisno tijelo koje ne sudjeluje u izvođenju pr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raćenj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napretka i postignuća studen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redovn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eriodična provjera program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(nastavna vijeća i nacionalno vijeće za visoko obrazovanj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redovne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ovratne informacij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poslodavaca, predstavnika tržišta rada i ostalih važnih organiza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sudjelovanje studenat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u aktivnostima osiguranja kvalit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D46-54CA-4165-ACD9-FEE435E5C3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jivanje stud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udente bi trebalo ocjenjivati pomoću objavlje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riter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pisa 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up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oji se dosljedno primjenju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Važno je da se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ocjenjivanj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u svakom trenutku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rovodi stručno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i da uzima u obzir opsežno znanje koje postoji o postupcima testiranja i ispitivanja. Ocjenjivanje pruža institucijama vrijedne informacije o učinkovitosti nastave i pomoći uče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F45-1F52-4C8C-B337-3C53C2652AE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jivanje studenat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Od postupaka za ocjenjivanje studenata očekuje se 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budu izrađeni za mjerenje ostvarenja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predviđenih ishoda učenja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i ostalih ciljeva pr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odgovaraju svrsi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, bila ona dijagnostičkog, oblikovnog ili završnog karakt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maju </a:t>
            </a:r>
            <a:r>
              <a:rPr b="1" i="1" lang="hr-HR" sz="2400" spc="-1" strike="noStrike">
                <a:solidFill>
                  <a:srgbClr val="000000"/>
                </a:solidFill>
                <a:latin typeface="Arial"/>
              </a:rPr>
              <a:t>jasne i objavljene kriterije</a:t>
            </a: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 za ocjenjivan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ih provode ljudi koji razumiju ulogu ocjenjivanja u napretku studenata prema ostvarenju znanja i vještina koje su povezane s predviđenom kvalifikacijo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se ne oslanja na mišljenje samo jednog ispitivača, gdje je to moguć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1B4-C2F2-4363-893E-E52EB1DA24D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jivanje studenata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uzima u obzir sve moguć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osljedice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propisa o ocjenjivanj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ma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jasne propise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koji obuhvaćaju odsutnost studenta, bolest i ostale olakšavajuće okolnost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siguravaju da s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ocjenjivanje provodi sigurno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, u skladu s određenim postupcima instituc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vise o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administrativnim provjerama dokaz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kako bi se osigurala točnost postupa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3E4C-CCCD-4D45-A59A-43EE06A8074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cjenjivanje studenata 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red toga, studenti bi jasno trebali biti obaviješteni o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strategiji ocjenjivanj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koja se koristi za njihov program, kojim će ispitima ili drugim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metodama ocjenjivanj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biti podvrgnuti, te o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kriterijim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koji će se koristiti prilikom ocjenjivanja njihove uspješ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60A-76A0-43B2-972E-5F50218E976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 Osiguranje kvalitete nastavnog osobl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itucije bi trebale izraditi sustav provjer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kvalificiranosti i sposobnost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soblja koje sudjeluje u poučavanju studenat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stav bi trebao bi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dostupan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vima koji provode vanjsku provje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684-D518-49A1-8FD6-BDD5229524E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 Osiguranje kvalitete nastavnog osoblja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Važnost nastavnika u procesu poučavan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Važno je da oni koji podučavaju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u potpunosti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znaju i razumiju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predmet koji poučavaju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imaju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potrebne vještine i iskustvo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za učinkovito prenošenje znanja i vještina  studentima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mogu doći do </a:t>
            </a:r>
            <a:r>
              <a:rPr b="1" i="1" lang="hr-HR" sz="2600" spc="-1" strike="noStrike">
                <a:solidFill>
                  <a:srgbClr val="000000"/>
                </a:solidFill>
                <a:latin typeface="Arial"/>
              </a:rPr>
              <a:t>povratne informacije</a:t>
            </a:r>
            <a:r>
              <a:rPr b="0" i="1" lang="hr-HR" sz="2600" spc="-1" strike="noStrike">
                <a:solidFill>
                  <a:srgbClr val="000000"/>
                </a:solidFill>
                <a:latin typeface="Arial"/>
              </a:rPr>
              <a:t> o uspješnosti vlastitog poučavanj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B4CD-BD33-460C-8738-D22C86570EE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 Osiguranje kvalitete nastavnog osoblja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stitucije bi trebale osigurati postupke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odabira i imenovanje nastavnik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koji uključuju načine provjere zadovoljavanja minimalnih uvjeta za odabir nastavni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Nastavnom osoblju treba omogućiti neprestani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razvoj i usavršavanje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vlastitih nastavnih sposobnos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9B69-CC67-40C3-B5D4-11698A28FC4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4. Osiguranje kvalitete nastavnog osoblja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stitucije trebaju omogućiti lošim nastavnicima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oboljšanje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njihovih nastavnih vještina do prihvatljive razi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stitucije trebaju izraditi mehanizme za smjenjivanje nastavnika koji ne ispunjavaju minimalne uvjete (Rektorski zbor) i za postupak otkazivanja ugovora o ra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B88-B30F-43A7-97BD-1B7224F059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Komponente projek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ponenta 1: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odrška Agenciji za znanost i visoko obrazov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cionalnom vijeću za visoko obrazovanj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ponenta 2: podrška uspostav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nacionalne mreže za osiguranje kvalitete u visokom obrazovan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te razvoj osiguranja kvalitete u ustanovama visokog obrazovanja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mponenta 3: podrška razvoju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upravljačkog informacijskog sustav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za visoko obrazovan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B983-E167-4E5A-BC6A-799F6A97E6F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Resursi za učenje i pomoć studentima</a:t>
            </a: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itucije bi trebale osigurati  resurse potrebne studentima u procesu učenja koji 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mjereni 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klad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svaki ponuđeni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081-980B-48A4-B00D-2250D895097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Resursi za učenje i pomoć studentima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Pored nastavnika, studenti se oslanjaju i na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niz resurs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koji im pomažu u učenju:- 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fizičkih sredstav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(knjižnice, računa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-stručnu pomoć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(mentori, savjetnici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Resursi za učenje moraju biti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dostupni studentim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, izrađeni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rema njihovim potrebama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s mogućnošću  prilagodbe prema povratnim informacijama korisnik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D91-ED50-44CA-8C7E-EC12B6D526F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5. Resursi za učenje i pomoć studentima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stitucije bi trebale redovno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pratiti, provjeravati i poboljšavati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 učinkovitost pomoćnih služb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EDB-1D7A-4847-BF6F-72F3FBE665E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6. Informacijski susta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itucije trebaju osigurati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prikupljanje, analiziranje i korište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odgovarajućih informacija z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učinkovito upravljan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tudijskim programima  i ostalim aktivnost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02B-0D92-452A-95E0-8289DADE357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6. Informacijski sustavi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stitucionalno samovrednovanje predstavlja početnu točku za učinkovito osiguranje kvalite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Važno je da institucije izgrade sustav  za prikupljanje i analizu informacija vlastitih aktivnosti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02EB-D66B-45F8-9C0A-F8A80927F5C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6. Informacijski sustavi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Informacijski sustavi koji se odnose na kvalitetu trebaju obuhvać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napredak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studenata i stope uspjeh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mogućnost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zapošljavanj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diplomac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zadovoljstvo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studenata njihovim programim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učinkovitost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nastavni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rofil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studentske populaci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dostupnost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resurs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za učen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ključn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okazatelje učinkovitosti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instituci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5E81-ED59-440F-ACB5-7D1E5DD27F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Javno informir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nstitucije bi trebale redovno objavljiv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6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jnov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6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pristra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6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jekti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6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ntitativ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-64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valitativn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5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ormaci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 programima i kvalifikacijama koje nu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67C5-4B88-4ADA-B251-0044725D1F1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Javno informiranj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U ispunjavanju svoje javne uloge, institucije visokog obrazovanja imaju odgovornost osigurati informaci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rogramima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koje nud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predviđene </a:t>
            </a: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ishode učenja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kvalifikacije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koje dodjeljuju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postupke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izvođenja nastave, učenja i ocjenjivanja koji se korist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0000"/>
                </a:solidFill>
                <a:latin typeface="Arial"/>
              </a:rPr>
              <a:t>mogućnosti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</a:rPr>
              <a:t> za učenje koje su na raspolaganju njihovim studenti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807-EB83-4BFB-932C-A544EF7B2EE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7. Javno informiranj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bjavljene informacije mogu uključiti mišljenja i iskustva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bivših studenata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o mogućnostima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zapošljavan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r-HR" sz="3200" spc="-1" strike="noStrike">
                <a:solidFill>
                  <a:srgbClr val="000000"/>
                </a:solidFill>
                <a:latin typeface="Arial"/>
              </a:rPr>
              <a:t>Informacije trebaju biti </a:t>
            </a:r>
            <a:r>
              <a:rPr b="1" i="1" lang="hr-HR" sz="3200" spc="-1" strike="noStrike">
                <a:solidFill>
                  <a:srgbClr val="000000"/>
                </a:solidFill>
                <a:latin typeface="Arial"/>
              </a:rPr>
              <a:t>točne, nepristrane, objektivne i dostup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448-DC37-417E-8BEA-434DD20DE3C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457200" y="1600200"/>
          <a:ext cx="8229600" cy="41068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KSTERNALIZIR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ospekti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ti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eobuhvat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rivanje probl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ještavanje probl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oškov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kladnos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IZIRA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gled unaprij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erij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kusirano i selektiv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znavan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ješavanje probl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i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• 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ažira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CF00-0DDB-431D-8505-338EBC4D6F43}" type="slidenum">
              <a:t>5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0000"/>
                </a:solidFill>
                <a:latin typeface="Arial"/>
              </a:rPr>
              <a:t>Aktivnosti u projektu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 politike osiguranj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 Agencije za znanost i visoko obrazovanje u ulozi osiguranj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 Nacionalne mreže za osiguranje kvalitete u visokom obraz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azvoj informacijskog sustava u svezi osiguranja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3524-3B41-4045-96EF-2987899FED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Razvoj Nacionalne mreže za osiguranje kvalitete u visokom obraz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egled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aks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siguranja kvalitete u ustanovama visokog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avjetovanje, mentorsko vođenje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pomoć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u uspostavi Sustava i jedinica osiguranja kvalitete pri ustanovama visokog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eminar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strateškom planiranju, izradi nastavnog programa, kvaliteti poučavanja i ocjenjivanju studenata, upravljanje programom, institucionalna samo-evaluacija i vanjske evaluacije instituci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D2C-0E7D-40E5-824F-3889D26255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II. Upitnik za ustanove visokog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2E72-148A-43B9-93CF-D7334089F5E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pitnik poslan na 103 ustanove visokog obraz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dgovorilo 48 ustano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veučilišta: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oka učilišta: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Visoke škole: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rgij Gabršček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24C5-EB2E-4202-89FB-D92EB52B92B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minar: Unutarnje osiguranje kvalitete, Zagreb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6T11:15:13Z</dcterms:created>
  <dc:creator>Sergij</dc:creator>
  <dc:description/>
  <dc:language>en-US</dc:language>
  <cp:lastModifiedBy>vpetrovic</cp:lastModifiedBy>
  <dcterms:modified xsi:type="dcterms:W3CDTF">2007-06-18T10:00:19Z</dcterms:modified>
  <cp:revision>81</cp:revision>
  <dc:subject/>
  <dc:title>Slide 1</dc:title>
</cp:coreProperties>
</file>