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9FB2-D843-4A99-A8A3-2C3CDBEC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D2ED-1FCB-47A0-8F17-87394070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C0A8-244B-4976-9A4A-63E797F0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B022-4973-4953-B391-2A81A2A9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F9FF-25B9-431D-A81A-613B7292F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B4044-E393-4DBC-AC4F-EB62F073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3DD5-3748-41A9-A1AE-5A192EF5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8692-CC85-439E-BE1B-AAF1B86B5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9F4D-804A-4E64-BBC4-E98DD36D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D44B-484A-4723-9C4E-D84B8E7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8094-51AC-4092-92CF-43F83436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3C3-613D-4C5F-811A-CBBA2562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954-4C9E-4FBB-B052-4FBDF54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BE43-0FC3-4490-A77C-0DF7129E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8830-A9C3-4710-8C49-3418261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385D-0C25-4B07-BECC-B8A28FF4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C0D5-FB74-40E1-AFD0-1CC5824F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4869-E8CB-458D-BE0B-95D73FD6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8C8-2605-44F9-A762-C8F2977B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D5C4-EB0C-4251-8F1B-10F3AA58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9365-B421-41C5-8F51-ACE97908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711-3CC0-4DF9-811D-DB7BA697D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0AD1-41F2-4A3C-A015-6D42B85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C57C-3B67-4D0D-BCC9-BC8BDB1B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AA0D-60E4-48B3-A374-B8CFF79BE4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19FC-96DC-4BE9-91EF-0D840B7C2B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84692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UNUTARNJE VREDNOVANJE SUSTAVA OSIGURANJA KVALITETE VISOKIH UČILIŠTA U REPUBLICI HRVATSKOJ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32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cija za znanost i visoko obrazovan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jel za osiguranje kvalit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w.azvo.h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kupljanje i analiziranje podataka na nacionalnom nivou relevantnih za sustav znanosti i visokog obrazovan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trojavanje nacionalnog informatičkog cent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žanje informacija o kvaliteti visokog obrazovanja i akademskoj mobilnosti svim partnerima i javnosti, uključujući redovne disciplinarne ili sektorske analiz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ćenje međunarodnog razvoja; međunarodno umrežavanje/povezi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prema radova za raspravu; prijedlozi razvojnih politik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NQAA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he International Network for Quality Assurance Agencies in Higher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ZVO –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ssociate member 22. studenog 2006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NQ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ZVO je 2. siječnja 2007. aplicirala za članst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emeljni razlog neprihvaćanja Agencije kao kandidata člana je neusklađenost važećeg Zakona o znanstvenoj djelatnosti i visokom obrazovanju i Uredbe Vlade RH o osnivanju Agencije (neovisnost Agencij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nimalni zahtjevi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svake ustanove očekuje se dobro određena strategija izrađena na temelju SWOT analize. U skladu s tim, mora postojati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kument kvalit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oji predstavlj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ljeve kvalitete (Što?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hanizme kvalitete, provedbu (Kako? Pokriva sve glavne aktivnosti!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loge i odnose s obzirom na osiguranje kvalitete (Tko? Uključujući studente!) određene institucij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6868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rebno je uspostaviti organizirano i redovito praćenje sustava osiguranja kvalitete pri visokoobrazovnim institucija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jelovati u skladu sa spoznajama tj. uvesti korektivne i kvalitativne mjere poboljšanja. Time se zaokružuje ciklus osiguranja kvalite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prestano unapređivati unutarnju kulturu kvalitete; važan je odnos između vodstva i svih sastavnih jedinica institucije, studenata i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ccecff"/>
                </a:solidFill>
                <a:latin typeface="Arial"/>
              </a:rPr>
              <a:t>Ishodi dobre samoanalize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shodi dobre samoanalize preduvjet su za kvalitetno vanjsko vrednovanje sustava za osiguranje kvalite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Rast i razvoj metodologija osiguranja kvalitete te implementacija rezultata evaluacija i njihovih preporuka vode ka kontinuiranom poboljšavanju kvalitete i institucionalnom napretk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ko samoanaliza nije cjelovita ekspertni tim će vjerojatno imati pitanja koja mogu biti iznenađenje za instituciju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ecff"/>
                </a:solidFill>
                <a:uFillTx/>
                <a:latin typeface="Arial"/>
              </a:rPr>
              <a:t>Materijal</a:t>
            </a: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 potreban za vanjsko vrednovanje koji izrađuje visoko učilište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tak opis organizacije institucije s naznakom broja studenata i osoblja (1 stranic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tak opis sustava osiguranja kvalitete (max. 3 stranic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ručnik sustava osiguranja kvalitete sa svom dokumentacijo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tko navesti povijest nastanka sustava osiguranja kvalitete (1 stranic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atak opis načina povezivanja sustava osiguranja kvalitete sa sustavom upravljanja (1 stranic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WOT analiza institucije sustava osiguranja kvalitete (1 stranic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ažetak glavnih razvojnih ciljeva sustava osiguranja kvalitete i mjerenja (1 stranic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vješće o unutarnjem nadzoru sustava osiguranja kvalitete – sažetak (4 stranic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6 basic quality assurance ques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803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t are you trying to do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URPO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 are you doing it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A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w are you going to do it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y is that the best way to do it?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w do you know it works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w can you improve it?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Europski okvir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9. lipnja 1999. Bolonjska deklaracija (zajednička deklaracija europskih ministara obrazovan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uropa društvo zn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Lisabonska strategija, ožujak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"make Europe, by 2010, the most competitive and the most dynamic knowledge-based economy in the wor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9. rujan 2003. Berlin communiq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  <a:ea typeface="Arial"/>
              </a:rPr>
              <a:t>ministri zemalja potpisnica Bolonjskog procesa pozvali s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NQA u suradnji s EUA, EURASHE, ESIB (E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t standarda, procedura i smjernica za garanciju kvalit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spitati načine osiguranja adekvatnog sistema analize unutar struke sa ciljem osiguranja kvalitete, i/ili tijela ili agencija za akreditacij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2005. Bergen communiq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ema ENQA prijedlogu usvojeni su ESG;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stribucija, prijevod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45 zemalja potpisnic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az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ogućnosti primjene ESG u pra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69840" y="-54381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i  predstavljaju osnovu dobre prak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jernice daju dodatnu informaciju i objašnjenje (ilustraciju) o važnosti standar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ćenitog karakt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azatelj što bi trebalo napraviti, a 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k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zvor pomoći i smjernice u rad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468360" y="-3973680"/>
            <a:ext cx="468360" cy="801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2001. RH potpisala Bolonjsku deklaracij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ZOŠ donijelo je u rujnu 2005. go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Plan razvoja sustava odgoja i obrazovanj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2005.-2010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Razvojni cilj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o 2006. godine uspostaviti sustav osiguranja kvalitete u visokoobrazovnom sustavu Republike Hrvats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(uspostavit će se nacionalni sustav praćenja i jamstva kvalitete te promicati europska suradnja u osiguranju kvalite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" y="11592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Izgradnja sustava za osiguranje kvalitete visokog obrazovanja u Republici Hrvatskoj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627200"/>
            <a:ext cx="1942920" cy="6494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V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564000" y="1627200"/>
            <a:ext cx="1942920" cy="6494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V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588000" y="1627200"/>
            <a:ext cx="1943280" cy="6494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V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348000" y="2276640"/>
            <a:ext cx="71928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2997360"/>
            <a:ext cx="1728720" cy="208728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Arial"/>
              </a:rPr>
              <a:t>Centar za osig. kvalitete pri Sveučilištima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Zagre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Osij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Rijek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P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Zad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Spli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Dubrovn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516640"/>
            <a:ext cx="1981080" cy="8636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dinice za osiguranje kvalitete na fakulteti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360" y="2997360"/>
            <a:ext cx="1295280" cy="18716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ar z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iguranj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valitete pri veleučilišt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04000" y="2997360"/>
            <a:ext cx="1728720" cy="14396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ar z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iguran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valitete pri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znanstveni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stituti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5435280" y="2349360"/>
            <a:ext cx="21589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2349360"/>
            <a:ext cx="504720" cy="646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4932000" y="2276280"/>
            <a:ext cx="576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19640" y="2349360"/>
            <a:ext cx="216072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708360" y="5805360"/>
            <a:ext cx="2124000" cy="86544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edinice za osiguranje kvalite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Zavodi/Odjeli/Odsjec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635280" y="2276280"/>
            <a:ext cx="576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11280" y="1916280"/>
            <a:ext cx="1150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08720" y="1916280"/>
            <a:ext cx="1077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6524640"/>
            <a:ext cx="720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1052640"/>
            <a:ext cx="8964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Nacionalna mreža za osiguranje kvalitete visokog obrazovan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403280" y="2349000"/>
            <a:ext cx="23050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971640" y="2276640"/>
            <a:ext cx="273672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43280" y="2997360"/>
            <a:ext cx="1441440" cy="1511280"/>
          </a:xfrm>
          <a:prstGeom prst="rect">
            <a:avLst/>
          </a:prstGeom>
          <a:solidFill>
            <a:srgbClr val="00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ar za osiguranj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valitete pri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soki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ško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18728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332000" y="515772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411280" y="206064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508720" y="2060640"/>
            <a:ext cx="107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941720"/>
            <a:ext cx="1008360" cy="7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3635280" y="4868640"/>
            <a:ext cx="1152720" cy="93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6093000"/>
            <a:ext cx="151272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2195640" y="5950080"/>
            <a:ext cx="1512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795640" y="4437000"/>
            <a:ext cx="1655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867280" y="4436640"/>
            <a:ext cx="1800360" cy="201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19640" y="4508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292720" y="4508640"/>
            <a:ext cx="0" cy="129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55328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ARDS 2002 projekt “Higher Education Mobility: Diploma Recognition Policy and Legislatio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 Manual Quality assurance in higher education by Hugh Glanvil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žujak 2006. Vodič kroz osiguranje kvalitete u visokom školstv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3300"/>
                </a:solidFill>
                <a:latin typeface="Arial"/>
              </a:rPr>
              <a:t>Priručnik i ESG su prihvaćeni u RH odlukom Nacionalnog vijeće za visoko obrazovanje       17. svibnja 2006. godi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cionalna zaklada za znanost, visoko školstvo i tehnologijski razvoj R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financirala j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8 projekata koji su poticali kvalitetu u visokom obrazovanju R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Listopad 2006. Tempus projekt “Quality Assurance in University teaching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ode of Good Practice in Teaching and Asses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tional Strategy for the Evaluation of Teaching Effective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ction Research  Programme for Enhancing the Quality of Teaching in 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ZVO je izradila prijedlog Sadržaja samoanalize sveučilišta i veleučiliš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24000" y="549360"/>
            <a:ext cx="84470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Uloga Agencije za znanos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3300"/>
                </a:solidFill>
                <a:latin typeface="Arial"/>
              </a:rPr>
              <a:t>i visoko obrazovanj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vanjsko osiguranje kvalitete visokog obrazovanja,         uključujući osmišljanje metoda, postupaka, standarda i kriterija, kao i stvarno provođenje vrednovanja (evaluacija / akreditacija / revizija/audit) sa završnim izvješćem i odlukom (akreditacije ili revizije) o ostvarenoj kvalite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3300"/>
                </a:solidFill>
                <a:latin typeface="Arial"/>
              </a:rPr>
              <a:t>savjet i pomoć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ustanovama visokog obrazovanja u pitanjima kvalite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just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strojavanje i unapređenje nacionalnog QA sustava i uključivanje u europsku/internacionalnu mrežu osiguranja kvalit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43120" y="260280"/>
            <a:ext cx="740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5T09:19:15Z</dcterms:created>
  <dc:creator>vdjurkovic</dc:creator>
  <dc:description/>
  <dc:language>en-US</dc:language>
  <cp:lastModifiedBy>vdjurkovic</cp:lastModifiedBy>
  <dcterms:modified xsi:type="dcterms:W3CDTF">2007-04-26T08:10:30Z</dcterms:modified>
  <cp:revision>68</cp:revision>
  <dc:subject/>
  <dc:title>UNUTARNJE VREDNOVANJE SUSTAVA OSIGURANJA KVALITETE VISOKIH UČILIŠTA U REPUBLICI HRVATSKOJ</dc:title>
</cp:coreProperties>
</file>