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521-3065-4C1A-8CEE-202A707D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93B-C126-4233-B09E-18EBF5B5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8ED2-1316-4D3C-8F1F-1F18FC74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41A8-4D08-4D5C-93D1-0933CA8D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318E-5B3B-4879-A555-0C6BAD041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F969-338F-4FF8-9F0B-4A1D1C34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B06B0-2744-4D04-B31F-A40405DB4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40B4-7546-4E47-88C7-3625F399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D57C-84B6-4B1C-9A5D-F7497434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B682-703C-4BF0-B5B0-DCEF364B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2D5F-3935-4F6B-BE9F-14B1073D6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036-A040-4539-A21B-432A69BB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22B9-8F13-4552-9B3C-F2130982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E9FD-3295-43ED-AA48-24257D6D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8BBF-FAC2-4FEE-A34F-50F9CD4B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9A823-21CE-4095-8785-5AEFA803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1F66-E41E-49B5-9A6C-906C57B3A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48B-15E8-42E2-9A13-C2FB1EC0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00D-4B2A-4B6D-9FF0-1A62E2C3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602-9420-48F3-9FAB-C6BAD620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A71-7175-481D-9303-9C42F4B0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E51C-4031-4CDF-AF6C-C984C619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767C-13F3-4FB1-87E1-0F9E9FA1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9A2-7457-4E82-9A4E-74FCDC42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3DF5-03F8-4FC6-A044-76318CCE831E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37360"/>
            <a:ext cx="9144000" cy="0"/>
          </a:xfrm>
          <a:prstGeom prst="line">
            <a:avLst/>
          </a:prstGeom>
          <a:ln w="12600">
            <a:solidFill>
              <a:srgbClr val="ee1c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57640" cy="36766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6311880"/>
            <a:ext cx="1346040" cy="54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6C59-F1F2-42F3-B906-4DEEBD2CA66E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57560" cy="746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12600">
            <a:solidFill>
              <a:srgbClr val="ed261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26920" y="141300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KTIVNOSTI PODUZETE PRIJE VREDNOVANJA VISOKIH UČILIŠTA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Zagreb, svibanj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2417760" y="1201680"/>
            <a:ext cx="4313160" cy="4313160"/>
            <a:chOff x="2417760" y="1201680"/>
            <a:chExt cx="4313160" cy="4313160"/>
          </a:xfrm>
        </p:grpSpPr>
        <p:sp>
          <p:nvSpPr>
            <p:cNvPr id="109" name="_s25604"/>
            <p:cNvSpPr/>
            <p:nvPr/>
          </p:nvSpPr>
          <p:spPr>
            <a:xfrm flipH="1">
              <a:off x="3494160" y="3357720"/>
              <a:ext cx="54144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25605"/>
            <p:cNvSpPr/>
            <p:nvPr/>
          </p:nvSpPr>
          <p:spPr>
            <a:xfrm>
              <a:off x="2417760" y="281952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V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06"/>
            <p:cNvSpPr/>
            <p:nvPr/>
          </p:nvSpPr>
          <p:spPr>
            <a:xfrm>
              <a:off x="4573440" y="3895560"/>
              <a:ext cx="0" cy="541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7"/>
            <p:cNvSpPr/>
            <p:nvPr/>
          </p:nvSpPr>
          <p:spPr>
            <a:xfrm>
              <a:off x="4035600" y="44370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ZO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25608"/>
            <p:cNvSpPr/>
            <p:nvPr/>
          </p:nvSpPr>
          <p:spPr>
            <a:xfrm>
              <a:off x="5111640" y="3357720"/>
              <a:ext cx="54144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09"/>
            <p:cNvSpPr/>
            <p:nvPr/>
          </p:nvSpPr>
          <p:spPr>
            <a:xfrm>
              <a:off x="5653080" y="281952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iso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čiliš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VU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10"/>
            <p:cNvSpPr/>
            <p:nvPr/>
          </p:nvSpPr>
          <p:spPr>
            <a:xfrm flipV="1">
              <a:off x="4573440" y="2278080"/>
              <a:ext cx="0" cy="541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25611"/>
            <p:cNvSpPr/>
            <p:nvPr/>
          </p:nvSpPr>
          <p:spPr>
            <a:xfrm>
              <a:off x="4035600" y="120168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Prosud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be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r-HR" sz="1800" spc="-1" strike="noStrike">
                  <a:solidFill>
                    <a:srgbClr val="000000"/>
                  </a:solidFill>
                  <a:latin typeface="Arial"/>
                </a:rPr>
                <a:t>tije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5612"/>
            <p:cNvSpPr/>
            <p:nvPr/>
          </p:nvSpPr>
          <p:spPr>
            <a:xfrm>
              <a:off x="4035600" y="281952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ZVO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"/>
            <p:cNvCxnSpPr>
              <a:stCxn id="116" idx="4"/>
              <a:endCxn id="117" idx="0"/>
            </p:cNvCxnSpPr>
            <p:nvPr/>
          </p:nvCxnSpPr>
          <p:spPr>
            <a:xfrm>
              <a:off x="4575240" y="2279520"/>
              <a:ext cx="2160" cy="54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19" name=""/>
            <p:cNvCxnSpPr>
              <a:stCxn id="117" idx="6"/>
              <a:endCxn id="114" idx="2"/>
            </p:cNvCxnSpPr>
            <p:nvPr/>
          </p:nvCxnSpPr>
          <p:spPr>
            <a:xfrm>
              <a:off x="5113080" y="3359160"/>
              <a:ext cx="540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0" name=""/>
            <p:cNvCxnSpPr>
              <a:stCxn id="117" idx="2"/>
              <a:endCxn id="110" idx="6"/>
            </p:cNvCxnSpPr>
            <p:nvPr/>
          </p:nvCxnSpPr>
          <p:spPr>
            <a:xfrm flipH="1">
              <a:off x="3495240" y="3359160"/>
              <a:ext cx="5407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1" name=""/>
            <p:cNvCxnSpPr>
              <a:stCxn id="116" idx="5"/>
              <a:endCxn id="114" idx="1"/>
            </p:cNvCxnSpPr>
            <p:nvPr/>
          </p:nvCxnSpPr>
          <p:spPr>
            <a:xfrm flipH="1" rot="16200000">
              <a:off x="4955400" y="2122200"/>
              <a:ext cx="854640" cy="855000"/>
            </a:xfrm>
            <a:prstGeom prst="bentConnector3">
              <a:avLst>
                <a:gd name="adj1" fmla="val 49810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2" name=""/>
            <p:cNvCxnSpPr>
              <a:stCxn id="110" idx="5"/>
              <a:endCxn id="112" idx="1"/>
            </p:cNvCxnSpPr>
            <p:nvPr/>
          </p:nvCxnSpPr>
          <p:spPr>
            <a:xfrm flipH="1" rot="16200000">
              <a:off x="3338280" y="3739680"/>
              <a:ext cx="855000" cy="854640"/>
            </a:xfrm>
            <a:prstGeom prst="bentConnector3">
              <a:avLst>
                <a:gd name="adj1" fmla="val 49789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3" name=""/>
            <p:cNvCxnSpPr>
              <a:stCxn id="110" idx="7"/>
              <a:endCxn id="116" idx="3"/>
            </p:cNvCxnSpPr>
            <p:nvPr/>
          </p:nvCxnSpPr>
          <p:spPr>
            <a:xfrm flipH="1" flipV="1" rot="5400000">
              <a:off x="3338280" y="2122200"/>
              <a:ext cx="854640" cy="85464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124" name=""/>
          <p:cNvSpPr/>
          <p:nvPr/>
        </p:nvSpPr>
        <p:spPr>
          <a:xfrm>
            <a:off x="7020000" y="1916280"/>
            <a:ext cx="2016000" cy="2017440"/>
          </a:xfrm>
          <a:prstGeom prst="wedgeRoundRectCallout">
            <a:avLst>
              <a:gd name="adj1" fmla="val -67245"/>
              <a:gd name="adj2" fmla="val 593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ostavlja AZVO-u očitovanje o sastavu imenovanog povjerens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ostavlja AZVO-u dokument o samoanali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ostavlja AZVO-u očitovanje o izvješću Prosudbenog tije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2626920" y="5472000"/>
            <a:ext cx="1800360" cy="1270080"/>
          </a:xfrm>
          <a:prstGeom prst="wedgeRoundRectCallout">
            <a:avLst>
              <a:gd name="adj1" fmla="val -30601"/>
              <a:gd name="adj2" fmla="val 6562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ministar na temelju prijedloga NVVO-a izdaje dopusnicu/pismo očekivanja/uskraćuje dopusnicu za rad V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107640" y="3933360"/>
            <a:ext cx="2376360" cy="2519640"/>
          </a:xfrm>
          <a:prstGeom prst="wedgeRoundRectCallout">
            <a:avLst>
              <a:gd name="adj1" fmla="val -41115"/>
              <a:gd name="adj2" fmla="val 65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onosi godišnji plan vrednovanja VU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zrađuje i donosi smjernice za provedbu samoanalize, vanjskog vrednovanja te donosi predložak izvješć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menuje članove Prosudbenog tij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utvrđuje konačnu ocjenu vrednovanja na temelju izvješća Prosudbenog tij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dostavlja prijedlog minist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5148000" y="4149720"/>
            <a:ext cx="3816360" cy="2519280"/>
          </a:xfrm>
          <a:prstGeom prst="wedgeRoundRectCallout">
            <a:avLst>
              <a:gd name="adj1" fmla="val 55324"/>
              <a:gd name="adj2" fmla="val 6518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bavještava VU o početku postupka vrednovanja i sastavu imenovanog povjerenst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dostavlja članovima Povjerenstva odluku o imenovanju te sve materijale potrebne za vrednova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ugovara s članovima  Povjerenstva i VU datum obilaska i program vrednovanj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pruža svu administrativnu potporu Prosudbenom tijel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izvješće  o vrednovanju dostavlja  VU na očitovan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čitovanje VU-a  prosljeđuje predsjedniku Prosudbenog tije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100" spc="-1" strike="noStrike">
                <a:solidFill>
                  <a:srgbClr val="000000"/>
                </a:solidFill>
                <a:latin typeface="Arial"/>
              </a:rPr>
              <a:t>objavljuje izvješće Prosudbenog tijela na webstranici Agencije nakon donošenja mišljenja NVVO i MInistarstv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115920"/>
            <a:ext cx="4105440" cy="1440000"/>
          </a:xfrm>
          <a:prstGeom prst="wedgeRoundRectCallout">
            <a:avLst>
              <a:gd name="adj1" fmla="val -45013"/>
              <a:gd name="adj2" fmla="val 72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ovodi vanjsko vrednovanje učiliš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sastav tijela: 3 predstavnika akadem. zajednice, 1 predstavnik iz dijaspore ili  priznati strani znanstvenik, 1 predstavnik studenata (sukob interesa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odnosi izvješće o vrednovanju učilišta AZVO-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predsjednik Prosudbenog tijela prezentira NVVO-u  izvješće i očitovanje VU-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19120" y="42372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040" y="549360"/>
            <a:ext cx="31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JSKO VREDNOVAN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SOKIH UČILIŠ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700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hvaljujemo na pozornost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7993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Radnje koje prethode vanjskom vrednovanju visokih učiliš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zrada i usvajan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kumenata za provedbu vrednovanja visokih učil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ana vrednovanja visokih učilišta 2008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ze potencijalnih kandidata za vrednovanje visokih učil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siguranje financijskih sredstava za provođenje vanjskog vrednovanja visokih učil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okumenti za provedbu vrednovanja visokih učilišt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SAMOAN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Tablica uz samoanalizu visokog učiliš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Završno izvješće o vrednovanom visokom učili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* Dokumente je izradilo Nacionalno vijeće za visoko obrazovanje, a Rektorski zbor razmotrio je 27.04.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91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an vrednovanja visokih učilišta 2008-2010</a:t>
            </a:r>
            <a:br>
              <a:rPr sz="24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opis učilišta koji će se vrednovati u 2008. god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Sveučilište u  Zagreb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rhitekton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Građevin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akultet kemijskog inženjerstva i tehnolog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ekstilno-tehnološ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akultet prometnih zna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Medicin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omatološ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Veterinar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armaceutsko-biokemij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dukacijsko-rehabilitacij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avn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Sveučilište u Rije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Građevin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omor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Medicin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avn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91080" indent="-910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 u="sng">
                <a:solidFill>
                  <a:srgbClr val="333399"/>
                </a:solidFill>
                <a:uFillTx/>
                <a:latin typeface="Arial"/>
              </a:rPr>
              <a:t>Sveučilište u Spl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Građevinsko-arhitekton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Kemijsko-tehnološ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Pomor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Medicin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Pravn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 u="sng">
                <a:solidFill>
                  <a:srgbClr val="333399"/>
                </a:solidFill>
                <a:uFillTx/>
                <a:latin typeface="Arial"/>
              </a:rPr>
              <a:t>Sveučilište u Osije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Građevin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Medicin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Pravn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 u="sng">
                <a:solidFill>
                  <a:srgbClr val="333399"/>
                </a:solidFill>
                <a:uFillTx/>
                <a:latin typeface="Arial"/>
              </a:rPr>
              <a:t>Veleučiliš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Veleučilište u Karlov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Veleučilište u Pože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Veleučilište u Rije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Veleučilište Velika Go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Zdravstveno veleučiliš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-91080">
              <a:lnSpc>
                <a:spcPct val="75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 u="sng">
                <a:solidFill>
                  <a:srgbClr val="333399"/>
                </a:solidFill>
                <a:uFillTx/>
                <a:latin typeface="Arial"/>
              </a:rPr>
              <a:t>Visoke šk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Visoka poslovna škola “Utilus” ,Zagr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Visoka poslovna škola, Višn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Visoka škola za ekonomiju, poduzetništva,  Zagr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333399"/>
                </a:solidFill>
                <a:latin typeface="Arial"/>
              </a:rPr>
              <a:t>Visoka škola za poslovanje i upravljanje, Zapreši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08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an vrednovanja visokih učilišta 2008-2010</a:t>
            </a:r>
            <a:br>
              <a:rPr sz="28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pis učilišta koji će se vrednovati u 2009. god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40384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Sveučilište u Zagreb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gronom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Šumar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ehrambeno-biotehnič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akultet strojarstva i brodograd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akultet elektrotehnike i računars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Metalurš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akultet organizacije i informati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Katolički bogoslovn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konom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čitelj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kademija dramske umjet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kademija likovne umjet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Muzička akadem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Sveučilište u Rije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ehnič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konom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akultet za turistički i hotelski menadž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čitelj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kademija primijenjene umjet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Sveučilište u Spl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akultet elektrotehnike, strojarstva i brodogradn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Katolički bogoslovn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konom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Filozof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mjetnička akadem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Sveučilište u Osije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oljoprivredn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ehrambeno-tehnološ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lektrotehnič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Strojar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Katolički bogoslov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konom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čiteljski fakul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Umjetnička akademi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40384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333399"/>
                </a:solidFill>
                <a:uFillTx/>
                <a:latin typeface="Arial"/>
              </a:rPr>
              <a:t>Sveučilište u Zadru </a:t>
            </a: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– cjelov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333399"/>
                </a:solidFill>
                <a:uFillTx/>
                <a:latin typeface="Arial"/>
              </a:rPr>
              <a:t>Sveučilište u Dubrovniku</a:t>
            </a: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 –cjelov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333399"/>
                </a:solidFill>
                <a:uFillTx/>
                <a:latin typeface="Arial"/>
              </a:rPr>
              <a:t>Sveučilište Juraja Dobrile u Pu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- cjelov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333399"/>
                </a:solidFill>
                <a:uFillTx/>
                <a:latin typeface="Arial"/>
              </a:rPr>
              <a:t>Veleučiliš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Tehničko veleučilište,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Društveno veleučilište,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83628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1800" spc="-1" strike="noStrike" u="sng">
                <a:solidFill>
                  <a:srgbClr val="333399"/>
                </a:solidFill>
                <a:uFillTx/>
                <a:latin typeface="Arial"/>
              </a:rPr>
              <a:t>Visoke šk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Visoka tehnička škola u Pu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Američka visoka škola za management i tehnologiju u Dubrovn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Međunarodna diplomska škola za poslovno upravljanje,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RRIF Visoka škola za financijski menadžment,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Teološki fakultet “Matija Vlačić Ilirik”,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Visoka poslovna škola “Libertas”,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333399"/>
                </a:solidFill>
                <a:latin typeface="Arial"/>
              </a:rPr>
              <a:t>Visoka škola “Agora”, Zagr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an vrednovanja visokih učilišta 2008-2010</a:t>
            </a:r>
            <a:br>
              <a:rPr sz="28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pis učilišta koji će se vrednovati u 2010. godin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3960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 u="sng">
                <a:solidFill>
                  <a:srgbClr val="333399"/>
                </a:solidFill>
                <a:uFillTx/>
                <a:latin typeface="Arial"/>
              </a:rPr>
              <a:t>Sveučilište u Zagreb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Rudarsko-geološko-naftni fakul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Geodetski fakul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Geotehnički fakul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Grafički fakul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Prirodoslovno-matematički fakul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Kineziološki fakul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Fakultet političkih zna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Filozofski fakult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Filozofski fakultet Družbe Isus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333399"/>
                </a:solidFill>
                <a:latin typeface="Arial"/>
              </a:rPr>
              <a:t>Hrvatski studi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2160" indent="0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284720" y="1341000"/>
            <a:ext cx="403848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lnSpc>
                <a:spcPct val="75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veučilište u Rije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lozofski fakult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5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Sveučilište u Spli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kultet prirodoslovno-matematičkih znanosti i kineziolog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djel za studij mora i pomo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4437000"/>
            <a:ext cx="83516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Nacionalno vijeće za visoko obrazovanje je izradilo i usvojilo ovaj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6.05.2007. g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aza potencijalnih kandidata za vrednovanje visokih učilišta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va visoka učilišta dostavit će prijedlog potencijalnih kandidata koji će se pohraniti u bazu podataka u Agenciji za znanost i visoko obrazovane (AZV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andidate će imenovati Nacionalno vijeće za visoko obrazovanje (NVVO) koristeći se bazom podataka u AZVO-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VVO će zatražiti očitovanje visokog učilišta o predloženim kandidatima prije donošenja konačne odluke o njihovom imenovan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2e2e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. Osiguranje financijskih sredstava za provođenje vanjskog vrednovanja visokih učilišta</a:t>
            </a:r>
            <a:br>
              <a:rPr sz="2800"/>
            </a:br>
            <a:br>
              <a:rPr sz="4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inistarstvo znanosti, obrazovanja i športa treba osigurati sredstva za vrednovanje visokih učilišta koje  će se provoditi u razdoblju od 2008-2010. godine u proračunu za svaku kalendarsku godi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11:28:53Z</dcterms:created>
  <dc:creator>ttomljen</dc:creator>
  <dc:description/>
  <dc:language>en-US</dc:language>
  <cp:lastModifiedBy>AZVO</cp:lastModifiedBy>
  <dcterms:modified xsi:type="dcterms:W3CDTF">2007-06-12T07:28:50Z</dcterms:modified>
  <cp:revision>34</cp:revision>
  <dc:subject/>
  <dc:title>Slide 1</dc:title>
</cp:coreProperties>
</file>