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1E0-9F54-4206-B14D-358F1088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2AA-BF52-40D6-8901-FD91C258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7D93-4810-4FDD-9786-0E4F73A9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CFAE-24B5-40A9-AA86-9D56223C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C91-BDD6-4E34-9F4E-BA3FB7E3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0924-2B6F-4443-A19E-C43E76FF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0F8D-F851-4A4D-8172-E8C88AE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0C83-39EE-4783-BC9A-3A98D448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A60-DEAF-4B72-A995-56C3AC3C9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72F7-C5EF-4924-8A34-92355084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9CB-8277-453E-A8C8-48EFA1D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00A5-5934-4712-BFCF-9F342595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FA46-C0BC-415B-AF7B-EA3AD1E34751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ogo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Rectangle 4"/>
          <p:cNvSpPr/>
          <p:nvPr/>
        </p:nvSpPr>
        <p:spPr>
          <a:xfrm>
            <a:off x="1228680" y="1909440"/>
            <a:ext cx="791532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odjela dokum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Obrazovanje, izobrazba i studentski poslo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Stručni i znanstve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Izdavačka djelat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Rektor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Knjiž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Računovod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oslovi održavanja i nab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Kval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Rectangle 4"/>
          <p:cNvSpPr/>
          <p:nvPr/>
        </p:nvSpPr>
        <p:spPr>
          <a:xfrm>
            <a:off x="1657440" y="2142720"/>
            <a:ext cx="72579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Obrazovanje, izobrazba i studentski posl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omjene nastavnih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Razredbeni postupak, upisivanje i evidencija studen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iprema, izvođenje i evidencija nast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iprema, održavanje i evidencija isp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Raspodjela, izrada, obrana i evidencija diplomskih ra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Uvođenje novih i ažuriranje postojećih tečaj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iprema, izvođenje i evidentiranje pojedinog teč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ovođenje ank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Rectangle 4"/>
          <p:cNvSpPr/>
          <p:nvPr/>
        </p:nvSpPr>
        <p:spPr>
          <a:xfrm>
            <a:off x="1657440" y="2386440"/>
            <a:ext cx="725796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rovođenje ank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Provode se kontinuiranja anketiranja studenata (ocjenjivanje nastavnika) i nastavnika (samo-analiz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Također se pri upisu obavlja statistička obrada pristupnika (podaci o školovanju i uspjehu), te se prati njihov uspjeh na Sveučilištu (analiti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4"/>
          <p:cNvSpPr/>
          <p:nvPr/>
        </p:nvSpPr>
        <p:spPr>
          <a:xfrm>
            <a:off x="1657440" y="2203560"/>
            <a:ext cx="72579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Rezultati ank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Studentske ankete su anonimne, predavači imaju uvid u svoju prosječnu ocjenu (ukupnu i po odjelima), te uvid u prosjek Sveučilišta i najvišu i najnižu ocj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 Black"/>
              </a:rPr>
              <a:t>Samoanalize se vrše jednom godišnje, i uvid u rezultate ima samo Rektorat i odgovorne oso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"/>
          <p:cNvSpPr/>
          <p:nvPr/>
        </p:nvSpPr>
        <p:spPr>
          <a:xfrm>
            <a:off x="1228680" y="1166760"/>
            <a:ext cx="79153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zgrada noc 7"/>
          <p:cNvPicPr/>
          <p:nvPr/>
        </p:nvPicPr>
        <p:blipFill>
          <a:blip r:embed="rId4"/>
          <a:stretch/>
        </p:blipFill>
        <p:spPr>
          <a:xfrm>
            <a:off x="0" y="0"/>
            <a:ext cx="9360000" cy="70945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logo"/>
          <p:cNvPicPr/>
          <p:nvPr/>
        </p:nvPicPr>
        <p:blipFill>
          <a:blip r:embed="rId2"/>
          <a:stretch/>
        </p:blipFill>
        <p:spPr>
          <a:xfrm>
            <a:off x="-652320" y="0"/>
            <a:ext cx="10253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DSC01234_7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Object 3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4"/>
          <p:cNvSpPr/>
          <p:nvPr/>
        </p:nvSpPr>
        <p:spPr>
          <a:xfrm>
            <a:off x="1235160" y="2271600"/>
            <a:ext cx="769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Seminar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za ustanove visokog obraz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Zagreb, 29. do 31. svibnja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Tema: Vanjsko osiguranje kvalitete ustanova visokog obraz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</a:rPr>
              <a:t>Upravljanje kvalite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c00000"/>
                </a:solidFill>
                <a:latin typeface="Arial Black"/>
              </a:rPr>
              <a:t>na Sveučilištu u Dubrovni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1494000" y="1365480"/>
            <a:ext cx="7299000" cy="50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ovi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Visoka pomorska škola (1959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omorski fakultet u Dubrovniku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Sveučilišta u Splitu (198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Viša turističk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Fakultet za turizam i vanjsku trgovi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Sveučilišta u Spl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Veleučilište u Dubrovniku (199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Sveučilište u Dubrovniku (2003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Rectangle 4"/>
          <p:cNvSpPr/>
          <p:nvPr/>
        </p:nvSpPr>
        <p:spPr>
          <a:xfrm>
            <a:off x="1371600" y="1577520"/>
            <a:ext cx="758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Prvi koraci ka kval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Veleučilište – prva visokoškolska ustanova sa ISO 9002:1994 certifikatom od 1997 g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Dvojna certifikacija Hrvatskog Registra Brodova (CRS) i Bureau Veritas (BVQI), ponajprije radi zadovoljavanja STCW konven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Certifikacija pokriva cjelokupnu ustano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398600" y="4719600"/>
            <a:ext cx="3654360" cy="1711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012000" y="4726080"/>
            <a:ext cx="1368360" cy="1784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Rectangle 4"/>
          <p:cNvSpPr/>
          <p:nvPr/>
        </p:nvSpPr>
        <p:spPr>
          <a:xfrm>
            <a:off x="1409760" y="3796560"/>
            <a:ext cx="750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480" y="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357200" y="1614600"/>
            <a:ext cx="7329600" cy="45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Kvaliteta na Sveučil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-Sveučilište započinje radom akademske 2004./05.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-Uvodi se sustav upravljanja kvalitetom u sve sastavnice, po uzoru na Veleučiliš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-Lipanj 2005. recertifikacija od strane CRS i BVQ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Rectangle 4"/>
          <p:cNvSpPr/>
          <p:nvPr/>
        </p:nvSpPr>
        <p:spPr>
          <a:xfrm>
            <a:off x="1409760" y="2175840"/>
            <a:ext cx="750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Opseg recertifikacije po CRS i BVQ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- Preddiplomsko, diplomsko i poslijediplomsko obrazovanje u područjima tehničkih, biotehničkih i društvenih znanosti, te pripadne znanstvene i stručne djelatnosti, uključujući izobrazbu pomoraca i turističkih djela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800" y="-7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Rectangle 4"/>
          <p:cNvSpPr/>
          <p:nvPr/>
        </p:nvSpPr>
        <p:spPr>
          <a:xfrm>
            <a:off x="1457280" y="1394640"/>
            <a:ext cx="7410600" cy="63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Sveučilište d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7 sveučilišnih odjela (od 2004. novi Odj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za umjetnost i restauracij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Institut za more i priobalje (od siječ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2006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208 zaposle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200 nastavnika (od toga 110 vlastiti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50 doktora z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68 asistenata na poslijediplomsk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doktorskim studij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2500 stude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19 sveučilišnih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41128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SVEUČILIŠTE U DUBROV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cc"/>
                </a:solidFill>
                <a:latin typeface="Garamond"/>
              </a:rPr>
              <a:t>UNIVERSITY OF DUBROVN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2"/>
          <p:cNvGraphicFramePr/>
          <p:nvPr/>
        </p:nvGraphicFramePr>
        <p:xfrm>
          <a:off x="1763640" y="189000"/>
          <a:ext cx="936720" cy="93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63640" y="189000"/>
                    <a:ext cx="9367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Rectangle 4"/>
          <p:cNvSpPr/>
          <p:nvPr/>
        </p:nvSpPr>
        <p:spPr>
          <a:xfrm>
            <a:off x="1409760" y="1833480"/>
            <a:ext cx="756288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</a:rPr>
              <a:t>Dokument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Arial"/>
              </a:rPr>
              <a:t>Uniformirana dokumentacija, ne samo za potrebe vanjskog nadzora, nego i u cilju pojednostavljenja unutarnje komunik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 Black"/>
                <a:ea typeface="Arial"/>
              </a:rPr>
              <a:t>Detaljno razrađen priručnik kvalitete, sa pripadajućim dokumentima, zapisima i obrascima, kojim svaki zaposlenik može pristupiti putem intraneta (intwww.unidu.h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249200" y="6578640"/>
            <a:ext cx="789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900" spc="-1" strike="noStrike">
                <a:solidFill>
                  <a:srgbClr val="ffffcc"/>
                </a:solidFill>
                <a:latin typeface="Arial"/>
              </a:rPr>
              <a:t>Branitelja Dubrovnika 29, Dubrovnik, Hrvatska, tel: 020/445-744, fax: 020/435-590, e-mail: rektorat@unidu.hr, http://www.unidu.h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1:05:37Z</dcterms:created>
  <dc:creator>Marijana</dc:creator>
  <dc:description/>
  <dc:language>en-US</dc:language>
  <cp:lastModifiedBy>Matko Bupić</cp:lastModifiedBy>
  <dcterms:modified xsi:type="dcterms:W3CDTF">2007-05-28T08:42:41Z</dcterms:modified>
  <cp:revision>75</cp:revision>
  <dc:subject/>
  <dc:title>Slide 1</dc:title>
</cp:coreProperties>
</file>