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3D5-4E31-4220-9B76-A81E58068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806-94B6-41DE-A43E-BA30055A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34E7-07F4-4E59-B5C2-A7A66509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E97-80D2-41BC-B144-B003B8C04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C319-87BA-4130-BE82-47C06A96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75E-C9BF-45D0-B3CB-EF6A1B49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B88-B211-45B7-9CB3-AC0BB90A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9A67-447D-4D0E-BF81-D51A66E4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04A-73A1-4BD5-AA7A-2FC05382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0E2-7B78-4AF0-A136-52FE11E7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EE7-3B0F-4B19-A1ED-B43FAE61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2946-6279-4697-A0BE-3ABB9F0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834-07BB-4A6D-A61F-338DCA4842CC}" type="slidenum">
              <a:rPr b="0" lang="hr-H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77240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00"/>
                </a:solidFill>
                <a:latin typeface="Arial"/>
              </a:rPr>
              <a:t>CARDS 2003</a:t>
            </a:r>
            <a:br>
              <a:rPr sz="4000"/>
            </a:br>
            <a:br>
              <a:rPr sz="4000"/>
            </a:br>
            <a:r>
              <a:rPr b="1" lang="hr-HR" sz="4000" spc="-1" strike="noStrike">
                <a:solidFill>
                  <a:srgbClr val="ffff00"/>
                </a:solidFill>
                <a:latin typeface="Arial"/>
              </a:rPr>
              <a:t>Vanjsko vrednovanje visokih učilišta u Republici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3428640"/>
            <a:ext cx="8353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prof.dr.sc. Amir Hamzić</a:t>
            </a:r>
            <a:r>
              <a:rPr b="1" lang="hr-H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Seminar za ustanove visokog obrazovanja; svibanj 2007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337-0E20-4CF7-90CB-F259E269EA07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Uloga i postupci A(Z)VO u pripremi i provođenju vrednovanja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7240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objašnjenja i pomoć VU pri obradi podataka i unosa u Tablice za samoanaliz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omoć i naputci pri izradi Samoanal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aćenje rokove za izradu Tablica uz samoanalizu i Samoanalize visokog učilišta (rok završetka najkasnije 30 dana prije planiranog posjeta stručnog povjerenstva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ovjera formalne kompletiranosti  dokumenata nakon službenog zaprimanja od vrednovanog visokog učilišta; po potrebi vraćanje na dopu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ostava kompletiranih dokumenata (Tablica i Samoanaliza) imenovanim članovima stručnog povjerenstva barem 30 dana prije planiranog posjeta visokome učili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14D6-6D6A-40A6-BA86-D07C6C330F7E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Uloga i postupci A(Z)VO u pripremi i provođenju vrednovanja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govar 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"/>
              </a:rPr>
              <a:t>datum i trajanje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posjete visokom učiliš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govara 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"/>
              </a:rPr>
              <a:t>protokola posjete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, tj. redoslijed i vrijeme razgovora stručnog povjerenstva s upravom visokog učilišta, širim krugom nastavnog osoblja, studentima, administrativnim i pomoćnim osobljem, obilazak prostora (predavaonice,  praktikume, računalne učionice, biblioteke, znanstvene laboratorije, umjetničke radionice i druge pogone prema vrsti visokog učiliš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menuje jednog od svojih stručnih djelatnika kao </a:t>
            </a: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"/>
              </a:rPr>
              <a:t>koordinator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posjete stručnog povjerenstva visokome učili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489-9474-4514-8A17-C6AA3B02F94E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Uloga i postupci A(Z)VO u pripremi i provođenju vrednovanja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208720" cy="43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"/>
              </a:rPr>
              <a:t>Organizicija puta i boravk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članova stručnog povjeren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"/>
              </a:rPr>
              <a:t>Osiguranje  financijskih obvez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prema članovima stručnog povjerenstva (troškovi prijevoza, hotelski troškovi i dnevn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"/>
              </a:rPr>
              <a:t>Osiguranje uvjeta za normalno odvijanje utvrđenog protokola posjete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(putem suradnje s tajništvom ili drugom nadležnom službom vrednovanog visokog učiliš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Praćenje tijeka posjete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stručnog povjerenstva visokome učilištu uz osobnu nazočnost svog koordinatora na prostoru visokog učilišta tijekom posjete i pružanju pomoći članovima povjerenstva,  ako je zatraž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F655-5DFF-450A-94CF-70D743C6543D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Arial"/>
              </a:rPr>
              <a:t>ZAVRŠNI POSTUPCI I PROCEDURE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8459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jednica NVVO - donošenje odluke 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hvaćanje postupaka Agencije, visokog učilišta i stručnog povjeren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ihvaćanju financijskog izvješća o troškovima vezanim uz stručno povjerens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onačnoj ocjeni vrednovanja visokog učilišta na temelju Završnog izvješća stručnog povjerenstva i rasprave na sjednici Nacionalnog vijeć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opisu mjera koje bi visoko učilište trebalo primijeniti u svrhu poboljšanja kvalitete nastave i znanosti, te učinkovitosti vlastita ustro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reporuci ministru znanosti, obrazovanja i športa da visokom učiliš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zda dopusnicu, 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puti pismo očekivanja, 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75480" indent="-4251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skrati dopusni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19C2-C9FA-4661-BA3F-31A4C5D76889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ZAVRŠNI POSTUPCI I PROCEDURE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98336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O rezultatima vrednovanja visokog učilišta NVVO obavještava ministra, visoko učilište i javnos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NVVO u godišnjem izvješću Hrvatskom saboru navodi i rezultate vrednovanja VU u R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NVVO prati tijek i rezultate vrednovanja VU i predlaže mjere za unaprjeđenje kvalitete visokog obrazovanj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6B6-5447-4680-8C21-20151DD858D3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748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Arial"/>
              </a:rPr>
              <a:t>OSTALI DOKUMENTI: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u završnoj fazi izrad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prezentacije na seminarima, Rektorskom zboru,  službama MZOŠ-a, individualnim (domaćim/stranim) recenzentima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mišljenja Se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00"/>
                </a:solidFill>
                <a:latin typeface="Arial"/>
              </a:rPr>
              <a:t>usva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D2EF-6A2B-4440-B032-7E29CEE77DD0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4978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Neka dosadašnja pitanja/sugestij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usklađenost s European Standards and Guidel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SIMULACIJA prije pune provedb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VELIKI broj podataka, ali i proširenja s novim podacima (npr. e-learn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način izbora studentskih članov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izbor članova povjerenstava za “jedinstvena” VU (npr. farmacij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težinski faktori” pojedinih ocje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modifikacije dokumenata za VU umjetničkih područja, veleučilišta, itd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16A-EF79-4E5E-8EB1-7F8C86FA8619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79930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Upute za sastavljanje 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Tablica uz samoanalizu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 visokog učilišta u sastavu sveučiliš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Upute za sastavljanje 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Samoanalize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 visokih učiliš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Upute za sastavljanje 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Završnog izvješća</a:t>
            </a: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 stručnog povjerenstva za vanjsko vrednovanje visokih učilišta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ff00"/>
                </a:solidFill>
                <a:latin typeface="Arial"/>
              </a:rPr>
              <a:t>Obilježja visokih učilišta i studijskih programa i indikatori kvalitete u postupku  vrednovanja visokih učilišta </a:t>
            </a:r>
            <a:r>
              <a:rPr b="1" lang="hr-HR" sz="2800" spc="-1" strike="noStrike">
                <a:solidFill>
                  <a:srgbClr val="00ff00"/>
                </a:solidFill>
                <a:latin typeface="Arial"/>
              </a:rPr>
              <a:t>(“kriteriji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F84-B3DA-46A5-96D6-1A8DDA7022A5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2000" y="1197000"/>
            <a:ext cx="8982000" cy="461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5B1-F1AC-4DF3-B92B-69D76F627657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63080" cy="895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-181080" y="1557360"/>
            <a:ext cx="9591840" cy="2133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95280" y="3933720"/>
            <a:ext cx="3000240" cy="4478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95280" y="4508640"/>
            <a:ext cx="5438880" cy="352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395280" y="5013360"/>
            <a:ext cx="4657680" cy="438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468360" y="5661000"/>
            <a:ext cx="4238640" cy="4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83EC-4D9D-436E-8B8A-AD6F06007845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96760" y="188640"/>
            <a:ext cx="7633080" cy="11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ZAK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  <a:ea typeface="Arial"/>
              </a:rPr>
              <a:t>O ZNANSTVENOJ DJELATNOSTI I VISOKOM OBRAZOVANJ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00"/>
                </a:solidFill>
                <a:latin typeface="Arial"/>
                <a:ea typeface="Arial"/>
              </a:rPr>
              <a:t>NN 123 (2003</a:t>
            </a:r>
            <a:r>
              <a:rPr b="1" lang="hr-HR" sz="18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173664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37944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Čl. 7: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NVVO provodi vrednovanje visokih učilišta i studijskih programa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te predlaže ministru izdavanje dopusn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7944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7944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Čl. 16: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Visoka učilišta, kao i njihove sastavnice, vrednuju se najmanje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svakih pet godin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7944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7944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Provjera kvalitete i učinkovitosti  visokih učilišta obavlja se na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temelju pravilnika koji na prijedlog NVVO donosi ministar,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uvažavajući posebnosti pojedinih područja znanosti, umjetnosti i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visokog obrazov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7944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7944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Čl. 18:      Na temelju rezultata vrednovanja visokog učilišta, NVVO   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       preporučuje ministru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7944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izda dopusnicu za ra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7944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uputi pismo očekivanja i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79440"/>
                <a:tab algn="l" pos="1366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  <a:ea typeface="Arial"/>
              </a:rPr>
              <a:t>uskrati dopusni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495-50AB-4A1A-8A65-562AC57B5215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72240" cy="39798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908000" y="3648240"/>
            <a:ext cx="6896160" cy="320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E549-73CE-48EB-A9DA-49E2948B88C6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726320" cy="4091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7450200" cy="6987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971640" y="5589720"/>
            <a:ext cx="7665840" cy="60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4A2-C094-4477-845F-09366D2714BC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92120" y="0"/>
            <a:ext cx="8651880" cy="689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426F-B06A-4123-98B3-EAB43A2E1460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324640" cy="15051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8067600" cy="2028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1FD-D368-4D28-ABCF-5CBB94465D62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95280" y="866880"/>
            <a:ext cx="8353440" cy="512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66E-1C4A-4168-A500-942C26152B8A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5572080" cy="3076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533840" cy="3495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60800" b="0"/>
          <a:stretch/>
        </p:blipFill>
        <p:spPr>
          <a:xfrm>
            <a:off x="611280" y="907920"/>
            <a:ext cx="3095640" cy="98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350-259C-432B-8F66-8D0A3763B0AB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7944120" cy="2181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7886520" cy="1362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6057720" cy="505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68360" y="4508640"/>
            <a:ext cx="5533920" cy="361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68360" y="4941720"/>
            <a:ext cx="7315200" cy="781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468360" y="5805360"/>
            <a:ext cx="2962080" cy="38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8CC-743F-4019-B9C3-F1E1F056FF27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083520" cy="530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7839000" cy="116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85F-A23F-48B2-A89E-211B2441A844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19880" cy="5572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796000" y="4437000"/>
            <a:ext cx="2476440" cy="216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029-C967-444A-9722-843B1D84279A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0" t="16923" r="0" b="0"/>
          <a:stretch/>
        </p:blipFill>
        <p:spPr>
          <a:xfrm>
            <a:off x="324000" y="1700280"/>
            <a:ext cx="8694720" cy="233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A2BC-891A-4695-943D-83AFBB39C636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62800" cy="20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NVVO (</a:t>
            </a: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krajem 2006. godine):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  </a:t>
            </a:r>
            <a:br>
              <a:rPr sz="2800"/>
            </a:b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IZRADA PRIJEDLOGA DOKUMENATA ZA VREDNOVANJE VISOKIH UČILIŠTA</a:t>
            </a:r>
            <a:br>
              <a:rPr sz="2400"/>
            </a:b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ČLANOVI POVJERENSTVA: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2923920"/>
            <a:ext cx="8229600" cy="31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prof. dr. sc. Antonije Dulči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prof. dr. sc. Rudolf Scitovs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prof. dr. sc. Branko Rafaj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</a:rPr>
              <a:t>prof. dr. sc. Amir Hamzić   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hamzic@phy.h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236-E3B5-4318-8B5E-F7588D6BD609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79280" y="835200"/>
            <a:ext cx="5510160" cy="6022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72280" y="981000"/>
            <a:ext cx="3771720" cy="6220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908000" y="0"/>
            <a:ext cx="805824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0D0-1768-4330-ABE9-6E3A5AA42F0D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46786" r="0" b="0"/>
          <a:stretch/>
        </p:blipFill>
        <p:spPr>
          <a:xfrm>
            <a:off x="0" y="907920"/>
            <a:ext cx="9925200" cy="2048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8774280" cy="253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BF5B-978A-445D-B2ED-AF87E3BEEC8F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43920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FB57-337E-4EA3-8FEC-64360D95710B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584820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843280" y="1916280"/>
            <a:ext cx="5238720" cy="2581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061520" y="5661000"/>
            <a:ext cx="46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  <a:ea typeface="Arial"/>
              </a:rPr>
              <a:t>itd. itd.   - u skladu s Tabli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13D-4CB8-432D-847B-E8AA1FDA80B5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8160" y="692280"/>
            <a:ext cx="9105840" cy="240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-252360" y="3284640"/>
            <a:ext cx="10048680" cy="34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8771-0E00-495D-A0D1-4010D0301E7C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920" y="2062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Lucida Sans"/>
                <a:ea typeface="Arial"/>
              </a:rPr>
              <a:t>Np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9271080" cy="3058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8748720" cy="2451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18680" y="364500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Lucida Sans"/>
                <a:ea typeface="Arial"/>
              </a:rPr>
              <a:t>Itd. itd.... NA KRAJ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811-F9C6-4F13-A9E2-58F3B668E584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9280" y="189000"/>
            <a:ext cx="871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ff00"/>
                </a:solidFill>
                <a:latin typeface="Lucida Sans"/>
                <a:ea typeface="Arial"/>
              </a:rPr>
              <a:t>Obilježja visokih učilišta i studijskih programa i indikatori kvalitete u postupku  vrednovanja visokih učilišta </a:t>
            </a:r>
            <a:r>
              <a:rPr b="1" lang="hr-HR" sz="2400" spc="-1" strike="noStrike">
                <a:solidFill>
                  <a:srgbClr val="00ff00"/>
                </a:solidFill>
                <a:latin typeface="Lucida Sans"/>
                <a:ea typeface="Arial"/>
              </a:rPr>
              <a:t>(“kriteriji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9083880" cy="529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61C3-3B12-4A2A-A086-756478D0D618}" type="slidenum">
              <a:t>36</a:t>
            </a:fld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252360" y="476280"/>
            <a:ext cx="9864720" cy="56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AF89-B255-4957-9E20-E2051365EFBB}" type="slidenum">
              <a:t>37</a:t>
            </a:fld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7200720" cy="1041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1402-2C90-4CEE-A25E-075EC316A8FD}" type="slidenum">
              <a:t>38</a:t>
            </a:fld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6953400" cy="872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D86-DC7F-4A9A-9E02-E944BCA1D4C2}" type="slidenum">
              <a:t>39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ff00"/>
                </a:solidFill>
                <a:latin typeface="Arial"/>
              </a:rPr>
              <a:t>Dokumenti za vrednovanje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00"/>
                </a:solidFill>
                <a:latin typeface="Arial"/>
              </a:rPr>
              <a:t>Postupak vrednovanja visokih učilišta </a:t>
            </a: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(prihvaćeno na sjednici NVVO, 16. svibnja 2007. god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hr-HR" sz="2000" spc="-1" strike="noStrike" u="sng">
                <a:solidFill>
                  <a:srgbClr val="ffffff"/>
                </a:solidFill>
                <a:uFillTx/>
                <a:latin typeface="Arial"/>
              </a:rPr>
              <a:t>U završnoj fazi izr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Upute za sastavljanje 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Tablica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uz samoanalizu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visokog učilišta u sastavu sveučiliš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Upute za sastavljanje 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Samoanalize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visokih učiliš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Upute za sastavljanje 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Završnog izvješća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 stručnog povjerenstva za vanjsko vrednovanje visokih učiliš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Obilježja visokih učilišta i studijskih programa i indikatori kvalitete u postupku  vrednovanja visokih učilišta </a:t>
            </a:r>
            <a:r>
              <a:rPr b="1" lang="hr-HR" sz="2000" spc="-1" strike="noStrike">
                <a:solidFill>
                  <a:srgbClr val="ffff00"/>
                </a:solidFill>
                <a:latin typeface="Arial"/>
              </a:rPr>
              <a:t>(“kriteriji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5EC-C667-4271-A266-990AF72FBF42}" type="slidenum">
              <a:t>4</a:t>
            </a:fld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40" y="692280"/>
            <a:ext cx="9193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Zaključak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vjerujemo da radimo dobar posao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uvjereni smo da će provedene evaluacije biti 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samo baza za dodjelu dopusnica već će predstavlj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i korisne analize za visoka učilišt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svjesni smo da (svi, uvijek) neće o nama im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Arial"/>
                <a:ea typeface="Arial"/>
              </a:rPr>
              <a:t>najpozitivnije mišljenj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054-CC50-490D-8025-CF8A4613A90E}" type="slidenum">
              <a:t>40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Arial"/>
              </a:rPr>
              <a:t>PREZENTACI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Postupak vrednovan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oko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tručno povjerenst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kriteriji  imenovanja članova stručnih povjerenst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elevantni dokumenti za članove povjeren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uloga i postupci AZVO u pripremi i provođenju vredn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završni postupci i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Ostali dokumenti – pregled radnih materij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09B-09F3-4348-9EE0-3C884E961848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Arial"/>
              </a:rPr>
              <a:t>VAŽNI ROKOVI I PROCE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4072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NVVO:  do 30. lipnja utvrđuje plan vrednovanja visokih učilišta za sljedeću kalendarsku godinu i popis imenovanih eksperat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dokumenti i popis imenovanih eksperata na mrežnoj stranici NV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VU ima mogućnost traženja odgode za godinu d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između najave vrednovanja i posjete stručnog povjerenstva  </a:t>
            </a:r>
            <a:r>
              <a:rPr b="1" lang="hr-HR" sz="2000" spc="-1" strike="noStrike">
                <a:solidFill>
                  <a:srgbClr val="66ff99"/>
                </a:solidFill>
                <a:latin typeface="Arial"/>
              </a:rPr>
              <a:t>minimalno 3 mjeseca 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u tom roku VU sastavlja i dostavlja Tablice za samoanalizu i Samoanaliz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NVVO imenuje stručno povjerenstvo (3 mjeseca prije posje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stručno povjerenstvo podnosi pismeno završno izvješće unutar 30 dana nakon posjete (prezentacija izvještaja VU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VU se očituje o izvješću u roku od 15 d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C2EF-AB96-4911-8536-87F2707CFA0B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00"/>
                </a:solidFill>
                <a:latin typeface="Arial"/>
              </a:rPr>
              <a:t>Stručno povjerenstvo </a:t>
            </a: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(5 ili više članov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Arial"/>
              </a:rPr>
              <a:t>3 sveučilišna profesora</a:t>
            </a:r>
            <a:r>
              <a:rPr b="0" lang="hr-HR" sz="2200" spc="-1" strike="noStrike">
                <a:solidFill>
                  <a:srgbClr val="ffff00"/>
                </a:solidFill>
                <a:latin typeface="Arial"/>
              </a:rPr>
              <a:t> (ili znanstvenika) iz (istih ili “bliskih”) znanstvenih polja u kojima se izvode studijski programi na vrednovanome visokom učilištu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00"/>
                </a:solidFill>
                <a:latin typeface="Arial"/>
              </a:rPr>
              <a:t>zaposlenici ili suradnici vrednovane ustanove isključeni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Arial"/>
              </a:rPr>
              <a:t>barem jedan iz nekog drugog hrvatskog sveučilišta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Arial"/>
              </a:rPr>
              <a:t>barem jedan iz inozemst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Arial"/>
              </a:rPr>
              <a:t>1 sveučilišni profesor</a:t>
            </a:r>
            <a:r>
              <a:rPr b="0" lang="hr-HR" sz="2200" spc="-1" strike="noStrike">
                <a:solidFill>
                  <a:srgbClr val="ffff00"/>
                </a:solidFill>
                <a:latin typeface="Arial"/>
              </a:rPr>
              <a:t> iz  znanstvenog područja u koje </a:t>
            </a:r>
            <a:r>
              <a:rPr b="0" lang="hr-HR" sz="2200" spc="-1" strike="noStrike" u="sng">
                <a:solidFill>
                  <a:srgbClr val="ffff00"/>
                </a:solidFill>
                <a:uFillTx/>
                <a:latin typeface="Arial"/>
              </a:rPr>
              <a:t>ne</a:t>
            </a:r>
            <a:r>
              <a:rPr b="0" lang="hr-HR" sz="2200" spc="-1" strike="noStrike">
                <a:solidFill>
                  <a:srgbClr val="ffff00"/>
                </a:solidFill>
                <a:latin typeface="Arial"/>
              </a:rPr>
              <a:t> ulaze studijski programi koje izvodi vrednovano visoko učilište, a koji je ujedno </a:t>
            </a:r>
            <a:r>
              <a:rPr b="1" lang="hr-HR" sz="2200" spc="-1" strike="noStrike">
                <a:solidFill>
                  <a:srgbClr val="ffffff"/>
                </a:solidFill>
                <a:latin typeface="Arial"/>
              </a:rPr>
              <a:t>dobar poznavatelj (ekspert)  sustava za osiguranje kvalitete visokog obrazovanja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ffffff"/>
                </a:solidFill>
                <a:latin typeface="Arial"/>
              </a:rPr>
              <a:t>1 student</a:t>
            </a:r>
            <a:r>
              <a:rPr b="0" lang="hr-HR" sz="2200" spc="-1" strike="noStrike">
                <a:solidFill>
                  <a:srgbClr val="ffff00"/>
                </a:solidFill>
                <a:latin typeface="Arial"/>
              </a:rPr>
              <a:t> iz (istog ili “bliskog”) znanstvenog polja u kojima su studijski programi vrednovanog visokog učilišta, ali s drugog hrvatskog sveučiliš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C120-C526-4B1D-A470-25CE1960DBA8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Arial"/>
              </a:rPr>
              <a:t>KRITERIJI ZA IMENOVANJE ČLANOVA STRUČNIH POVJEREN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40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(provjerena)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nastavna izvrsnost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na matičnom visokom učilištu (- daju vlastiti doprinos kvaliteti visokog obrazovanj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(provjerena)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znanstvena izvrsnost</a:t>
            </a: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 s međunarodnom verifikacijom uspješnosti i kvalit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ffff00"/>
                </a:solidFill>
                <a:uFillTx/>
                <a:latin typeface="Arial"/>
              </a:rPr>
              <a:t>dodat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ekspert za sustav osiguranja kvalitete:  poznavanje domaćih i međunarodnih standarda u osiguranju kvalitete visokog obrazovanja;   iskustvo u uspostavljanju i/ili provođenju sustava osiguranja kvalit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Arial"/>
              </a:rPr>
              <a:t>Student  - postignuta kvaliteta u studiranju i poznavanje domaćih i međunarodnih standarda u osiguranju kvalitete visokog obraz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BFFC-C31B-441B-A4E4-1979267BF925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ff00"/>
                </a:solidFill>
                <a:latin typeface="Arial"/>
              </a:rPr>
              <a:t>DOKUMENTI KOJI SE DOSTAVLJAJU ČLANOVIMA POVJERENST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920" y="2017440"/>
            <a:ext cx="791208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ff00"/>
                </a:solidFill>
                <a:latin typeface="Arial"/>
              </a:rPr>
              <a:t>Imenovanje članova koje je potpisao predsjednik Nacionalnog vijeć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ff00"/>
                </a:solidFill>
                <a:latin typeface="Arial"/>
              </a:rPr>
              <a:t>Prijedlog ugovora kojim se utvrđuju obveze člana stručnog povjerenstva i obveze NVVO i AZVO, što uključuje i financijske obve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ff00"/>
                </a:solidFill>
                <a:latin typeface="Arial"/>
              </a:rPr>
              <a:t>Pravilnik o mjerilima i kriterijima za vrednovanje kvalitete i učinkovitosti visokih učilišta i studijskih program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ff00"/>
                </a:solidFill>
                <a:latin typeface="Arial"/>
              </a:rPr>
              <a:t>Indikatore za vrednovanje visokih učilišta koje provodi Nacionalno vijeć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ff00"/>
                </a:solidFill>
                <a:latin typeface="Arial"/>
              </a:rPr>
              <a:t>Upute za sastavljanje Tablica uz samoanaliz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ff00"/>
                </a:solidFill>
                <a:latin typeface="Arial"/>
              </a:rPr>
              <a:t>Upute za sastavljanje Samoanaliz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ff00"/>
                </a:solidFill>
                <a:latin typeface="Arial"/>
              </a:rPr>
              <a:t>Upute za pisanje Završnog izvješća povjerenstv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ff00"/>
                </a:solidFill>
                <a:latin typeface="Arial"/>
              </a:rPr>
              <a:t>Postupak vredn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0925-91E2-48C6-A1E3-F0468FA5CB00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0:55:30Z</dcterms:created>
  <dc:creator>mdordevic</dc:creator>
  <dc:description/>
  <dc:language>en-US</dc:language>
  <cp:lastModifiedBy>AZVO</cp:lastModifiedBy>
  <dcterms:modified xsi:type="dcterms:W3CDTF">2007-05-31T12:48:08Z</dcterms:modified>
  <cp:revision>39</cp:revision>
  <dc:subject/>
  <dc:title>Tablica uz samoanalizu visokog učilišta</dc:title>
</cp:coreProperties>
</file>