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237-7DE1-4BA4-ADCB-85F247DE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07520"/>
            <a:ext cx="822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4D1-A641-4FB1-9D33-A5D9D22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F15-DC8C-46E4-AC44-55C0988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0752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0752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0752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975-AB5A-495D-A9A3-A058B801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78C5-0EFF-4D08-AA97-30FB5FF1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B784-3B9C-4656-9F44-E2A5060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82E-228B-42D8-A0B4-03C9601F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D27-51FA-42FF-8DDB-CCCF7FF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0C11-5D8F-4EBC-A5C2-166BCA8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76480" y="333000"/>
            <a:ext cx="6888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1609-791A-47AE-A72A-78EDFD9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2F7A-CF0A-47CF-9772-342D06B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F26-23A3-4220-B59A-13B9E3B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B516-3235-4CFC-B4E6-23AC0A2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520"/>
            <a:ext cx="822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A4CF-9300-4BBC-976A-68B50C0B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520"/>
            <a:ext cx="822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9165-3110-4ED9-A06B-8B393296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6FA8-4CD1-4F8D-A2A6-B10622D6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52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0752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07520"/>
            <a:ext cx="264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1305-59DD-492B-9966-77EED6A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9DF-24EF-462B-B256-57C501EA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7FF-1193-4166-836D-83FA49C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B24-C222-408B-99C0-D0FEC5D8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76480" y="333000"/>
            <a:ext cx="6888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9B9-2BD1-40F7-84A1-FD40D791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EC7-ADF8-4CF7-83F9-2538D85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0752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629-570B-4ED8-BAE4-5AF3008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76480" y="293400"/>
            <a:ext cx="6888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07520"/>
            <a:ext cx="82296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556-549C-4EC6-A700-BD62E49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emo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3024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memo"/>
          <p:cNvPicPr/>
          <p:nvPr/>
        </p:nvPicPr>
        <p:blipFill>
          <a:blip r:embed="rId3"/>
          <a:stretch/>
        </p:blipFill>
        <p:spPr>
          <a:xfrm>
            <a:off x="0" y="2117880"/>
            <a:ext cx="9144000" cy="45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514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600" y="6400440"/>
            <a:ext cx="2743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3523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98F9-B3A2-4FC6-887D-521871706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98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pic>
        <p:nvPicPr>
          <p:cNvPr id="7" name="Picture 11" descr="novi logo"/>
          <p:cNvPicPr/>
          <p:nvPr/>
        </p:nvPicPr>
        <p:blipFill>
          <a:blip r:embed="rId4"/>
          <a:srcRect l="7753" t="12897" r="12840" b="10287"/>
          <a:stretch/>
        </p:blipFill>
        <p:spPr>
          <a:xfrm>
            <a:off x="108000" y="333360"/>
            <a:ext cx="15112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powerpoint-templat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SEM_logo_big2"/>
          <p:cNvPicPr/>
          <p:nvPr/>
        </p:nvPicPr>
        <p:blipFill>
          <a:blip r:embed="rId3"/>
          <a:stretch/>
        </p:blipFill>
        <p:spPr>
          <a:xfrm>
            <a:off x="3276720" y="620640"/>
            <a:ext cx="2663640" cy="265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63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698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6900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62580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320" y="665460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54B-1884-4F91-9611-E74040819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611280" y="3716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62626"/>
                </a:solidFill>
                <a:latin typeface="Arial"/>
              </a:rPr>
              <a:t>Unutarnji sustav osiguravanja kvalitete na Zagrebačkoj školi ekonomije i managementa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12d63"/>
                </a:solidFill>
                <a:latin typeface="Arial"/>
              </a:rPr>
              <a:t>Hvala vam na pozornosti.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12d63"/>
                </a:solidFill>
                <a:latin typeface="Arial"/>
              </a:rPr>
              <a:t>(nadam se da je bilo ”kvalitetno”)</a:t>
            </a:r>
            <a:endParaRPr b="0" lang="en-US" sz="1600" spc="-1" strike="noStrike">
              <a:solidFill>
                <a:srgbClr val="012d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Sustav osiguravanja kvalitete</a:t>
            </a: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557360"/>
            <a:ext cx="8228520" cy="4689720"/>
            <a:chOff x="457200" y="1557360"/>
            <a:chExt cx="8228520" cy="4689720"/>
          </a:xfrm>
        </p:grpSpPr>
        <p:cxnSp>
          <p:nvCxnSpPr>
            <p:cNvPr id="90" name="_s88087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3432600"/>
              <a:ext cx="588240" cy="1876680"/>
            </a:xfrm>
            <a:prstGeom prst="bentConnector2">
              <a:avLst/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93" name="_s88085"/>
            <p:cNvCxnSpPr>
              <a:stCxn id="94" idx="3"/>
              <a:endCxn id="92" idx="2"/>
            </p:cNvCxnSpPr>
            <p:nvPr/>
          </p:nvCxnSpPr>
          <p:spPr>
            <a:xfrm flipV="1">
              <a:off x="3983760" y="3432600"/>
              <a:ext cx="588240" cy="1876680"/>
            </a:xfrm>
            <a:prstGeom prst="bentConnector2">
              <a:avLst/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92" name="_s88081"/>
            <p:cNvSpPr/>
            <p:nvPr/>
          </p:nvSpPr>
          <p:spPr>
            <a:xfrm>
              <a:off x="2808000" y="1557360"/>
              <a:ext cx="3526560" cy="187596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900" spc="-1" strike="noStrike">
                  <a:solidFill>
                    <a:srgbClr val="4d4d4d"/>
                  </a:solidFill>
                  <a:latin typeface="Arial"/>
                </a:rPr>
                <a:t>Odbor za kvalitetu</a:t>
              </a:r>
              <a:endParaRPr b="0" lang="en-US" sz="29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900" spc="-1" strike="noStrike">
                  <a:solidFill>
                    <a:srgbClr val="4d4d4d"/>
                  </a:solidFill>
                  <a:latin typeface="Arial"/>
                </a:rPr>
                <a:t>(Pravilnik “o kvaliteti”, </a:t>
              </a:r>
              <a:endParaRPr b="0" lang="en-US" sz="29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900" spc="-1" strike="noStrike">
                  <a:solidFill>
                    <a:srgbClr val="4d4d4d"/>
                  </a:solidFill>
                  <a:latin typeface="Arial"/>
                </a:rPr>
                <a:t>Akcijski plan)</a:t>
              </a:r>
              <a:endParaRPr b="0" lang="en-US" sz="29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_s88082"/>
            <p:cNvSpPr/>
            <p:nvPr/>
          </p:nvSpPr>
          <p:spPr>
            <a:xfrm>
              <a:off x="457200" y="4371120"/>
              <a:ext cx="3526560" cy="187596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500" spc="-1" strike="noStrike">
                  <a:solidFill>
                    <a:srgbClr val="4d4d4d"/>
                  </a:solidFill>
                  <a:latin typeface="Arial"/>
                </a:rPr>
                <a:t>Nacionalna </a:t>
              </a:r>
              <a:endParaRPr b="0" lang="en-US" sz="25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500" spc="-1" strike="noStrike">
                  <a:solidFill>
                    <a:srgbClr val="4d4d4d"/>
                  </a:solidFill>
                  <a:latin typeface="Arial"/>
                </a:rPr>
                <a:t>reakreditacija</a:t>
              </a:r>
              <a:endParaRPr b="0" lang="en-US" sz="2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_s88084"/>
            <p:cNvSpPr/>
            <p:nvPr/>
          </p:nvSpPr>
          <p:spPr>
            <a:xfrm>
              <a:off x="5159160" y="4371120"/>
              <a:ext cx="3526560" cy="187596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500" spc="-1" strike="noStrike">
                  <a:solidFill>
                    <a:srgbClr val="4d4d4d"/>
                  </a:solidFill>
                  <a:latin typeface="Arial"/>
                </a:rPr>
                <a:t>AACSB</a:t>
              </a:r>
              <a:endParaRPr b="0" lang="en-US" sz="2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Proces mjerenja ishoda učenja</a:t>
            </a: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pic>
        <p:nvPicPr>
          <p:cNvPr id="96" name="Diagram 1" descr=""/>
          <p:cNvPicPr/>
          <p:nvPr/>
        </p:nvPicPr>
        <p:blipFill>
          <a:blip r:embed="rId1"/>
          <a:srcRect l="-36427" t="0" r="-36621" b="0"/>
          <a:stretch/>
        </p:blipFill>
        <p:spPr>
          <a:xfrm>
            <a:off x="611280" y="1557360"/>
            <a:ext cx="820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f698d"/>
                </a:solidFill>
                <a:latin typeface="Arial"/>
              </a:rPr>
              <a:t>Ciljevi u silabusu</a:t>
            </a: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pic>
        <p:nvPicPr>
          <p:cNvPr id="98" name="Rectangle 5" descr=""/>
          <p:cNvPicPr/>
          <p:nvPr/>
        </p:nvPicPr>
        <p:blipFill>
          <a:blip r:embed="rId1"/>
          <a:srcRect l="17714" t="0" r="17714" b="0"/>
          <a:stretch/>
        </p:blipFill>
        <p:spPr>
          <a:xfrm>
            <a:off x="0" y="1125360"/>
            <a:ext cx="4210200" cy="431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7714" t="0" r="17714" b="9448"/>
          <a:stretch/>
        </p:blipFill>
        <p:spPr>
          <a:xfrm>
            <a:off x="4427640" y="2070000"/>
            <a:ext cx="471636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f698d"/>
                </a:solidFill>
                <a:latin typeface="Arial"/>
              </a:rPr>
              <a:t>Mapiranje ciljeva po predmetima</a:t>
            </a: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1"/>
          <a:srcRect l="19190" t="1417" r="19190" b="33067"/>
          <a:stretch/>
        </p:blipFill>
        <p:spPr>
          <a:xfrm>
            <a:off x="0" y="981000"/>
            <a:ext cx="896472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Tim za mjerenje ishoda učenja</a:t>
            </a: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12d63"/>
                </a:solidFill>
                <a:latin typeface="Arial"/>
              </a:rPr>
              <a:t>Za provedbu mjerenja zadužena je skupina zaposlenika, njihova su zaduženja: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Praćenje mjere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Osmišljavanje mjernih instrumena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Edukacija nastavnog kadra u vezi mjerenja (cilj: 80% nastavnika aktivno u projektu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Analiza rezultata mjerenja i uvođenje povratne vez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Predlaganje mogućih poboljšanja na mjestima gdje su to mjerenja pokazal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f698d"/>
                </a:solidFill>
                <a:latin typeface="Arial"/>
              </a:rPr>
              <a:t>Organizacijska shema provedbe AOL programa - Stručni studij</a:t>
            </a:r>
            <a:br>
              <a:rPr sz="3200"/>
            </a:b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26370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oordinator supervizora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844640"/>
            <a:ext cx="2057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Izješćivanje, webCT i arhiva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3398760"/>
            <a:ext cx="115236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računovodstv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4313160"/>
            <a:ext cx="10285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managem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4313160"/>
            <a:ext cx="10288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marketing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8760" y="4313160"/>
            <a:ext cx="1028520" cy="7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strane jezik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4313160"/>
            <a:ext cx="1028880" cy="84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matemat. i statis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398760"/>
            <a:ext cx="10288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ekonomiju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398760"/>
            <a:ext cx="10288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financij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3429000"/>
            <a:ext cx="10285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IC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6160" y="3398760"/>
            <a:ext cx="10285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ated. za prav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589720"/>
            <a:ext cx="4229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Predavači na kolegijima katedri koji vrše mjerenja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068640"/>
            <a:ext cx="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3213000"/>
            <a:ext cx="56880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213000"/>
            <a:ext cx="0" cy="1079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213000"/>
            <a:ext cx="0" cy="216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213000"/>
            <a:ext cx="0" cy="216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3213000"/>
            <a:ext cx="0" cy="1079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213000"/>
            <a:ext cx="0" cy="1079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14560" y="4149720"/>
            <a:ext cx="28872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149720"/>
            <a:ext cx="0" cy="431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4149720"/>
            <a:ext cx="28764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987280" y="4149720"/>
            <a:ext cx="71640" cy="216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0560" y="4149720"/>
            <a:ext cx="0" cy="431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149720"/>
            <a:ext cx="73080" cy="2872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27280" y="4149720"/>
            <a:ext cx="73080" cy="216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149720"/>
            <a:ext cx="0" cy="431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5080" y="4149720"/>
            <a:ext cx="71280" cy="216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90560" y="5084640"/>
            <a:ext cx="2890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5084640"/>
            <a:ext cx="0" cy="432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5084640"/>
            <a:ext cx="2872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03280" y="5084640"/>
            <a:ext cx="21780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5084640"/>
            <a:ext cx="2872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5084640"/>
            <a:ext cx="71640" cy="2890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524360" y="4149720"/>
            <a:ext cx="144360" cy="2872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4149720"/>
            <a:ext cx="0" cy="431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3800" y="4149720"/>
            <a:ext cx="2872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0000" y="4149720"/>
            <a:ext cx="71640" cy="3589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4149720"/>
            <a:ext cx="0" cy="431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6360" y="4149720"/>
            <a:ext cx="71280" cy="2872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050560" y="5084640"/>
            <a:ext cx="2890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5084640"/>
            <a:ext cx="0" cy="432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084640"/>
            <a:ext cx="2872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213000"/>
            <a:ext cx="0" cy="144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3213000"/>
            <a:ext cx="0" cy="144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516720" y="5229360"/>
            <a:ext cx="28872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5229360"/>
            <a:ext cx="0" cy="4316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50160" y="5229360"/>
            <a:ext cx="287280" cy="3603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3213000"/>
            <a:ext cx="0" cy="1152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f698d"/>
                </a:solidFill>
                <a:latin typeface="Arial"/>
              </a:rPr>
              <a:t>Tečaj za edukaciju nastavnika o mjerenjima ishoda učenja u skladu s naputcima AACSB.a</a:t>
            </a:r>
            <a:endParaRPr b="1" lang="en-US" sz="2000" spc="-1" strike="noStrike">
              <a:solidFill>
                <a:srgbClr val="2f698d"/>
              </a:solidFill>
              <a:latin typeface="Arial"/>
            </a:endParaRPr>
          </a:p>
        </p:txBody>
      </p:sp>
      <p:pic>
        <p:nvPicPr>
          <p:cNvPr id="155" name="Rectangle 5" descr=""/>
          <p:cNvPicPr/>
          <p:nvPr/>
        </p:nvPicPr>
        <p:blipFill>
          <a:blip r:embed="rId1"/>
          <a:stretch/>
        </p:blipFill>
        <p:spPr>
          <a:xfrm>
            <a:off x="708120" y="1268280"/>
            <a:ext cx="772632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76480" y="333000"/>
            <a:ext cx="68882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Ostali načini osiguravanja kvalitete </a:t>
            </a:r>
            <a:endParaRPr b="1" lang="en-US" sz="3200" spc="-1" strike="noStrike">
              <a:solidFill>
                <a:srgbClr val="2f698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12d63"/>
                </a:solidFill>
                <a:latin typeface="Arial"/>
              </a:rPr>
              <a:t>Indirektna mjerenja: ulazne i izlazne studentske ankete, evaluacije nastavnika i kolegija, upitnici o zadovoljstvu studiranjem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12d63"/>
                </a:solidFill>
                <a:latin typeface="Arial"/>
              </a:rPr>
              <a:t>SPOT – program mentorstva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12d63"/>
                </a:solidFill>
                <a:latin typeface="Arial"/>
              </a:rPr>
              <a:t>Savjetovanje za studente</a:t>
            </a:r>
            <a:endParaRPr b="0" lang="en-US" sz="2800" spc="-1" strike="noStrike">
              <a:solidFill>
                <a:srgbClr val="012d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5:33:23Z</dcterms:created>
  <dc:creator>Natalija Jug - PARLOV</dc:creator>
  <dc:description/>
  <dc:language>en-US</dc:language>
  <cp:lastModifiedBy>Korisnik</cp:lastModifiedBy>
  <dcterms:modified xsi:type="dcterms:W3CDTF">2010-09-12T17:39:24Z</dcterms:modified>
  <cp:revision>140</cp:revision>
  <dc:subject/>
  <dc:title>PowerPoint Template</dc:title>
</cp:coreProperties>
</file>