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7547-2ED2-481F-9171-A74C9A571C8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1EBE-A4E1-4D92-8928-353E9344CF0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762-C7FF-40A3-8D55-FB488E26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880-0172-433B-B3D8-2658C14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B79-4439-4A81-AC1E-455CEC74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C2E-4FFE-4E7E-AE5F-262AA7EF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5A53-5378-423F-845B-1A184F26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D4F-10AE-4497-ADCF-C02C89ED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8DB6-A624-4D31-9057-4BC3EB7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96B-E152-467A-8AF7-D5308A8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A73-A4BF-44BF-8955-D847BE7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902-210B-4A85-A347-BBCCCAC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1609-EDBA-4FF7-8D5B-3BA3F18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13D-7B15-446E-9FFA-FFFC4C9B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97C1-0F8B-4EC2-88CC-E15CA82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5CD-5228-4E21-9847-51C0EC0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2E7E-9593-480E-826C-04E260AA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893F-BE66-47D4-9682-3A978F13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D412-1F09-45E9-BFFB-A343E9D5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3B84-5B6C-4E16-974D-4D3B34CE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ED52-781E-4C03-A260-3EB5CB23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3F7E-397B-452A-8539-004E63D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FA9A-A8B7-4CFD-9D98-7E334D7F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5542-C64A-4B9E-AEB8-C9BE879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D83-8D7B-434B-A061-1A90ED5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A4CB-9970-4462-B4B5-D181F6B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0D61-61A1-4CA8-A2ED-3D67811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69DD-B26D-4622-849A-05B8985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F516-2ED8-47CB-BD32-2A55F50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B65B-7E65-4830-969B-253A4135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5E97-D2E6-4417-BF04-EA2B13A8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8F5E-3F0C-4EB5-A8F8-B285A995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24BB-2348-4275-AE7F-AF7C2D4B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243A-5297-4FD7-8491-78F1490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28C3-F2DF-442B-A2E6-2F371B2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A1A-A1B2-4283-B3CE-266C73D8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6492-0048-4B38-BE6F-381A8ED0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AA9F-6844-43E3-AF32-9D3FD17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FC16-008F-48F4-A516-C6DB745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15E9-EDAE-4760-908F-D4B4287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D1E7-674E-4118-94FE-58CF2EC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765C-AD78-417A-96A0-118ADBD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7FE1-429E-4CCA-AA59-D922B1FB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FD9E-AC45-46FD-8638-ABC13530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AC16-85A7-4D2E-920C-E70D95A9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1218-ECAA-4004-9D2C-A06E2D73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520-6A86-49CF-B593-658D1F4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095C-FFF0-41CC-9D42-37CEF9C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8DE6-9050-4631-9BEF-97A62DC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BE325-EA53-46EA-BD1D-A3DD1C9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7FC0-BDE5-4514-8C87-74EABDF3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16A5-0AD8-4197-98D7-44F2CED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9DF6-8A04-4C8C-8A8B-98C32A7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8545-060A-432B-8BF2-6A281E8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3528-2219-4812-8446-787E770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8308-BC39-4F0B-8718-3AD04D4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4EF9-15B5-4884-AFA8-D809A248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259-C52B-4E76-8578-64D43F30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50DD2-2CD9-4051-95B9-F8E6432B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E5D4-5425-42B7-8856-1D363598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CE64-EE5D-4B0D-A852-2962D58F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A448-21D8-4E9E-BD75-C23AA3E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CEA6-9B50-4DCA-88F1-A537F176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385EA-E557-4828-860A-E18C8194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B4D49-9A8F-4E8F-95AD-BBC77BD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320C-8120-4B21-9D27-FDEA29D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FE5DF-3277-4B9F-8416-58CF7CA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4C66-41B5-4046-AD98-E3F2591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7A1-FE61-4DD8-A33E-E69364D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BE64-6F48-4670-9F7A-15F66432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8F78-6F69-49F1-9497-6D299C98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03438-E60B-41A0-AC49-A8A43FE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A019-1051-4EB8-9D6D-A33353D5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16C1-D16D-49E7-8C12-B80E0E8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D932-7676-4DD2-84B4-21AC3D6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FE69-EDC9-4C10-BBCB-2AFDF457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56344-8033-4477-A312-DE5F8BA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4DE0-4BCA-4F47-9EA9-ED66461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E38CA-A31F-49DD-BF80-7EFD5B4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750-68E0-4808-A398-251A0BE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3DF6-9796-4C7A-B69F-3F7ACFC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5593-133B-4BFA-BD44-CFF8E82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571DA-B6B2-4CFA-A871-8D503C3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9157-EA15-4164-84B4-0534168E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2FE6-CAF8-4756-9CBB-DFB6D1B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C4A9E-C8C5-4B46-953D-83731A8F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B0786-7AFA-4575-96B5-59E5084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BBEC-90D3-4420-A5D6-83F8927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2F30B-DB9D-4697-B25E-735693F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48870-0AB9-4D63-AA91-EDC30FC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B2B-DFAF-46CB-BBB9-2108195D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5B9B-B3A2-4B27-8EFE-F6CA548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3914F-0F35-4029-B701-37FB6159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9572-2128-459F-918C-03B24AA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1959-0980-4F1B-B975-C2CA0CF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6EF8-A25E-4542-8364-E1B93CC2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9D57-BCC5-4F50-A0CC-0B61F525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39CE-BB4F-48CB-A3EC-901B7D99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A89E-33A4-4C99-929A-B301C1540985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995A-61D2-43A7-A966-B1661164EE15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kutnik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ravokutnik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ravokutnik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ravokutnik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A916-BDCA-4031-AC5B-2612EEDE0005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50D-35CF-4460-95C3-96E30FB2039A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kutnik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ravokutnik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F6A-0F98-4176-AA85-288252C4CD29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B8D-6667-4A3D-9B43-3C37BD7BFF43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Jednakokračni trokut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4A19-FE5A-4E58-9E6E-DBCA95F4C1DC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422-127F-44C5-8FA9-99E72D06583C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avni poveznik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Jednakokračni trokut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4F0A-9A46-4346-B1F1-D97A619EB79C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3B8-8A60-4139-A4B1-2BFED547AA98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avni poveznik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avni poveznik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Jednakokračni trokut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A64D-6D4D-48CE-BBA3-B5676926AF53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C38-80FC-43FE-B95F-FBF765BD33FF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avni poveznik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Jednakokračni trokut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ravokutnik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DC77-48EA-480D-A58C-14C377A17D60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F10-96F8-403B-803A-58C9C054012C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avni poveznik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Jednakokračni trokut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avni poveznik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FCAB-F369-42E2-AAAB-4A3F0302106F}" type="datetime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286-7E67-4D0A-A13C-BE4648E5995C}" type="slidenum">
              <a:rPr b="0" lang="hr-H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686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INKOVITOST UNUTARNJEG SUSTAVA OSIGURANJA KVALITETE N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RRiF VISOKOJ ŠKOLI ZA FINANCIJSKI MENADŽMENT ZAGREB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64653"/>
                </a:solidFill>
                <a:latin typeface="Bookman Old Style"/>
              </a:rPr>
              <a:t>Jasna Vuk, predavač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464653"/>
                </a:solidFill>
                <a:latin typeface="Bookman Old Style"/>
              </a:rPr>
              <a:t>Ustroj unutarnjeg sustava osiguranja kvalitet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jedinica za osiguranje kvalitete – Ured za osiguranje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tim – dekanica, tajnica VŠ, voditeljica studentske referade, voditeljica Ureda za osiguranje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vanjski suradnici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Rezervirano mjesto podnožj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Matrica odgovornost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Rezervirano mjesto podnožja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0920" y="692280"/>
          <a:ext cx="8569080" cy="6102360"/>
        </p:xfrm>
        <a:graphic>
          <a:graphicData uri="http://schemas.openxmlformats.org/drawingml/2006/table">
            <a:tbl>
              <a:tblPr/>
              <a:tblGrid>
                <a:gridCol w="3367080"/>
                <a:gridCol w="1404720"/>
                <a:gridCol w="1325520"/>
                <a:gridCol w="1290960"/>
                <a:gridCol w="1180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ka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jnica V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 za 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 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iručnik  sustava 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vođenje anketa i anal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ketni listovi (upis, ispis,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je sustava 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amoanaliza V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i 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sklađenost izvedbenih programa s ishodima uč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savršavanje zaposl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okum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njižni 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djelovanje stude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form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apredovanje nastav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aćenje rada nastav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Dokumenti sustava osiguranja kvalite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Rezervirano mjesto podnožja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Statut RRiF Visoke škole za financijski menadž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Godišnji plan i program rada za svaku ak. godin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iručnik sustava osiguranja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avilnik o sustavu osiguranja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adne upute za osoblje visoke škole (usavršavanj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Rezultati provedene unutarnje prosudb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Rezervirano mjesto podnožja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d 1. do 10. rujna 2010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ovedene 3 faze (planiranje, prosudba u užem smislu i izrada izvješć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4.  faza (naknadno praćenje) 8. listopada 2010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ultati provedene unutarnje prosud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razvija se kultura kvalitet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programi – ishodi učenja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ocjenjivanje studenata - pridržavanje kriterija (objavljivanj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nastavnici – trajno usavršavanje, napredovanje, literatura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pomoć studentima – nedovoljno se koristi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sustavi informiranja – novine,  facebook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postignuta je veća uključenost studenata u rad VŠ i razvoj kvalitete (studentske grupe za pomoć pri učenju, novin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464653"/>
                </a:solidFill>
                <a:latin typeface="Gill Sans MT"/>
              </a:rPr>
              <a:t>mobilnost studenata i osoblja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Plan rada za ak. god. 2010./11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Rezervirano mjesto podnožja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64653"/>
                </a:solidFill>
                <a:latin typeface="Gill Sans MT"/>
              </a:rPr>
              <a:t>RRiF Visoka škola za financijski menadž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vođenje samoanalize VŠ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Usavršavanje nastavnog i administrativnog osobl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cjena rada nastavnika – vanjski suradnici sudjeluju u prosudbi kvalitete izvođenja nastavnog proce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ovođenje nastavničkih i studentskih anketa (zimski i ljetni semesta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puna Priručnika sustava osiguranja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44:41Z</dcterms:created>
  <dc:creator>Jasna Vuk</dc:creator>
  <dc:description/>
  <dc:language>en-US</dc:language>
  <cp:lastModifiedBy>Administrator</cp:lastModifiedBy>
  <dcterms:modified xsi:type="dcterms:W3CDTF">2010-09-14T09:27:54Z</dcterms:modified>
  <cp:revision>12</cp:revision>
  <dc:subject/>
  <dc:title>UČINKOVITOST UNUTARNJEG SUSTAVA OSIGURANJA KVALITETE NA  RRiF VISOKOJ ŠKOLI ZA FINANCIJSKI MENADŽMENT ZAGREB</dc:title>
</cp:coreProperties>
</file>