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DA296-028F-40F8-8D28-1FDC924E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EE087-11B7-4FD8-B8E2-AA6600F7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285920" y="274320"/>
            <a:ext cx="7400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8A840-DBA8-451A-8B24-BB0192DD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24544-72EA-4175-A740-655FDFD8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1EABC-1C5C-4E45-B899-FA55A8B8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C74BB-8F68-430B-9C0D-55FC5296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D23BD-8300-4806-AAEC-9820D62E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46683-3B69-4103-AC20-34A4EB36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20CA2-39E6-47F2-9F6A-6DDFEFDB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31A1E-A5E2-4F0F-956C-1A7A97C9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6E1DC-3295-437B-85FB-1F67CF97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1613B-C661-4EDE-991B-BA3077BB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85A45-9A82-403A-98F0-17EDC642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0B313-893D-4E8F-B811-DE2D7759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285920" y="274320"/>
            <a:ext cx="7400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CFD40-E526-46D2-8B7E-8529FCF9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FA010-E5B5-4800-9118-97A1EF42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A6975-0C7D-4E10-98B5-6A7A7EE5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087D1-121E-4F30-B4BD-D98E135A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053BF-82E0-4E7A-8F32-41D85030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A9EDD-2E6D-4CE0-B849-65282038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C6F20-961D-4373-AACF-712FA85E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E73B9-BB2D-4E5F-AC38-DA0B9798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7E9F2-A42A-458D-A494-11E5FE33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4CA14-D21D-4877-84F2-0F97CE34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A725A-01C3-4502-BE30-93BCD53D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7EA82-CE0B-4781-9075-1A5C331A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285920" y="274320"/>
            <a:ext cx="7400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ED0A0-5EB5-4F8C-BF0A-500CC491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66698-11C5-4752-A4F5-3AC3E95B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43C83-9966-4062-AB44-D9D21BFF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18D3F-4968-44CF-8F32-10F7DBE0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9B7-6F9D-4015-86DE-DCF9AFD2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3C79A-D5F7-4C58-9B27-8D9BD207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9DB7F-4DC0-4DE0-86B4-357D2604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F95AA-29AA-4E14-8925-789C6DC6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874-8407-4F9C-B8A8-EAF3E97B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8B4-CE1B-47B6-9208-1002B753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E1E-2E54-462B-9DA3-3F622842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B5A-D671-47CB-A06A-8ADE5F5A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85920" y="274320"/>
            <a:ext cx="7400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DDC-85EA-4E9D-86C1-790D1C8D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53F-52AF-4923-9638-32C82B10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A32-7DEE-4459-B9AA-41CEAB96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AE6-7E56-48E9-9500-79BA2D7B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2D1-A445-42E8-B6A1-B214F97A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23A-853E-48C2-A168-BCC4F6BE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E49-2051-4E72-A717-D475239A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7845-25F2-407B-BCE9-386F95DF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6007-FF19-4138-BB82-762F5D3C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167F-AF07-4B74-A730-65D00180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3647-6451-40A2-95FC-18A31BFB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811A-D96E-4853-B7CD-5EE1D243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85920" y="274320"/>
            <a:ext cx="7400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3C04-1A8C-4BDF-86B7-59B51DB6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13AD-DBD2-4550-B07F-731A054F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441F-186E-4F79-AA08-6E4056B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17C8-D958-4EEE-A3B4-3CFFDD09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6419-FC13-498D-A826-CE971222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2292-348D-4C35-8D83-CD93DAA0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989C-4A29-4A86-9AA0-21DD353D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7044-C132-4C00-B75E-69E31D6A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7BDF7-7D2E-4995-8420-BF16363F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0E49A-6501-417C-B742-FB53FAE1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5926-B365-4903-B7B5-FFE8D5D9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15D5A-236D-418A-BF27-31B244BC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285920" y="274320"/>
            <a:ext cx="7400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A4084-BDCC-4B33-8EF9-53F97EF5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83560-97E2-4439-A7FC-BA8B36F8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3268-CFEB-4F59-979F-0332FF83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A18F-145D-4E67-9775-428789C7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6297B-6534-4339-B03C-3944775D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6CD0-0B4B-4006-97D1-3EFAD817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14E7-A71E-4C4F-90B5-F3C8C79A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B3979-ADDB-43DF-8588-039ED373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A44CE-71C2-4496-8395-E413DA7C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050E0-C84C-430D-B266-2E0A9343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D3F38-1160-4EB8-B971-E5800E59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33AF6-A8D0-4783-B445-751B24F0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285920" y="274320"/>
            <a:ext cx="7400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5D91F-F2DD-471A-8898-63F267C4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665A8-0550-463A-AB9E-B7394174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D3B38-5975-4622-9FDD-E3A49875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B0B09-4A9A-4E66-9A14-1E31B4C9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72EDA-B9FC-4642-8727-EE527904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DC821-C94E-4005-BDB8-4C2287F2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85920" y="274320"/>
            <a:ext cx="7400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F7963-D87C-4A38-A7D3-E5C9C9AC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5F4F7-D1A3-4142-B110-AB52ACA1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D00CE-08CD-4258-854A-11F4C3DC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39CE2-669C-49AD-9A11-57578A22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774F1-15D0-4D33-A4D5-8101A059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47B3A-C3FF-4297-BCA2-5200F3FB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285920" y="274320"/>
            <a:ext cx="7400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E1F63-09C8-4E04-9D3E-7184425D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41462-8837-41DA-A8B9-0E0C5B04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73636-9806-4EA2-B39B-039604B5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5271C-FE00-4353-8631-1B5D0898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D6FC6-5718-46C7-8730-AD358B3A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0F9A4-F64F-4670-ABFA-A9CDC053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B42A7-DD6A-470E-9B97-560BDEED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1DC63-AC29-4A1C-97E3-C67CBA8C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7DC76-262E-476D-8B1B-398FB922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F3AB0-AF06-4BFE-9CE1-D2CBD243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C5EA1-A213-4BD4-B7DB-B82804E7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5522F-4D87-41F4-A30B-233C2232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285920" y="274320"/>
            <a:ext cx="7400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ADD19-43C1-4B2D-A4F2-B2188291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237FA-528C-408A-8C61-842EF12E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94E17-D46A-4DCA-BDFA-BE0C30C5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5DC41-673E-4950-BD78-9FF4B5AB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0A8D4-07AB-4372-92DF-4BAE6C33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CB826-3A2A-4555-AC6F-857BEED0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E4D5F-2936-4314-9867-E749E077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C8A05-D211-4861-8BB6-9E1B03C0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84192-B6BD-4EE0-B0D8-1B756B7C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E4375-93D4-40A6-8457-02AD49D5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1C6A4-9A5F-476F-8FDF-93BCA144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71F05-BDEF-4AD9-BAA3-5C396C95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285920" y="274320"/>
            <a:ext cx="7400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10A36-7B10-4EAB-B088-75ECE41A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9E7A9-258D-470E-A368-14060C6B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A8096-F0BB-4E43-894E-28C672A0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55C43-B126-4A0E-9802-0150B2AD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C9D18-4FC0-4BDD-828A-DB2B04D3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41BC0-ED25-4F12-8AE0-8771F471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44E06-FB6F-4BD1-B995-85071D02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53EB4-3CB3-4ED8-81D7-80DDAD9B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41A09-8941-4425-83B3-ABFA7FC9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A94D3-865D-4FF8-B449-BC3793AF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Date Placeholder 3"/>
          <p:cNvSpPr/>
          <p:nvPr/>
        </p:nvSpPr>
        <p:spPr>
          <a:xfrm>
            <a:off x="0" y="6572160"/>
            <a:ext cx="50436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mbria"/>
              </a:rPr>
              <a:t>Veleučilište "Marko Marulić" u Knin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lide Number Placeholder 5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hr-HR" sz="1400" spc="-1" strike="noStrike">
                <a:solidFill>
                  <a:srgbClr val="ffffff"/>
                </a:solidFill>
                <a:latin typeface="Cambria"/>
              </a:rPr>
              <a:t>www.veleknin.hr</a:t>
            </a: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lide Number Placeholder 5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Seminar: Učinkovitost Unutarnjeg Sustava Osiguravanja Kvalit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142920" y="357120"/>
            <a:ext cx="107136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3"/>
          <p:cNvSpPr/>
          <p:nvPr/>
        </p:nvSpPr>
        <p:spPr>
          <a:xfrm>
            <a:off x="0" y="6572160"/>
            <a:ext cx="50436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mbria"/>
              </a:rPr>
              <a:t>Veleučilište "Marko Marulić" u Knin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hr-HR" sz="1400" spc="-1" strike="noStrike">
                <a:solidFill>
                  <a:srgbClr val="ffffff"/>
                </a:solidFill>
                <a:latin typeface="Cambria"/>
              </a:rPr>
              <a:t>www.veleknin.hr</a:t>
            </a: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Seminar: Učinkovitost Unutarnjeg Sustava Osiguravanja Kvalit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142920" y="357120"/>
            <a:ext cx="1071360" cy="10796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90BA-124D-4A92-875A-4549DAD3796B}" type="slidenum">
              <a:rPr b="0" lang="hr-HR" sz="18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Date Placeholder 3"/>
          <p:cNvSpPr/>
          <p:nvPr/>
        </p:nvSpPr>
        <p:spPr>
          <a:xfrm>
            <a:off x="0" y="6572160"/>
            <a:ext cx="50436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mbria"/>
              </a:rPr>
              <a:t>Veleučilište "Marko Marulić" u Knin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hr-HR" sz="1400" spc="-1" strike="noStrike">
                <a:solidFill>
                  <a:srgbClr val="ffffff"/>
                </a:solidFill>
                <a:latin typeface="Cambria"/>
              </a:rPr>
              <a:t>www.veleknin.hr</a:t>
            </a: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5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Seminar: Učinkovitost Unutarnjeg Sustava Osiguravanja Kvalit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142920" y="357120"/>
            <a:ext cx="1071360" cy="107964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F6B8-63F7-4025-B1FF-A0BA401F97E6}" type="slidenum">
              <a:rPr b="0" lang="hr-HR" sz="18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3"/>
          <p:cNvSpPr/>
          <p:nvPr/>
        </p:nvSpPr>
        <p:spPr>
          <a:xfrm>
            <a:off x="0" y="6572160"/>
            <a:ext cx="50436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mbria"/>
              </a:rPr>
              <a:t>Veleučilište "Marko Marulić" u Knin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hr-HR" sz="1400" spc="-1" strike="noStrike">
                <a:solidFill>
                  <a:srgbClr val="ffffff"/>
                </a:solidFill>
                <a:latin typeface="Cambria"/>
              </a:rPr>
              <a:t>www.veleknin.hr</a:t>
            </a: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5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Seminar: Učinkovitost Unutarnjeg Sustava Osiguravanja Kvalit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42920" y="357120"/>
            <a:ext cx="1071360" cy="1079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9F27-74ED-4CEB-82BC-B0FAE81C5F0E}" type="slidenum">
              <a:rPr b="0" lang="hr-HR" sz="18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0" y="6572160"/>
            <a:ext cx="50436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mbria"/>
              </a:rPr>
              <a:t>Veleučilište "Marko Marulić" u Knin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hr-HR" sz="1400" spc="-1" strike="noStrike">
                <a:solidFill>
                  <a:srgbClr val="ffffff"/>
                </a:solidFill>
                <a:latin typeface="Cambria"/>
              </a:rPr>
              <a:t>www.veleknin.hr</a:t>
            </a: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Seminar: Učinkovitost Unutarnjeg Sustava Osiguravanja Kvalit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142920" y="357120"/>
            <a:ext cx="1071360" cy="1079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D5DA-B621-4B97-87B1-77319FC48862}" type="slidenum">
              <a:rPr b="0" lang="hr-HR" sz="18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0" y="6572160"/>
            <a:ext cx="50436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mbria"/>
              </a:rPr>
              <a:t>Veleučilište "Marko Marulić" u Knin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hr-HR" sz="1400" spc="-1" strike="noStrike">
                <a:solidFill>
                  <a:srgbClr val="ffffff"/>
                </a:solidFill>
                <a:latin typeface="Cambria"/>
              </a:rPr>
              <a:t>www.veleknin.hr</a:t>
            </a: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Seminar: Učinkovitost Unutarnjeg Sustava Osiguravanja Kvalit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42920" y="357120"/>
            <a:ext cx="1071360" cy="1079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E0A7-DBA9-47A3-900C-4096D67FCBB3}" type="slidenum">
              <a:rPr b="0" lang="hr-HR" sz="18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0" y="6572160"/>
            <a:ext cx="50436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mbria"/>
              </a:rPr>
              <a:t>Veleučilište "Marko Marulić" u Knin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hr-HR" sz="1400" spc="-1" strike="noStrike">
                <a:solidFill>
                  <a:srgbClr val="ffffff"/>
                </a:solidFill>
                <a:latin typeface="Cambria"/>
              </a:rPr>
              <a:t>www.veleknin.hr</a:t>
            </a: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Seminar: Učinkovitost Unutarnjeg Sustava Osiguravanja Kvalit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142920" y="357120"/>
            <a:ext cx="1071360" cy="10796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5C13-C5E5-4B6B-A98F-22491A5B2941}" type="slidenum">
              <a:rPr b="0" lang="hr-HR" sz="18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0" y="6572160"/>
            <a:ext cx="50436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mbria"/>
              </a:rPr>
              <a:t>Veleučilište "Marko Marulić" u Knin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hr-HR" sz="1400" spc="-1" strike="noStrike">
                <a:solidFill>
                  <a:srgbClr val="ffffff"/>
                </a:solidFill>
                <a:latin typeface="Cambria"/>
              </a:rPr>
              <a:t>www.veleknin.hr</a:t>
            </a: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Seminar: Učinkovitost Unutarnjeg Sustava Osiguravanja Kvalit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142920" y="357120"/>
            <a:ext cx="1071360" cy="10796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C8FE-CAB6-4227-A85E-2AF480509AB9}" type="slidenum">
              <a:rPr b="0" lang="hr-HR" sz="18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0" y="6572160"/>
            <a:ext cx="50436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mbria"/>
              </a:rPr>
              <a:t>Veleučilište "Marko Marulić" u Knin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hr-HR" sz="1400" spc="-1" strike="noStrike">
                <a:solidFill>
                  <a:srgbClr val="ffffff"/>
                </a:solidFill>
                <a:latin typeface="Cambria"/>
              </a:rPr>
              <a:t>www.veleknin.hr</a:t>
            </a: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Seminar: Učinkovitost Unutarnjeg Sustava Osiguravanja Kvalit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142920" y="357120"/>
            <a:ext cx="1071360" cy="10796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DFB0-841B-4EE5-825F-24039FBB83C5}" type="slidenum">
              <a:rPr b="0" lang="hr-HR" sz="18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0" y="6572160"/>
            <a:ext cx="50436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mbria"/>
              </a:rPr>
              <a:t>Veleučilište "Marko Marulić" u Knin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hr-HR" sz="1400" spc="-1" strike="noStrike">
                <a:solidFill>
                  <a:srgbClr val="ffffff"/>
                </a:solidFill>
                <a:latin typeface="Cambria"/>
              </a:rPr>
              <a:t>www.veleknin.hr</a:t>
            </a: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Seminar: Učinkovitost Unutarnjeg Sustava Osiguravanja Kvalit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142920" y="357120"/>
            <a:ext cx="1071360" cy="10796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D444-B705-45DF-B7CA-708B9F3DEA26}" type="slidenum">
              <a:rPr b="0" lang="hr-HR" sz="18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0" y="6572160"/>
            <a:ext cx="50436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mbria"/>
              </a:rPr>
              <a:t>Veleučilište "Marko Marulić" u Knin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hr-HR" sz="1400" spc="-1" strike="noStrike">
                <a:solidFill>
                  <a:srgbClr val="ffffff"/>
                </a:solidFill>
                <a:latin typeface="Cambria"/>
              </a:rPr>
              <a:t>www.veleknin.hr</a:t>
            </a:r>
            <a:r>
              <a:rPr b="1" lang="hr-HR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Seminar: Učinkovitost Unutarnjeg Sustava Osiguravanja Kvalit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142920" y="357120"/>
            <a:ext cx="1071360" cy="10796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5D3A-DD8C-414F-8A58-3DD84DE636D3}" type="slidenum">
              <a:rPr b="0" lang="hr-HR" sz="18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efriganovic@veleknin.hr" TargetMode="External"/><Relationship Id="rId2" Type="http://schemas.openxmlformats.org/officeDocument/2006/relationships/hyperlink" Target="mailto:efriganovic@veleknin.hr" TargetMode="External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3" descr="C:\Documents and Settings\E&amp;D\Desktop\veleknin mozaik2.jpg"/>
          <p:cNvPicPr/>
          <p:nvPr/>
        </p:nvPicPr>
        <p:blipFill>
          <a:blip r:embed="rId1"/>
          <a:stretch/>
        </p:blipFill>
        <p:spPr>
          <a:xfrm>
            <a:off x="2627280" y="2347920"/>
            <a:ext cx="4513320" cy="338472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4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itle 1"/>
          <p:cNvSpPr/>
          <p:nvPr/>
        </p:nvSpPr>
        <p:spPr>
          <a:xfrm>
            <a:off x="1042920" y="5630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mbria"/>
              </a:rPr>
              <a:t>Veleučilište “Marko Marulić” u Knin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0" y="6561000"/>
            <a:ext cx="5076720" cy="289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0320" y="1166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Cambria"/>
              </a:rPr>
              <a:t>Seminar: Učinkovitost Unutarnjeg Sustava Osiguravanja Kvalitete</a:t>
            </a:r>
            <a:br>
              <a:rPr sz="3200"/>
            </a:br>
            <a:r>
              <a:rPr b="1" lang="en-US" sz="1800" spc="-1" strike="noStrike">
                <a:solidFill>
                  <a:srgbClr val="7f7f7f"/>
                </a:solidFill>
                <a:latin typeface="Cambria"/>
              </a:rPr>
              <a:t> Vijeće veleučilišta i visokih škola </a:t>
            </a:r>
            <a:br>
              <a:rPr sz="1800"/>
            </a:br>
            <a:r>
              <a:rPr b="1" lang="pl-PL" sz="1800" spc="-1" strike="noStrike">
                <a:solidFill>
                  <a:srgbClr val="7f7f7f"/>
                </a:solidFill>
                <a:latin typeface="Cambria"/>
              </a:rPr>
              <a:t> Agencija za znanost i visoko obrazovanje</a:t>
            </a:r>
            <a:br>
              <a:rPr sz="1800"/>
            </a:br>
            <a:r>
              <a:rPr b="0" lang="en-US" sz="1800" spc="-1" strike="noStrike">
                <a:solidFill>
                  <a:srgbClr val="7f7f7f"/>
                </a:solidFill>
                <a:latin typeface="Cambria"/>
              </a:rPr>
              <a:t>14. rujna 2010.</a:t>
            </a:r>
            <a:br>
              <a:rPr sz="1800"/>
            </a:br>
            <a:r>
              <a:rPr b="0" lang="hr-HR" sz="1800" spc="-1" strike="noStrike">
                <a:solidFill>
                  <a:srgbClr val="7f7f7f"/>
                </a:solidFill>
                <a:latin typeface="Cambria"/>
              </a:rPr>
              <a:t>Zagreb</a:t>
            </a:r>
            <a:br>
              <a:rPr sz="1800"/>
            </a:br>
            <a:r>
              <a:rPr b="1" lang="pl-PL" sz="1800" spc="-1" strike="noStrike">
                <a:solidFill>
                  <a:srgbClr val="7f7f7f"/>
                </a:solidFill>
                <a:latin typeface="Cambria"/>
              </a:rPr>
              <a:t> </a:t>
            </a:r>
            <a:br>
              <a:rPr sz="32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46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mbria"/>
              </a:rPr>
              <a:t>Dobra praks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Složenost studentskih evaluacija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Provjera dodijeljenih ECTS bodova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Mobilnost studenata i nastavnika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85920" y="42840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mbria"/>
              </a:rPr>
              <a:t>Plan rada za iduće razdobl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Dokumentiranje sustav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Interna prosudb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NVAO (Nederlands-Vlaamse Accreditatieorganisatie,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ng. The Accreditation Organization of the Netherlands and Flanders, http://www.nvao.net) pilot projec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Reakreditacij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Certificiranje sustava upravljanja kvalitetom prema zahtjevima norme HRN EN ISO 9001:2009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HRN EN ISO 14001:2009 /EMA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HRN EN ISO/IEC 17025:2007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mbria"/>
              </a:rPr>
              <a:t>HRN ISO/IEC 27001:2006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85920" y="42840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mbria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4581000"/>
            <a:ext cx="440208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amaric@veleknin.hr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4" name="Content Placeholder 2"/>
          <p:cNvSpPr/>
          <p:nvPr/>
        </p:nvSpPr>
        <p:spPr>
          <a:xfrm>
            <a:off x="4741920" y="4581360"/>
            <a:ext cx="440208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ff"/>
                </a:solidFill>
                <a:uFillTx/>
                <a:latin typeface="Cambria"/>
                <a:hlinkClick r:id="rId2"/>
              </a:rPr>
              <a:t>efriganovic@veleknin.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Rectangle 18"/>
          <p:cNvGrpSpPr/>
          <p:nvPr/>
        </p:nvGrpSpPr>
        <p:grpSpPr>
          <a:xfrm>
            <a:off x="244440" y="1987560"/>
            <a:ext cx="3876840" cy="2103480"/>
            <a:chOff x="244440" y="1987560"/>
            <a:chExt cx="3876840" cy="2103480"/>
          </a:xfrm>
        </p:grpSpPr>
        <p:pic>
          <p:nvPicPr>
            <p:cNvPr id="586" name="Rectangle 18" descr=""/>
            <p:cNvPicPr/>
            <p:nvPr/>
          </p:nvPicPr>
          <p:blipFill>
            <a:blip r:embed="rId3"/>
            <a:stretch/>
          </p:blipFill>
          <p:spPr>
            <a:xfrm>
              <a:off x="244440" y="1987560"/>
              <a:ext cx="387684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95280" y="2060640"/>
              <a:ext cx="3672000" cy="19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Veleučilišni centar za unapređenje i osiguravanje kvalitete studiranj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Rectangle 18"/>
          <p:cNvGrpSpPr/>
          <p:nvPr/>
        </p:nvGrpSpPr>
        <p:grpSpPr>
          <a:xfrm>
            <a:off x="4853160" y="1987560"/>
            <a:ext cx="3595680" cy="2176560"/>
            <a:chOff x="4853160" y="1987560"/>
            <a:chExt cx="3595680" cy="2176560"/>
          </a:xfrm>
        </p:grpSpPr>
        <p:pic>
          <p:nvPicPr>
            <p:cNvPr id="589" name="Rectangle 18" descr=""/>
            <p:cNvPicPr/>
            <p:nvPr/>
          </p:nvPicPr>
          <p:blipFill>
            <a:blip r:embed="rId4"/>
            <a:stretch/>
          </p:blipFill>
          <p:spPr>
            <a:xfrm>
              <a:off x="4853160" y="1987560"/>
              <a:ext cx="359568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5003640" y="2060640"/>
              <a:ext cx="338472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Odbor za unapređenje kvalit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58"/>
          <p:cNvGrpSpPr/>
          <p:nvPr/>
        </p:nvGrpSpPr>
        <p:grpSpPr>
          <a:xfrm>
            <a:off x="468360" y="404640"/>
            <a:ext cx="8600760" cy="6048360"/>
            <a:chOff x="468360" y="404640"/>
            <a:chExt cx="8600760" cy="6048360"/>
          </a:xfrm>
        </p:grpSpPr>
        <p:grpSp>
          <p:nvGrpSpPr>
            <p:cNvPr id="498" name="Rectangle 5"/>
            <p:cNvGrpSpPr/>
            <p:nvPr/>
          </p:nvGrpSpPr>
          <p:grpSpPr>
            <a:xfrm>
              <a:off x="551880" y="1496520"/>
              <a:ext cx="2176920" cy="795960"/>
              <a:chOff x="551880" y="1496520"/>
              <a:chExt cx="2176920" cy="795960"/>
            </a:xfrm>
          </p:grpSpPr>
          <p:pic>
            <p:nvPicPr>
              <p:cNvPr id="499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551880" y="1496520"/>
                <a:ext cx="2176920" cy="79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>
                <a:off x="610200" y="1531080"/>
                <a:ext cx="206388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000000"/>
                    </a:solidFill>
                    <a:latin typeface="Arial"/>
                  </a:rPr>
                  <a:t>Organizacijski ustroj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000000"/>
                    </a:solidFill>
                    <a:latin typeface="Arial"/>
                  </a:rPr>
                  <a:t>sustava osiguranj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hr-HR" sz="1400" spc="-1" strike="noStrike">
                    <a:solidFill>
                      <a:srgbClr val="000000"/>
                    </a:solidFill>
                    <a:latin typeface="Arial"/>
                  </a:rPr>
                  <a:t>kvalite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Rectangle 5"/>
            <p:cNvGrpSpPr/>
            <p:nvPr/>
          </p:nvGrpSpPr>
          <p:grpSpPr>
            <a:xfrm>
              <a:off x="468360" y="4123440"/>
              <a:ext cx="2176920" cy="802080"/>
              <a:chOff x="468360" y="4123440"/>
              <a:chExt cx="2176920" cy="802080"/>
            </a:xfrm>
          </p:grpSpPr>
          <p:pic>
            <p:nvPicPr>
              <p:cNvPr id="502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4123440"/>
                <a:ext cx="2176920" cy="80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>
                <a:off x="527400" y="4160880"/>
                <a:ext cx="2063880" cy="67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000000"/>
                    </a:solidFill>
                    <a:latin typeface="Arial"/>
                  </a:rPr>
                  <a:t>Razvoj postupaka prosudb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000000"/>
                    </a:solidFill>
                    <a:latin typeface="Arial"/>
                  </a:rPr>
                  <a:t>sustava kvalite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Rectangle 5"/>
            <p:cNvGrpSpPr/>
            <p:nvPr/>
          </p:nvGrpSpPr>
          <p:grpSpPr>
            <a:xfrm>
              <a:off x="6469920" y="4407840"/>
              <a:ext cx="2562840" cy="795960"/>
              <a:chOff x="6469920" y="4407840"/>
              <a:chExt cx="2562840" cy="795960"/>
            </a:xfrm>
          </p:grpSpPr>
          <p:pic>
            <p:nvPicPr>
              <p:cNvPr id="505" name="Rectangl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6469920" y="4407840"/>
                <a:ext cx="2562840" cy="79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>
                <a:off x="6529680" y="4442400"/>
                <a:ext cx="245088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000000"/>
                    </a:solidFill>
                    <a:latin typeface="Arial"/>
                  </a:rPr>
                  <a:t>Javnost rada 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000000"/>
                    </a:solidFill>
                    <a:latin typeface="Arial"/>
                  </a:rPr>
                  <a:t>komunikacij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Rectangle 5"/>
            <p:cNvGrpSpPr/>
            <p:nvPr/>
          </p:nvGrpSpPr>
          <p:grpSpPr>
            <a:xfrm>
              <a:off x="2880000" y="404640"/>
              <a:ext cx="3500280" cy="630000"/>
              <a:chOff x="2880000" y="404640"/>
              <a:chExt cx="3500280" cy="630000"/>
            </a:xfrm>
          </p:grpSpPr>
          <p:pic>
            <p:nvPicPr>
              <p:cNvPr id="508" name="Rectangl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2880000" y="404640"/>
                <a:ext cx="3500280" cy="63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>
                <a:off x="2942640" y="442440"/>
                <a:ext cx="33858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000000"/>
                    </a:solidFill>
                    <a:latin typeface="Arial"/>
                  </a:rPr>
                  <a:t>SUSTAV OSIGURANJA KVALITE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Line 35"/>
            <p:cNvSpPr/>
            <p:nvPr/>
          </p:nvSpPr>
          <p:spPr>
            <a:xfrm>
              <a:off x="3260880" y="1827360"/>
              <a:ext cx="0" cy="4071960"/>
            </a:xfrm>
            <a:prstGeom prst="line">
              <a:avLst/>
            </a:prstGeom>
            <a:ln w="381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36"/>
            <p:cNvSpPr/>
            <p:nvPr/>
          </p:nvSpPr>
          <p:spPr>
            <a:xfrm>
              <a:off x="2683800" y="1827360"/>
              <a:ext cx="577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37"/>
            <p:cNvSpPr/>
            <p:nvPr/>
          </p:nvSpPr>
          <p:spPr>
            <a:xfrm>
              <a:off x="3260880" y="1827360"/>
              <a:ext cx="660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38"/>
            <p:cNvSpPr/>
            <p:nvPr/>
          </p:nvSpPr>
          <p:spPr>
            <a:xfrm>
              <a:off x="3260880" y="2506320"/>
              <a:ext cx="660240" cy="0"/>
            </a:xfrm>
            <a:prstGeom prst="line">
              <a:avLst/>
            </a:prstGeom>
            <a:ln w="2844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260880" y="3268800"/>
              <a:ext cx="660240" cy="0"/>
            </a:xfrm>
            <a:prstGeom prst="line">
              <a:avLst/>
            </a:prstGeom>
            <a:ln w="2844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>
              <a:off x="3260880" y="4033800"/>
              <a:ext cx="660240" cy="0"/>
            </a:xfrm>
            <a:prstGeom prst="line">
              <a:avLst/>
            </a:prstGeom>
            <a:ln w="2844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41"/>
            <p:cNvSpPr/>
            <p:nvPr/>
          </p:nvSpPr>
          <p:spPr>
            <a:xfrm>
              <a:off x="3260880" y="4966560"/>
              <a:ext cx="660240" cy="0"/>
            </a:xfrm>
            <a:prstGeom prst="line">
              <a:avLst/>
            </a:prstGeom>
            <a:ln w="2844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>
              <a:off x="3260880" y="5899320"/>
              <a:ext cx="660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43"/>
            <p:cNvSpPr/>
            <p:nvPr/>
          </p:nvSpPr>
          <p:spPr>
            <a:xfrm flipV="1">
              <a:off x="5985720" y="2506320"/>
              <a:ext cx="0" cy="24602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44"/>
            <p:cNvSpPr/>
            <p:nvPr/>
          </p:nvSpPr>
          <p:spPr>
            <a:xfrm>
              <a:off x="5574240" y="2506320"/>
              <a:ext cx="4114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45"/>
            <p:cNvSpPr/>
            <p:nvPr/>
          </p:nvSpPr>
          <p:spPr>
            <a:xfrm flipV="1">
              <a:off x="5985720" y="1827000"/>
              <a:ext cx="0" cy="678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46"/>
            <p:cNvSpPr/>
            <p:nvPr/>
          </p:nvSpPr>
          <p:spPr>
            <a:xfrm>
              <a:off x="5985720" y="1827360"/>
              <a:ext cx="6606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47"/>
            <p:cNvSpPr/>
            <p:nvPr/>
          </p:nvSpPr>
          <p:spPr>
            <a:xfrm>
              <a:off x="5574240" y="3268800"/>
              <a:ext cx="4114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48"/>
            <p:cNvSpPr/>
            <p:nvPr/>
          </p:nvSpPr>
          <p:spPr>
            <a:xfrm>
              <a:off x="5574240" y="4033800"/>
              <a:ext cx="4114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49"/>
            <p:cNvSpPr/>
            <p:nvPr/>
          </p:nvSpPr>
          <p:spPr>
            <a:xfrm>
              <a:off x="5574240" y="4966560"/>
              <a:ext cx="4114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50"/>
            <p:cNvSpPr/>
            <p:nvPr/>
          </p:nvSpPr>
          <p:spPr>
            <a:xfrm flipH="1">
              <a:off x="1609560" y="4033800"/>
              <a:ext cx="165096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1"/>
            <p:cNvSpPr/>
            <p:nvPr/>
          </p:nvSpPr>
          <p:spPr>
            <a:xfrm>
              <a:off x="1609560" y="4033800"/>
              <a:ext cx="0" cy="838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52"/>
            <p:cNvSpPr/>
            <p:nvPr/>
          </p:nvSpPr>
          <p:spPr>
            <a:xfrm flipH="1">
              <a:off x="1609560" y="4966560"/>
              <a:ext cx="165096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53"/>
            <p:cNvSpPr/>
            <p:nvPr/>
          </p:nvSpPr>
          <p:spPr>
            <a:xfrm flipV="1">
              <a:off x="1609560" y="4880160"/>
              <a:ext cx="0" cy="860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54"/>
            <p:cNvSpPr/>
            <p:nvPr/>
          </p:nvSpPr>
          <p:spPr>
            <a:xfrm>
              <a:off x="7638480" y="2478240"/>
              <a:ext cx="0" cy="196452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55"/>
            <p:cNvSpPr/>
            <p:nvPr/>
          </p:nvSpPr>
          <p:spPr>
            <a:xfrm>
              <a:off x="5985720" y="2506320"/>
              <a:ext cx="1652760" cy="0"/>
            </a:xfrm>
            <a:prstGeom prst="line">
              <a:avLst/>
            </a:prstGeom>
            <a:ln w="38160">
              <a:solidFill>
                <a:srgbClr val="007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57"/>
            <p:cNvSpPr/>
            <p:nvPr/>
          </p:nvSpPr>
          <p:spPr>
            <a:xfrm>
              <a:off x="5985720" y="4033800"/>
              <a:ext cx="1652760" cy="0"/>
            </a:xfrm>
            <a:prstGeom prst="line">
              <a:avLst/>
            </a:prstGeom>
            <a:ln w="28440">
              <a:solidFill>
                <a:srgbClr val="007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Rectangle 18"/>
            <p:cNvGrpSpPr/>
            <p:nvPr/>
          </p:nvGrpSpPr>
          <p:grpSpPr>
            <a:xfrm>
              <a:off x="3522960" y="1662840"/>
              <a:ext cx="2242080" cy="392400"/>
              <a:chOff x="3522960" y="1662840"/>
              <a:chExt cx="2242080" cy="392400"/>
            </a:xfrm>
          </p:grpSpPr>
          <p:pic>
            <p:nvPicPr>
              <p:cNvPr id="533" name="Rectangl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3522960" y="1662840"/>
                <a:ext cx="2242080" cy="3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3580920" y="1701360"/>
                <a:ext cx="213048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000000"/>
                    </a:solidFill>
                    <a:latin typeface="Calibri"/>
                  </a:rPr>
                  <a:t>UPRAVNO VIJEĆ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Rectangle 18"/>
            <p:cNvGrpSpPr/>
            <p:nvPr/>
          </p:nvGrpSpPr>
          <p:grpSpPr>
            <a:xfrm>
              <a:off x="3522960" y="2341800"/>
              <a:ext cx="2242080" cy="392400"/>
              <a:chOff x="3522960" y="2341800"/>
              <a:chExt cx="2242080" cy="392400"/>
            </a:xfrm>
          </p:grpSpPr>
          <p:pic>
            <p:nvPicPr>
              <p:cNvPr id="536" name="Rectangle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3522960" y="2341800"/>
                <a:ext cx="2242080" cy="3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3580920" y="2379960"/>
                <a:ext cx="213048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000000"/>
                    </a:solidFill>
                    <a:latin typeface="Calibri"/>
                  </a:rPr>
                  <a:t>DEKA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Rectangle 18"/>
            <p:cNvGrpSpPr/>
            <p:nvPr/>
          </p:nvGrpSpPr>
          <p:grpSpPr>
            <a:xfrm>
              <a:off x="3522960" y="3108240"/>
              <a:ext cx="2242080" cy="392400"/>
              <a:chOff x="3522960" y="3108240"/>
              <a:chExt cx="2242080" cy="392400"/>
            </a:xfrm>
          </p:grpSpPr>
          <p:pic>
            <p:nvPicPr>
              <p:cNvPr id="539" name="Rectangle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3522960" y="3108240"/>
                <a:ext cx="2242080" cy="3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3580920" y="3144600"/>
                <a:ext cx="213048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Calibri"/>
                  </a:rPr>
                  <a:t>STRUČNO VIJEĆ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Rectangle 5"/>
            <p:cNvGrpSpPr/>
            <p:nvPr/>
          </p:nvGrpSpPr>
          <p:grpSpPr>
            <a:xfrm>
              <a:off x="6506280" y="1496520"/>
              <a:ext cx="2562840" cy="795960"/>
              <a:chOff x="6506280" y="1496520"/>
              <a:chExt cx="2562840" cy="795960"/>
            </a:xfrm>
          </p:grpSpPr>
          <p:pic>
            <p:nvPicPr>
              <p:cNvPr id="542" name="Rectangle 5" descr=""/>
              <p:cNvPicPr/>
              <p:nvPr/>
            </p:nvPicPr>
            <p:blipFill>
              <a:blip r:embed="rId8"/>
              <a:stretch/>
            </p:blipFill>
            <p:spPr>
              <a:xfrm>
                <a:off x="6506280" y="1496520"/>
                <a:ext cx="2562840" cy="79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6564600" y="1531080"/>
                <a:ext cx="244908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000000"/>
                    </a:solidFill>
                    <a:latin typeface="Arial"/>
                  </a:rPr>
                  <a:t>Razvoj mehanizama za osiguranje kvalitet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Rectangle 18"/>
            <p:cNvGrpSpPr/>
            <p:nvPr/>
          </p:nvGrpSpPr>
          <p:grpSpPr>
            <a:xfrm>
              <a:off x="3522960" y="3635280"/>
              <a:ext cx="2242080" cy="992880"/>
              <a:chOff x="3522960" y="3635280"/>
              <a:chExt cx="2242080" cy="992880"/>
            </a:xfrm>
          </p:grpSpPr>
          <p:pic>
            <p:nvPicPr>
              <p:cNvPr id="545" name="Rectangl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3522960" y="3635280"/>
                <a:ext cx="2242080" cy="99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3580920" y="3669840"/>
                <a:ext cx="2130480" cy="87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000000"/>
                    </a:solidFill>
                    <a:latin typeface="Arial"/>
                  </a:rPr>
                  <a:t>Veleučilišni centar za unapređenje i osiguravanje kvalitete studiranj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Rectangle 18"/>
            <p:cNvGrpSpPr/>
            <p:nvPr/>
          </p:nvGrpSpPr>
          <p:grpSpPr>
            <a:xfrm>
              <a:off x="3522960" y="5460120"/>
              <a:ext cx="2255040" cy="992880"/>
              <a:chOff x="3522960" y="5460120"/>
              <a:chExt cx="2255040" cy="992880"/>
            </a:xfrm>
          </p:grpSpPr>
          <p:pic>
            <p:nvPicPr>
              <p:cNvPr id="548" name="Rectangle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22960" y="5460120"/>
                <a:ext cx="2255040" cy="99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>
                <a:off x="3580920" y="5495400"/>
                <a:ext cx="2131200" cy="84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000000"/>
                    </a:solidFill>
                    <a:latin typeface="Arial"/>
                  </a:rPr>
                  <a:t>Odbor za praćenje i unapređivanje studiranja i odnose sa studenti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Rectangle 18"/>
            <p:cNvGrpSpPr/>
            <p:nvPr/>
          </p:nvGrpSpPr>
          <p:grpSpPr>
            <a:xfrm>
              <a:off x="3522960" y="4687920"/>
              <a:ext cx="2255040" cy="719640"/>
              <a:chOff x="3522960" y="4687920"/>
              <a:chExt cx="2255040" cy="719640"/>
            </a:xfrm>
          </p:grpSpPr>
          <p:pic>
            <p:nvPicPr>
              <p:cNvPr id="551" name="Rectangle 18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22960" y="4687920"/>
                <a:ext cx="2255040" cy="7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3580920" y="4723560"/>
                <a:ext cx="2131200" cy="60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000000"/>
                    </a:solidFill>
                    <a:latin typeface="Arial"/>
                  </a:rPr>
                  <a:t>Odbor za unapređenje kvalite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Osnovan odlukom Upravnog vijeća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Centar obavlja sljedeće poslove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prati, osigurava i unaprjeđuje kvalitetu studentskih iskustava tijekom studiranja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ocjenjuje postojeće stanje s ciljem poboljšanja kvalitete (misija, vizija, analize, strategija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implementira planirane mjere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provodi evaluaciju rezultata, funkcioniranje, usavršavanje i poboljšavanje sustava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surađuje sa svim ustrojbenim jedinicama Veleučilišta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usklađuje poslove ustroja, izvedbe i razvoja studija na Veleučilištu te obavlja druge poslove u svezi sa ciljevima zbog kojih je ustrojen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4" name="Rectangle 18"/>
          <p:cNvGrpSpPr/>
          <p:nvPr/>
        </p:nvGrpSpPr>
        <p:grpSpPr>
          <a:xfrm>
            <a:off x="1249200" y="401760"/>
            <a:ext cx="7480440" cy="1062000"/>
            <a:chOff x="1249200" y="401760"/>
            <a:chExt cx="7480440" cy="1062000"/>
          </a:xfrm>
        </p:grpSpPr>
        <p:pic>
          <p:nvPicPr>
            <p:cNvPr id="555" name="Rectangle 18" descr=""/>
            <p:cNvPicPr/>
            <p:nvPr/>
          </p:nvPicPr>
          <p:blipFill>
            <a:blip r:embed="rId1"/>
            <a:stretch/>
          </p:blipFill>
          <p:spPr>
            <a:xfrm>
              <a:off x="1249200" y="401760"/>
              <a:ext cx="74804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403280" y="476280"/>
              <a:ext cx="727236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Veleučilišni centar za unapređenje i osiguravanje kvalitete studiranj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Osnovan odlukom Stručnog vijeća Veleučilišta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Odbor ima ukupno pet (5) članova koji čine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prodekan za nastavu,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dva (2) predstavnika nastavnika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jedan (1) predstavnik studenata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mbria"/>
              </a:rPr>
              <a:t>jedan (1) predstavnik nenastavnog osoblja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8" name="Rectangle 18"/>
          <p:cNvGrpSpPr/>
          <p:nvPr/>
        </p:nvGrpSpPr>
        <p:grpSpPr>
          <a:xfrm>
            <a:off x="1249200" y="401760"/>
            <a:ext cx="7480440" cy="1062000"/>
            <a:chOff x="1249200" y="401760"/>
            <a:chExt cx="7480440" cy="1062000"/>
          </a:xfrm>
        </p:grpSpPr>
        <p:pic>
          <p:nvPicPr>
            <p:cNvPr id="559" name="Rectangle 18" descr=""/>
            <p:cNvPicPr/>
            <p:nvPr/>
          </p:nvPicPr>
          <p:blipFill>
            <a:blip r:embed="rId1"/>
            <a:stretch/>
          </p:blipFill>
          <p:spPr>
            <a:xfrm>
              <a:off x="1249200" y="401760"/>
              <a:ext cx="74804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1403280" y="476280"/>
              <a:ext cx="727236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Odbor za unapređenje kvalit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Odbor organizira, koordinira i provodi postupke vrednovanja i razvija unutarnje mehanizme osiguravanja i unaprjeđenja kvalitete na razini Veleučilišta posebice s obzirom na sljedeće elemente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samovrednovanje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razvijanje indikatora kvalitete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sudjelovanje studenata u praćenju kvalitete provedbe studija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istraživanje uspješnosti studiranja i uzroka nekvalitetnog, neefikasnog i predugog studiranja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istraživanje kompetencije nastavnog osoblja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usavršavanje nastavnika (cjeloživotno obrazovanje)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usavršavanje administrativnog i tehničkog osoblja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dokazi o unaprjeđenju nastave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kvaliteta općih i specifičnih kompetencija ostvarenih studijskim programom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definiranje i uvođenje tipa standardizacije u administrativnom dijelu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izrada godišnjih i dugoročnih planova aktivnosti u suradnji s  Centrom i dr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62" name="Rectangle 18"/>
          <p:cNvGrpSpPr/>
          <p:nvPr/>
        </p:nvGrpSpPr>
        <p:grpSpPr>
          <a:xfrm>
            <a:off x="1249200" y="401760"/>
            <a:ext cx="7480440" cy="1062000"/>
            <a:chOff x="1249200" y="401760"/>
            <a:chExt cx="7480440" cy="1062000"/>
          </a:xfrm>
        </p:grpSpPr>
        <p:pic>
          <p:nvPicPr>
            <p:cNvPr id="563" name="Rectangle 18" descr=""/>
            <p:cNvPicPr/>
            <p:nvPr/>
          </p:nvPicPr>
          <p:blipFill>
            <a:blip r:embed="rId1"/>
            <a:stretch/>
          </p:blipFill>
          <p:spPr>
            <a:xfrm>
              <a:off x="1249200" y="401760"/>
              <a:ext cx="74804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1403280" y="476280"/>
              <a:ext cx="727236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Odbor za unapređenje kvalit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Odbor čine sljedeći članovi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Pročelnici odjela (4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jedan (a) predstavnik nastavnika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jedan (1) predstavnik asistenata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tri (3) predstavnika studenata, na prijedlog Studentskog zbora Veleučilišta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jedan (1) predstavnik nenastavnog osoblja zaposlen u Studentskoj referadi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66" name="Rectangle 18"/>
          <p:cNvGrpSpPr/>
          <p:nvPr/>
        </p:nvGrpSpPr>
        <p:grpSpPr>
          <a:xfrm>
            <a:off x="1249200" y="401760"/>
            <a:ext cx="7480440" cy="1062000"/>
            <a:chOff x="1249200" y="401760"/>
            <a:chExt cx="7480440" cy="1062000"/>
          </a:xfrm>
        </p:grpSpPr>
        <p:pic>
          <p:nvPicPr>
            <p:cNvPr id="567" name="Rectangle 18" descr=""/>
            <p:cNvPicPr/>
            <p:nvPr/>
          </p:nvPicPr>
          <p:blipFill>
            <a:blip r:embed="rId1"/>
            <a:stretch/>
          </p:blipFill>
          <p:spPr>
            <a:xfrm>
              <a:off x="1249200" y="401760"/>
              <a:ext cx="74804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1403280" y="476280"/>
              <a:ext cx="727236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Odbor za praćenje i unapređivanje studiranja i odnose sa studenti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Zadaća Odbora je i organiziranje, provođenje i prezentiranje rezultata istraživanja vezanih za uspješnost studiranja pa ovaj Odbor posebno brine o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provedbi aktivnosti vezanih za praćenje i unaprjeđivanje nastave i studiranja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prezentiranju rezultata Odboru za upravljanje i unaprjeđenje kvalitete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aktivnostima vezanim za unaprjeđivanje studiranja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mbria"/>
              </a:rPr>
              <a:t>mjerama i postupcima poticanja unaprjeđivanja nastav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70" name="Rectangle 18"/>
          <p:cNvGrpSpPr/>
          <p:nvPr/>
        </p:nvGrpSpPr>
        <p:grpSpPr>
          <a:xfrm>
            <a:off x="1249200" y="401760"/>
            <a:ext cx="7480440" cy="1062000"/>
            <a:chOff x="1249200" y="401760"/>
            <a:chExt cx="7480440" cy="1062000"/>
          </a:xfrm>
        </p:grpSpPr>
        <p:pic>
          <p:nvPicPr>
            <p:cNvPr id="571" name="Rectangle 18" descr=""/>
            <p:cNvPicPr/>
            <p:nvPr/>
          </p:nvPicPr>
          <p:blipFill>
            <a:blip r:embed="rId1"/>
            <a:stretch/>
          </p:blipFill>
          <p:spPr>
            <a:xfrm>
              <a:off x="1249200" y="401760"/>
              <a:ext cx="74804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403280" y="476280"/>
              <a:ext cx="727236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Odbor za praćenje i unapređivanje studiranja i odnose sa studenti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>
            <a:alpha val="8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87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0000"/>
                </a:solidFill>
                <a:latin typeface="Calibri"/>
              </a:rPr>
              <a:t>Priručnik kvalitete</a:t>
            </a:r>
            <a:br>
              <a:rPr sz="2900"/>
            </a:br>
            <a:r>
              <a:rPr b="0" lang="hr-HR" sz="2900" spc="-1" strike="noStrike">
                <a:solidFill>
                  <a:srgbClr val="ff0000"/>
                </a:solidFill>
                <a:latin typeface="Calibri"/>
              </a:rPr>
              <a:t>Priručnik sustava osiguravanja kvalitete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0" y="981000"/>
          <a:ext cx="9144000" cy="5703840"/>
        </p:xfrm>
        <a:graphic>
          <a:graphicData uri="http://schemas.openxmlformats.org/drawingml/2006/table">
            <a:tbl>
              <a:tblPr/>
              <a:tblGrid>
                <a:gridCol w="684360"/>
                <a:gridCol w="1655640"/>
                <a:gridCol w="3168720"/>
                <a:gridCol w="1008000"/>
                <a:gridCol w="1511280"/>
                <a:gridCol w="1116000"/>
              </a:tblGrid>
              <a:tr h="182880">
                <a:tc gridSpan="2">
                  <a:txBody>
                    <a:bodyPr lIns="18720" rIns="18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ručnik kvalit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720" rIns="18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vrđeni proce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18720" rIns="18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zn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720" rIns="18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ku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drža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ručje primj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vne bilješ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ivi i defini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 rowSpan="2"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stav upravljanja kvalitet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ravljanje dokumentima</a:t>
                      </a:r>
                      <a:r>
                        <a:rPr b="0" lang="hr-HR" sz="1200" spc="-1" strike="noStrike" u="sng" baseline="-25000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(4.2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.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-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ravljanje zapisima</a:t>
                      </a:r>
                      <a:r>
                        <a:rPr b="0" lang="hr-H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.2.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.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-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govornost upr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iranje sustava upravljanja kvalitetom</a:t>
                      </a:r>
                      <a:r>
                        <a:rPr b="0" lang="hr-HR" sz="1200" spc="-1" strike="noStrike" u="sng" baseline="-25000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(5.4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.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.4 Planiranj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.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i="1" lang="hr-HR" sz="1200" spc="-1" strike="noStrike" u="sng" baseline="-25000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5.6 </a:t>
                      </a:r>
                      <a:r>
                        <a:rPr b="0" i="1" lang="hr-H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ravina ocjena sustav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-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ravljanje resurs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760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izacija uslu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užanje usluga</a:t>
                      </a:r>
                      <a:r>
                        <a:rPr b="0" lang="hr-H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.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.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i="1" lang="hr-HR" sz="1200" spc="-1" strike="noStrike" u="sng" baseline="-25000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8.2.3</a:t>
                      </a:r>
                      <a:r>
                        <a:rPr b="0" i="1" lang="hr-H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Nadzor nad procesom i mjerenje proces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-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760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jerenje, analiza i poboljšav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ćenje zadovoljstv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.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8.2.1 Zadovoljstvo kup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utrašnja neovisna ocjena/audit</a:t>
                      </a:r>
                      <a:r>
                        <a:rPr b="0" lang="hr-HR" sz="1200" spc="-1" strike="noStrike" u="sng" baseline="-25000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(8.2.2</a:t>
                      </a:r>
                      <a:r>
                        <a:rPr b="0" lang="hr-H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kvalit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.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-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dzor nad proizvodom i mjerenje proizvoda</a:t>
                      </a:r>
                      <a:r>
                        <a:rPr b="0" lang="hr-H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8.2.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.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ravljanje nesukladnim proizvodom</a:t>
                      </a:r>
                      <a:r>
                        <a:rPr b="0" lang="hr-HR" sz="1200" spc="-1" strike="noStrike" u="sng" baseline="-25000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(8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.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-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za podataka</a:t>
                      </a:r>
                      <a:r>
                        <a:rPr b="0" lang="hr-H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8.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.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ravne</a:t>
                      </a:r>
                      <a:r>
                        <a:rPr b="0" lang="hr-HR" sz="1200" spc="-1" strike="noStrike" u="sng" baseline="-25000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(8.5.2)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 preventivne radnje</a:t>
                      </a:r>
                      <a:r>
                        <a:rPr b="0" i="1" lang="hr-HR" sz="1200" spc="-1" strike="noStrike" u="sng" baseline="-25000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(8.5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.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8.5 Poboljšavanj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-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ka</a:t>
                      </a:r>
                      <a:r>
                        <a:rPr b="0" lang="hr-H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.3)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 ciljevi kvalit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0000"/>
                </a:solidFill>
                <a:latin typeface="Cambria"/>
              </a:rPr>
              <a:t>Priručnik kvalitete</a:t>
            </a:r>
            <a:br>
              <a:rPr sz="2900"/>
            </a:br>
            <a:r>
              <a:rPr b="0" lang="hr-HR" sz="2900" spc="-1" strike="noStrike">
                <a:solidFill>
                  <a:srgbClr val="ff0000"/>
                </a:solidFill>
                <a:latin typeface="Cambria"/>
              </a:rPr>
              <a:t>Priručnik sustava osiguravanja kvalitete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4176720" cy="4969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mbria"/>
              </a:rPr>
              <a:t>Ostali DP-i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Postupak revizije postojećih studijskih programa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Postupak razvoja novih studijskih program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Analiza uspješnosti završavanja studija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Analiza podataka o zapošljavanju po diplomiranju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Anketiranje završenih studenata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Anketiranje poslodavaca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Pravila i kriteriji za ocjenjivanje studenata - Pravilnik o ocjenjivanju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Postupak po žalbi studenta na ocjenu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mbria"/>
              </a:rPr>
              <a:t>Upis studenat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7" name="Subtitle 4"/>
          <p:cNvSpPr/>
          <p:nvPr/>
        </p:nvSpPr>
        <p:spPr>
          <a:xfrm>
            <a:off x="4500720" y="1484280"/>
            <a:ext cx="4643280" cy="4969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mbria"/>
              </a:rPr>
              <a:t>Analiza podataka o broju upisanih studenata u višu godinu studi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mbria"/>
              </a:rPr>
              <a:t>Analiza uspješnosti polaganja ispi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mbria"/>
              </a:rPr>
              <a:t>Osiguravanje kvalitete nastave i nastavnog osobl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mbria"/>
              </a:rPr>
              <a:t>Analiza podataka o broju nastavnika i studen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mbria"/>
              </a:rPr>
              <a:t>Evaluacija nastave i nastavnika od strane studen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mbria"/>
              </a:rPr>
              <a:t>Samoevaluacija nastavni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mbria"/>
              </a:rPr>
              <a:t>Osiguravanje kvalitete resursa za podršku studenti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mbria"/>
              </a:rPr>
              <a:t>Osiguravanje mehanizama podrške studenti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mbria"/>
              </a:rPr>
              <a:t>Evaluacija rada stručno-administrativnih slu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Cambria"/>
              </a:rPr>
              <a:t>Postupci za analizu uspješnosti sustava kvalite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mbria"/>
              </a:rPr>
              <a:t>Postupak izrade SWOT analiz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mbria"/>
              </a:rPr>
              <a:t>Postupak provedbe interne prosud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mbria"/>
              </a:rPr>
              <a:t>Postupak izrade samoanaliz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mbria"/>
              </a:rPr>
              <a:t>Javna nab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mbri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0:49:44Z</dcterms:created>
  <dc:creator>E&amp;D</dc:creator>
  <dc:description/>
  <dc:language>en-US</dc:language>
  <cp:lastModifiedBy>E&amp;D</cp:lastModifiedBy>
  <dcterms:modified xsi:type="dcterms:W3CDTF">2010-09-14T06:20:17Z</dcterms:modified>
  <cp:revision>34</cp:revision>
  <dc:subject/>
  <dc:title>Slide 1</dc:title>
</cp:coreProperties>
</file>