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8C241-EC93-4158-88D0-03134B81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46143-3323-455C-802A-6141CA64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81A9B-A004-4C93-804C-D3060815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9D007-0ED6-461C-A43D-D8176FAE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71A8-1BBE-4A0D-AD7F-C23D4A33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C86B-FFE7-462A-BF67-A7127C91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4AB8-80A6-4ED9-AE9E-D47B693D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FA21-84E3-42B1-A42C-AF5B47CC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52CC-D286-438C-93D5-03E889B4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9372-283D-418C-BF74-29BB3027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8D4E-4188-4EAA-9D55-D9AF18EF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A647F-EDF0-4705-8234-B71723ED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178F-B69F-4C6D-B677-22431628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FAE5-136C-41A9-B1A5-0B0EDB56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4579-0AEB-418C-A607-3F64C7E9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1FF0-E2A2-42A4-B032-14E58B12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FC4B-1E75-4DA2-B1A9-BEA09F6C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A03FC-BA63-497E-A982-34C7E951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48EF7-C1FA-468E-AEC4-47CC740E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674F2-C4E8-4EBC-8302-733DD358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FCA9A-C78E-4D9C-9A34-1EF52AC3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59EDC-6AC0-45EF-BBB6-B721E522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FF8A2-5338-4041-9C19-20F2A17E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D8C68-6E6F-4F59-87BC-D0EBBF3A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04B0-1703-4475-B097-CF891A31D2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6972-DD2A-4E17-98C4-CC74595C76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e5e5ff"/>
                </a:solidFill>
                <a:latin typeface="Garamond"/>
              </a:rPr>
              <a:t>Osiguravanje kvalitete na Visokom gospodarskom učilištu u Križevcima</a:t>
            </a:r>
            <a:br>
              <a:rPr sz="5400"/>
            </a:b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Garamond"/>
              </a:rPr>
              <a:t>Renata Husine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Garamond"/>
              </a:rPr>
              <a:t>Marijana Ivanek-Martinčić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stupci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keta o zadovoljstvu studenata nastavnim osobljem i pojedinim modulima na VGUK  (2005/6 – 2008/9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ema sveučilišnoj anke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ednom godišn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 rezultatima ankete upoznat nastavnik i svi nadređen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cjene ispod 3,5 – nastavnik mora predložiti plan poboljšanja nasta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stupci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keta  o završnoj stručnoj praksi (2007/8 – 2008/9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aksa - vrlo važan segment nasta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9 pitanja (ocjene od 1-5) + 3 otvorena pitan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ednom godišnje (po povratku studenata sa završne prakse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 rezultatima ankete upoznati voditelji i mentori stručne prakse, katedre te Stručno vijeć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stupci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Anketa o cjelokupnom studijskom program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27 pitanja (ocjene od 1-5) + 5 otvorenih pitan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Do sada provedena dva puta za prve dvije završene bolonjske generacije (2007/8, 2008/9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S rezultatima ankete upoznato Stručno vijeć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Za lošije ocijenjene segmente programa Stručno vijeće predlaže poboljšan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stupc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keta o stručnoj praksi unutar pojedinih modula tijekom prvih pet semestara nasta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odit će se od ak. god. 2010./2011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7 pitanja (ocjene od 1-5) + 4 otvorena pitan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činkovitost sustav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Anketiranje studenata –važan segment upravljanja kvalitetom, ne smije biti jedin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Prednosti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Ankete anonimne, mogu ukazati na probleme u nastavi ili studijskom program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Pouzdanije ako se ocjene ponavljaj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Nastavnici vrlo zainteresirani za ocjene predavanja ili modul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Nastojanje nastavnika da budu bolje ocjenjeni poboljšanjem kvalite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Opasnosti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Subjektivnost studentskog ocjenjivanj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Nastojanje nastavnika da budu bolje ocjenjeni snižavanjem kriterij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činkovitost sustav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Ankete – samo instrumenti  za uočavanje proble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Prava ocjena kvalitete obrazovanja – objektivna procjena razine znanja i vještina  studen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Vanjsko ocjenjivan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Zapošljivo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Ocjene poslodavac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Razmjena studen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Sadržaj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troj sustava za osiguravanje kvalitete na Visokom gospodarskom učilištu u Križevcima (VGU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rmativni akti koji reguliraju područje obrazovanja na VGU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kumenti za osiguravanje kvalit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rumenti za provođenje osiguravanja kvalitete i postupc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činkovitost sustav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Visoko gospodarsko učilište u Križevcim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860. osnova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Kraljevsko gospodarsko i šumarsko učiliš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valiteta obrazovanja - temelj opstojn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95280" y="3429000"/>
            <a:ext cx="609624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troj sustava za osiguravanje kvalitete na VGU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našnji sustav osiguravanja kvalitete na VGU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edinica za osiguravanje kvalitete na VGUK (2010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dbor za upravljanje i unapređenje kvalitete (2009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dbor za praćenje i unapređivanje studiranja (2009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dbor za odnose sa studentima (2009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d sustava, Jedinice i Odbora reguliran brojnim dokumentima i odlukama i normativnim aktima koji reguliraju područje obrazovanja na VGU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ormativni akti koji reguliraju područje obrazovanja na VGUK (32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Garamond"/>
              </a:rPr>
              <a:t>Zakon o znanstvenoj djelatnosti i visokom obrazovanju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Garamond"/>
              </a:rPr>
              <a:t>Statut Visokoga gospodarskoga učilišta u Križevcim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Garamond"/>
              </a:rPr>
              <a:t>Pravilnik o ustroju rada i ustrojstvu radnih mjesta u VGUK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Garamond"/>
              </a:rPr>
              <a:t>Pravilnik o radu + izmjene i dopune Pravilnik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Garamond"/>
              </a:rPr>
              <a:t>Pravilnik o raspodjeli vlastitih sredstava ostvarenih od obavljanja osnovnih poslova vlastite djelatnosti VGUK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Garamond"/>
              </a:rPr>
              <a:t>Pravilnik o ustrojavanju unutarnje revizije u VGUK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Garamond"/>
              </a:rPr>
              <a:t>Pravilnik o izdavačkoj djelatnosti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Garamond"/>
              </a:rPr>
              <a:t>Pravilnik o sustavu za kvalitetu VGUK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Garamond"/>
              </a:rPr>
              <a:t>Pravilnik o zaštiti na radu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Garamond"/>
              </a:rPr>
              <a:t>Pravilnik o zaštiti od požar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Garamond"/>
              </a:rPr>
              <a:t>Mjere zaštite od požara za vrijeme žetve na proizvodnim površinama VGUK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Garamond"/>
              </a:rPr>
              <a:t>Odluka o provedbi protupožarnih mjera i mjera zaštite na radu na siguran način te upotrebi, održavanju i vršenju usluga poljoprivrednom mehanizacijom VGUK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Garamond"/>
              </a:rPr>
              <a:t>Pravilnik o zbrinjavanju svih vrsta otpada iz tehnološkog procesa rada i mulja iz procesa obrade otpadnih voda na lokaciji štala i jahaon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Garamond"/>
              </a:rPr>
              <a:t>Pravilnik i upute o radu i održavanju objekata i uređaja od značenja za zaštitu voda od zagađivanja lokacije štala i jahaone  praktikuma „Ratarne“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Garamond"/>
              </a:rPr>
              <a:t>Pravilnik o zaštiti i čuvanju arhivskog i registraturnog gradiv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Garamond"/>
              </a:rPr>
              <a:t>Etički kodeks VGUK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ormativni akti koji reguliraju područje obrazovanja na VGUK (32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oslovnik o radu Upravnog vijeć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avilnik o stručnim studijim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avilnik o razlikovnom stručnom Studiju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avilnik o odgovarajućim stručnim nazivima i izdavanju potvrde o odgovarajućem stručnom nazivu stečenom na VGU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dluka o određivanju prava redovitih studenta na stručnom studiju VGU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avilnik o specijalističkim diplomskim stručnim studijim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avilnik o izmjenama i dopunama Pravilnika o specijalističkim diplomskim stručnim studijim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avilnik o specijalističkim diplomskim stručnim studijima – pročišćeni teks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avilnik o specijalističkoj stručnoj praksi studenata Specijalističkog diplomskog stručnog studija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Poljoprivred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avilnik o završnom specijalističkom diplomskom stručnom radu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tatut Studentskog zbora VGU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avilnik o izbornom postupku za Studentski zbor VGU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avilnik o načinu i uvjetima obavljanja stručne prak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avilnik o radu i funkcioniranju Učilišnih praktikum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avilnik o pružanju usluga i korištenja knjižnične građ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avilnik za korištenje osobnih računal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640" y="188640"/>
            <a:ext cx="834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Dokumenti koji reguliraju sustav osiguravanja kvalitete na VGUK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Odluka o osnivanju  Jedinice za osiguravanje kvalitete na VGUK (2010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Pravilnik o sustavu za kvalitetu VGUK-a (2009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Odluka o osnivanju i imenovanju Odbora za upravljanje i unapređenje kvalitete (2009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Odluka o osnivanju i imenovanju Odbora za praćenje i unapređivanje studiranja (2009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Odluka o osnivanju i imenovanju Odbora za odnose sa studentima (2009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Izvješće o samoevaluaciji VGUK koje prethodi vanjskom vrednovanju Nacionalnog vijeća za visoku naobrazbu (2004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Izvješće Povjerenstva Nacionalnog vijeća za visoku naobrazbu o vrednovanju VGUK (2004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Odluka o osnivanju Povjerenstva za osiguravanje kvalitete na VGUK (prethodilo Odboru za upravljanje i unapređenje kvalitete 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Odluka o osnivanju 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Savjetodavnog odbora za studijske programe</a:t>
            </a: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(2008.) </a:t>
            </a: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(svi dionici obrazovanj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nstrumenti za provođenje osiguravanja kvalitete na VGUK (1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Podaci o broju prijavljenih i upisanih studenata i o njihovom socioekonomskom statusu (2005/6 – 2009/1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Podaci o prolaznosti redovitih studenata (2005/6 – 2009/1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Anketa o zadovoljstvu studenata nastavnim osobljem i pojedinim modulima na VGUK  (2005/6 – 2008/9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Anketa  o završnoj stručnoj praksi (2007/8 – 2008/9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Anketa o cjelokupnom Stručnom studiju </a:t>
            </a:r>
            <a:r>
              <a:rPr b="0" i="1" lang="hr-HR" sz="2800" spc="-1" strike="noStrike">
                <a:solidFill>
                  <a:srgbClr val="ffffff"/>
                </a:solidFill>
                <a:latin typeface="Garamond"/>
              </a:rPr>
              <a:t>Poljoprivreda </a:t>
            </a: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za prvu i drugu bolonjsku generaciju (2007/8 – 2008/9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Samoocjenjivanje nastavnog osoblja (2009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nstrumenti za provođenje osiguravanja kvalitete na VGUK (2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Analiza potreba tržišta rada (Tempus projekt JEP-19052-2004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Anketa o zadovoljstvu poslodavaca završenih studenata VGUK (Tempus projek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Anketa o zadovoljstvu polaznika specijalističkih seminara na VGUK (neformalno obrazovanje  - od 2004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Anketa o nastavku školovanja bivših studenata VGUK i osnivanju Alumni organizaci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Praćenje zapošljivosti završenih studen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jana</cp:lastModifiedBy>
  <dcterms:modified xsi:type="dcterms:W3CDTF">2010-09-13T14:02:0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