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E71-2637-4276-829C-8E525042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485-9F57-4A6C-B405-7F3F2DC3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467-0C69-4D07-A677-F316EE16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D4D-F72E-4FE6-AEF1-E8B0AB48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56BB-BA8C-46EC-9DB3-E1FB79FF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B134-2446-4401-A171-DC11FCD6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5276-5CDC-454F-879D-58F979D0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A52F-4608-4152-8BF1-A7F0760C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52E4-59C0-4A24-AC44-97313A15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A116-461D-4355-9994-880B6BDC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C616-39DF-43A7-A042-53CF5996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2AA-48DE-4752-86E3-D4A66B3F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9B8F-A823-4247-B2DD-5E3044C7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C36E-5056-4278-8352-516F60FD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6149-F10B-4C80-B817-0DC537E5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7AAF-F86E-4A07-9186-C27E3B68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5F35-5794-47DE-A603-E391E0E9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E4B-A455-48D8-8965-F5822ECF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8A7-5B9F-40DB-944A-D93E41F0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271-3261-4B74-B193-05179E38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E89-94FC-479D-9427-11A39E9A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501-3CAE-400A-A74C-C49BD8F8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64D-3211-48E2-B698-2C9BEE56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141-E5DE-4E1B-A6F7-0C946C77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35C1-30CE-468D-8F04-FDD5C38AF7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869C-82BE-462B-B435-598474C506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741240"/>
            <a:ext cx="8424720" cy="48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ZADATCI POVJERENSTV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vjerenstvo organizira, koordinira i provodi postupke vrednovanja i razvija unutarnje mehanizme osiguravanja, unaprjeđenja i promicanja kvalitet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avedeni postupci uključuju sljedeće element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samoanalizu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razvijanje indikatora kvalite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planira strategiju unaprjeđenja kvalitete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sudjelovanje studenata u praćenju kvalitete provedbe studij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istraživanje uspješnosti studiranja i uzroka nekvalitetnog, neefikasnog 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predugog studiranj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kvaliteta općih i posebnih kompetencija ostvarenih studijskim programo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provodi program procjene i postupak unaprjeđenja kvalitete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usavršavanje nastavnika (cjeloživotno obrazovanje - LLL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usavršavanje administrativnog i tehničkog osoblj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- koordinira provedbu projekata za profesionalni i stručni razvoj kadrova u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području kvalitet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ehanizmi internog osiguravanja kvalit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Tematske sjednice (korelacija predmeta Integralno upravljanje poduzećem sa ostalim predmetim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oduzetnički inkubator (nastavnici praktičnim radom studenata provjeravaju ishode učenj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Evaluacija nastave i nastavnika od strane stude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Evaluacija nastave i nastavnika od strane prodekana za nastav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amoevaluacija nastavni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naliza podataka atraktivnosti studijskog programa, analiza upisa u višu godinu studija, analiza uspješnosti polaganja ispi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nketiranje poslodava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entorski r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tudentski zb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Recertifikacijski (jednogodišnji) audit - ISO 9001: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amoanali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lan rada za akad. god. 2010./201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amoanaliza (11.mj.2011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Recertifikacija za ISO 9001:2008 (08.mj.2011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naliza anketa od studenata (02.mj. i 06. mj. 2011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državanje roditeljskih sastanaka (03.mj. i 10. mj.2011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vakodnevno ažuriranje web stranice radi informiranja javn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vođenje portala Z - stu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vođenje sustava “gosta predavača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entorski rad (jedanput mjesečno, a po potrebi i češć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tudentski zbor (jedanput mjesečno, a po potrebi i češć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Tematske sjednice ((jedanput mjesečno, a po potrebi i češć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savršavanje nastavnik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eđunarodna surad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ERASMUS - mobilnost studenata za provođenje praktične nast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tudijski posje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uradnja s dionic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Hrvatska gospodarska komora- Visoka škola je ustanova sustava E4E HG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Hrvatski zavod za zapošlja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inistarstvo gospodarstva, rada i poduzetništ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Hvala na pozornosti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990720"/>
            <a:ext cx="763128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USTAV OSIGURAVANJA</a:t>
            </a: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VALITETE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A VISOKOJ ŠKOLI ZA EKONOMIJU, PODUZETNIŠTVO I UPRAVLJANJE “NIKOLA ŠUBIĆ ZRINSK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3284640"/>
            <a:ext cx="7702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agreb, rujan 2010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zradila: Tatjana Stublić, dipl.iu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98900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s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uvremenim obrazovnim pristupom omogućiti studentima vrhunsko ekonomsko obrazovanje razvijajući pritom poduzetni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mpetencije neophodne upravljačkim struktu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Vi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valitetom i inovativnim nastavnim procesom osposobljavati studente za praktičnu primjenu poduzetničkih znanja, stručn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vještina i poslovnih tehni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il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sposobiti studente za uspješno upravljanje malim i srednjim poduzeć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olitika kvalitete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 što većoj mjeri udovoljiti zahtjevima koris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ontinuirano povećavati učinkovitost visokoškolskog obrazovanja uz smanjivanje žalbi koris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sigurati siguran rad i zadovoljstvo djelat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talno unapređivati kvalitetu usluga pridržavajući se tehničkih standarda, normi i zakonskih propi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ZRAĐENI I USVOJENI DOKUMENTI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USTAVA OSIGURAVANJA KVALIT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7800" y="2390400"/>
            <a:ext cx="79898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riručnik sustava osiguravanja kvalite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ravilnik o ustroju i djelovanju sustava za  osiguravanje kvalite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oslovnik sustava upravljanja kvalitetom sukladno normi HRN EN ISO 9001:2008 (posjedujemo certifikat od rujna 2009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362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riručnik izrađe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na temelju</a:t>
            </a:r>
            <a:r>
              <a:rPr b="0" i="1" lang="pl-PL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Standarda i smjernica za osiguravanje kvalitete u europskom prostoru visokog obrazovanja (Standards and Guidelines for Quality Assurance in the European Higher Education Area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s ciljem definiranja aktivnosti i postupaka pomoću kojih će se unaprijeđivati i osiguravati kvalitet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adi kontinuiranog praćenja različitih indikatora kvalitete te kreiranja mjera poboljšanja i unaprjeđenj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Organizacijsku strukturu u Visokoj škol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čine ustrojbene jedini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kan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jništ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Ured za studentska pit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Ured za međunarodnu suradnj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Ured za unaprjeđivanje i osiguravanje kvalitete visokog obrazov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nformatička služ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ačunovodstvo i financ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URED ZA UNAPRJEĐIVANJE I OSIGURAVANJ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KVALITETE VISOKOG OBRAZOVANJ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ASTOJI SE O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Voditelja Ureda za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naprjeđivanje i osiguravanje kvalitete visokog obrazovanj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ovjerenstvo za unaprjeđivanje i osiguravanje kvalitete visokog obrazovan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TC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zrađuje godišnji i dugoročni plan aktivnosti kojeg predstavlja Upravnom vijeću Visoke šk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2. podnosi izvješće o svom radu Upravnom vijeću najmanje jednom godišn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3. djeluje u skladu s planom nakon što ga Upravno vijeće usvoj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Stručno tijelo za osiguravanje kvalite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vjerenstvo za unaprjeđivanje i osiguravanje kvalitete visokog obrazovan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99"/>
              </a:spcBef>
              <a:buClr>
                <a:srgbClr val="cc0000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rodekan za nastav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99"/>
              </a:spcBef>
              <a:buClr>
                <a:srgbClr val="cc0000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jni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99"/>
              </a:spcBef>
              <a:buClr>
                <a:srgbClr val="cc0000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redstavnik nastav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99"/>
              </a:spcBef>
              <a:buClr>
                <a:srgbClr val="cc0000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redstavnik asisten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99"/>
              </a:spcBef>
              <a:buClr>
                <a:srgbClr val="cc0000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redstavnik studen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oka škola Nikola Šubić Zrinski  www.zrinski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2:54:46Z</dcterms:created>
  <dc:creator>tatjanas</dc:creator>
  <dc:description/>
  <dc:language>en-US</dc:language>
  <cp:lastModifiedBy>tatjanas</cp:lastModifiedBy>
  <dcterms:modified xsi:type="dcterms:W3CDTF">2010-09-14T05:37:54Z</dcterms:modified>
  <cp:revision>41</cp:revision>
  <dc:subject/>
  <dc:title>VISOKA ŠKOLA ZA EKONOMIJU, PODUZETNIŠTVO I UPRAVLJANJE NIKOLA ŠUBIĆ ZRINSKI Zagreb, Selska cesta 119</dc:title>
</cp:coreProperties>
</file>