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013-AC6A-4406-A7FE-46A212C0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408-2A05-408C-92B2-A0A81AF8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B14-1F0E-46FA-9AF3-D14FEAEE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AC6-501F-4E1F-8827-EA570FF3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F5C6-2728-4676-9305-71730D2A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ED2E-9176-4ACC-8B9A-E70EBD5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950E-456B-4599-A2E1-99D2C05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D459-08AD-4EF1-938E-E6311B2A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11C3-32F9-470B-BEA8-F1B17D1A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9C97-F349-4CE1-A71F-365042D4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21F1-E77E-4FB4-8251-E9E2BEB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293-A1E6-4318-8B90-5B6D5CF5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AD01-4C68-477B-9F3C-92C8B74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421-A0A4-4959-AF11-DD5E456E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F7A4-D037-472E-A28A-59F41C18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4C7A-5ED5-4BED-8778-1FC46935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68CA-7FC1-4F99-95A2-B243A7B8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F56-F002-4E12-B4BB-A9B7CF39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FC5-7E80-489F-BCE7-A27332F4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43A-62A7-4D8B-939B-61E3AF1B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CF4-048B-4E4F-B45C-F608A7A4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FA4-077B-4388-8AEB-79F6CA42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FFD-D9EC-48C8-A44F-2081565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566-0DA1-4F35-B6BE-29352841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0a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B950-7743-4B06-BF9F-F82B0922E4E2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0a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FF05-807D-4237-8613-51F5130D8B65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0a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260000" y="5760720"/>
            <a:ext cx="7488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greb, 14. rujna 2010.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76360" y="1700280"/>
            <a:ext cx="73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Veleučilište Lavoslav Ružička u Vukova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www.vevu.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95280" y="327024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ustav za osiguravanje i unapređivanje kvalit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7451640" y="1557360"/>
            <a:ext cx="1297080" cy="118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0a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Ustroj sust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2025720"/>
            <a:ext cx="8569080" cy="38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ovjerenik za osiguranje kvalitete – listopad 2009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adaća – priprema i koordiniranje postupka vrednovanja i ustroj sust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ravilnik o sustavu za osiguravanje kvalitete – svibanj 2010. g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temeljni dokument koji određuje ustroj, djelovanje i područja vrednovanja sust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0a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Ustroj sust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vjerenstvo za osiguravanje i unapređivanje kvalitete – svibanj 2010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adaća – priprema, koordinacija i provedba svih aktivnosti sustava za osiguravanje i unapređivanje kvalit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stav – 5 članova (povjerenik, predstavnik nastavnika, asistenata, studenata i nenastavnog osobl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0a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-27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Aktivnosti sust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569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držana konstituirajuća sjednica Povjerenstva (srpanj 2010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tvrđen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Plan izrade samoanalize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 u postupku reakreditacije Veleučilišta (aktivnosti, nositelji i vrijeme provedb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ioritet – izrada samoanalize i provedba postupka reakreditaci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tivnosti ažuriranja MOZVAG-a, uvođenje ISVU sustava, izrada nove web stranice Veleučilišta sukladno postavljenim kriterijima u postupku reakreditacije, obrada rezultata anketiranja studen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tvrđene smjernice za izradu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Plana aktivnosti za 2010/2011. g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0a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Aktivnosti sust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lan aktivnosti za 2010/2011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rovedba samoanalize i postupka reakredit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poznavanje svih dionika na Veleučilištu sa sustavom (studenti, nastavnici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zrada priručnika za osiguranje kvalite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razvijanje pokazatelja kvalitete po pojedinim područjima vrednov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rovedba i unapređenje sustava anketiranja studenata o kvaliteti nast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b0a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Aktivnosti sust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Unutarnja prosudba sustav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formalno nije proved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ojedina područja vrednovanja evaluirana su tijekom 2009/2010. god. u postupku pripreme izrade samoanalize i “promišljanja” ustroja sust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Rezultati izrade samoanalize u postupku reakreditaci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očetni korak u provedbi unutarnje prosud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temelj razvoja i unapređenja susta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22:46:35Z</dcterms:created>
  <dc:creator>STOJANOVIC</dc:creator>
  <dc:description/>
  <dc:language>en-US</dc:language>
  <cp:lastModifiedBy>Vevu</cp:lastModifiedBy>
  <dcterms:modified xsi:type="dcterms:W3CDTF">2010-09-13T12:24:10Z</dcterms:modified>
  <cp:revision>84</cp:revision>
  <dc:subject/>
  <dc:title>Slajd 1</dc:title>
</cp:coreProperties>
</file>