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45E-6088-4BD7-B99E-8D474D70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F15-DE98-4B6E-9708-6C730C55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788-F460-47A7-B93E-51EC260B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95F-4A7F-44D6-8B29-ECF9CC3A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F9A-E387-4D93-B40B-CE8BCA0C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5A9-F9F2-4698-AF73-A404815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9FCD-0769-45F1-A106-B37B4540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1F5D-D653-4D95-BD10-92026ADA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9BB0-26E3-4EFB-AF7D-154A99B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BB61-C948-4E7C-BF6B-64530CEC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165-EFE9-4515-90F7-4C65B52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3EE-590F-45CB-8D4F-A51F424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1290-6E1B-4469-ACC4-F045DD30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8C5D-AE0A-4970-8BA4-8DF6C119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619-CECD-4EAC-B1A4-C8569B1D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0C9A-3205-4A9C-B1F0-DD8CEF09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6DF7-D5CC-4220-997D-2A1D294E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6B10-2C91-4CD9-85F9-4A04A9F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A80C-576E-4820-84A4-BC9708E0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D962-9E2B-4E3E-9437-DD0FC49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0BA6-9A25-4A85-9D74-555ED4F6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2C45-EC3B-4981-9C7C-AC4740BD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241-6C66-4819-8FA2-B5761B8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8DD7-4C3C-4957-8672-C9C67AC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3E0A-B93D-45F9-B18E-51E26AF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EE92-CDE9-4447-AA7D-0E39B6A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4398-D7B6-4ED2-92C9-400834F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3705-47F0-4DFB-A756-6CB17776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A27D-1B6F-4A91-963A-073B54A8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E4BD-F4A1-4BF0-8256-6F9B831B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A63C-8765-4569-B218-C0CF4C75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AC56-2F1F-4481-A917-22D06479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4D37-BBF5-41E4-97D7-015277D2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C4A-5714-4670-9F37-75F8162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0899-52B6-4676-AB71-6857BEB9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4AD3-96A6-4198-ACE6-BAD35472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16DE8-24A8-41E4-9A78-29A6D4A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04BE-16AE-467A-B785-C4532C2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97EC-DC43-42AD-ABF6-4E2FEBE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3761-59FC-43EF-891D-9DB12F4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AC7A-A0FF-44C5-9E41-AAE68A8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42E5-7FDA-4876-9743-DB2ED3AD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D708-E3F7-4560-9906-572B4E47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4DB-32F4-4502-9F3E-A1D34CC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55E-04FE-4F63-A225-9E8E0464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7EB-E8D3-4CBD-A323-825A7AE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EB7-5D7A-4B1E-BFF9-FF0CA1F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5D6-8BFA-4CAB-B5FA-904C441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634920" cy="6858000"/>
            <a:chOff x="0" y="0"/>
            <a:chExt cx="36349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6544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19120" y="0"/>
              <a:ext cx="31158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2520" y="1030680"/>
            <a:ext cx="7597440" cy="69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-360" y="6165360"/>
            <a:ext cx="8161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82ED-E270-417A-8E66-41ED581A960F}" type="slidenum">
              <a:rPr b="1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08000" y="109440"/>
            <a:ext cx="690480" cy="690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4360" y="189000"/>
            <a:ext cx="30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isoka škola za sigurnos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 pravom javnost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6080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2E7-978E-41A8-9E47-4C88B1EE82D7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0944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307800"/>
            <a:ext cx="3600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soka škola za sigurno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 pravom javnost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6B1-1493-4741-8C5D-EC467A937874}" type="slidenum">
              <a:rPr b="0" lang="hr-H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47628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C6E0-2207-4212-A1EB-6878FF16844A}" type="slidenum">
              <a:rPr b="0" lang="hr-H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0560" y="1341000"/>
            <a:ext cx="70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eminar za osiguravanje kvalitete </a:t>
            </a:r>
            <a:br>
              <a:rPr sz="2400"/>
            </a:b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a veleučilištima i visokim školama:</a:t>
            </a:r>
            <a:br>
              <a:rPr sz="2400"/>
            </a:br>
            <a:br>
              <a:rPr sz="2400"/>
            </a:br>
            <a:r>
              <a:rPr b="1" lang="hr-HR" sz="3600" spc="-1" strike="noStrike">
                <a:solidFill>
                  <a:srgbClr val="000066"/>
                </a:solidFill>
                <a:latin typeface="Arial"/>
              </a:rPr>
              <a:t>Učinkovitost unutarnjeg sustava osiguravanja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907640" y="4076280"/>
            <a:ext cx="6985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VISOKA ŠKOLA ZA SIGURNOST</a:t>
            </a:r>
            <a:r>
              <a:rPr b="1" lang="hr-HR" sz="2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6600"/>
                </a:solidFill>
                <a:latin typeface="Arial"/>
              </a:rPr>
              <a:t>s pravom javnos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Donald Ki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Zagreb, 14. rujan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93528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00"/>
                </a:solidFill>
                <a:latin typeface="Arial"/>
              </a:rPr>
              <a:t>VISOKA ŠKOLA ZA SIGURNOST</a:t>
            </a:r>
            <a:br>
              <a:rPr sz="3600"/>
            </a:b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s pravom javnosti</a:t>
            </a:r>
            <a:br>
              <a:rPr sz="2400"/>
            </a:b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Zagreb, Ivana Lučić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089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programski je sljednik </a:t>
            </a:r>
            <a:r>
              <a:rPr b="1" i="1" lang="hr-HR" sz="2700" spc="-1" strike="noStrike">
                <a:solidFill>
                  <a:srgbClr val="000066"/>
                </a:solidFill>
                <a:latin typeface="Arial"/>
              </a:rPr>
              <a:t>Više tehničke škole za sigurnost na radu i zaštitu od požara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 iz Zagreba (koja je prestala s radom 1986. godin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počela s radom 1997. go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djeluje na temelju dopusnice </a:t>
            </a:r>
            <a:r>
              <a:rPr b="1" i="1" lang="hr-HR" sz="2700" spc="-1" strike="noStrike">
                <a:solidFill>
                  <a:srgbClr val="000066"/>
                </a:solidFill>
                <a:latin typeface="Arial"/>
              </a:rPr>
              <a:t>Ministarstva znanosti, obrazovanja i športa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 za izvođenj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stručnog studija sigurnosti    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specijalističkog diplomskog stručnog studija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sigur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Potreba za osiguravanjem kvalitete </a:t>
            </a:r>
            <a:br>
              <a:rPr sz="3200"/>
            </a:b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na Visokoj školi za sigu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proizlazi iz sljedećih zahtjev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zahtjev i interes studenata za što kvalitetnijom nastavom  i želja za stjecanjem novih znan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zahtjev Uprave za što kvalitetnijim pružanjem usluga našim dionicima (studentim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zahtjev i interes poslodavaca i društva u cjelini za što kvalitetnijim visokim obrazovanjem odnosno za što kvalitetnijim stručnim kadr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34528" t="11142" r="34151" b="2761"/>
          <a:stretch/>
        </p:blipFill>
        <p:spPr>
          <a:xfrm>
            <a:off x="0" y="304920"/>
            <a:ext cx="9144000" cy="6224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340000" y="0"/>
            <a:ext cx="54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RGANIZACIJSKA SHEM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6600"/>
                </a:solidFill>
                <a:latin typeface="Arial"/>
              </a:rPr>
              <a:t>USTROJ </a:t>
            </a:r>
            <a:br>
              <a:rPr sz="3600"/>
            </a:br>
            <a:r>
              <a:rPr b="1" lang="hr-HR" sz="3600" spc="-1" strike="noStrike">
                <a:solidFill>
                  <a:srgbClr val="006600"/>
                </a:solidFill>
                <a:latin typeface="Arial"/>
              </a:rPr>
              <a:t>VISOKE ŠKOLE ZA SIGU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32000" y="2204640"/>
            <a:ext cx="720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Ustroj studija sigur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Nastavne ustrojbene jedini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Kated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Kabi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Nastavno radiliš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Tajništ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Centar za elektroničko obrazovan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66"/>
                </a:solidFill>
                <a:latin typeface="Arial"/>
              </a:rPr>
              <a:t>Jedinica za unutarnji sustav osiguravanja i unapređivanja kvalit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010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00"/>
                </a:solidFill>
                <a:latin typeface="Arial"/>
              </a:rPr>
              <a:t>Matrica odgovornosti</a:t>
            </a:r>
            <a:br>
              <a:rPr sz="2000"/>
            </a:br>
            <a:r>
              <a:rPr b="1" lang="hr-HR" sz="2000" spc="-1" strike="noStrike">
                <a:solidFill>
                  <a:srgbClr val="006600"/>
                </a:solidFill>
                <a:latin typeface="Arial"/>
              </a:rPr>
              <a:t>VISOKE ŠKOLE ZA SIGU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8000" y="765000"/>
          <a:ext cx="8856720" cy="5967720"/>
        </p:xfrm>
        <a:graphic>
          <a:graphicData uri="http://schemas.openxmlformats.org/drawingml/2006/table">
            <a:tbl>
              <a:tblPr/>
              <a:tblGrid>
                <a:gridCol w="1439640"/>
                <a:gridCol w="601920"/>
                <a:gridCol w="584280"/>
                <a:gridCol w="655560"/>
                <a:gridCol w="582480"/>
                <a:gridCol w="655560"/>
                <a:gridCol w="584280"/>
                <a:gridCol w="582480"/>
                <a:gridCol w="486000"/>
                <a:gridCol w="588960"/>
                <a:gridCol w="673200"/>
                <a:gridCol w="706320"/>
                <a:gridCol w="71604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UNKCI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pravno  vijeć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pravitelj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tručno vijeć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ekan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odekan za nastav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ajnik studij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edstojnik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atedr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astavnik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astavnik - suradnik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tudentska referad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Jedinica za osigurav i unapređ kvali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entar za elektroničko obrazovanj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tudijski planovi i program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zvedbeni plan nastav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tručni studij sigurnos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pec diplomski stručni studij sigurnos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alizacija nastav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spi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ustav InfoEDUC</a:t>
                      </a: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@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udentski zbo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isi studenat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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Wingdings 2"/>
                          <a:ea typeface="Wingdings 2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 flipH="1" flipV="1">
            <a:off x="178920" y="764640"/>
            <a:ext cx="1297080" cy="1295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40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00"/>
                </a:solidFill>
                <a:latin typeface="Arial"/>
              </a:rPr>
              <a:t>Do sada provedeni procesi i</a:t>
            </a:r>
            <a:br>
              <a:rPr sz="3600"/>
            </a:br>
            <a:r>
              <a:rPr b="1" lang="hr-HR" sz="3600" spc="-1" strike="noStrike">
                <a:solidFill>
                  <a:srgbClr val="006600"/>
                </a:solidFill>
                <a:latin typeface="Arial"/>
              </a:rPr>
              <a:t>izrađeni dokumenti na </a:t>
            </a: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V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revizija studijskih programa VSS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ocjenjivanje  uspješnosti nastavnog rada od strane studenata VSS-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(Anketa o zadovoljstvu studenata svim nastavnim procesima) – provodi se kontinuirano od 2002. god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komunikaciju s administracijom i nastavnicima studenti ostvaruju pomoću sustava Infoeduc@ već od 2005. god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Statut VSS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studiju VSS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unutarnjem ustrojstvu i načinu rada VSS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Etički kodeks nastavnika i suradnika VSS-a, 200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stegovnoj odgovornosti VSS, 200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provođenju izbora za Studentski zbor VSS, 200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radu Centra za elektroničko obrazovanje VSS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Pravilnik o radu knjižnice, 20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404280"/>
            <a:ext cx="7369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Plan aktivnosti VSS iz osiguravanja kvalitete za iduće razdob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U idućem razdoblju planira se revidirati i izraditi nekoliko internih dokumenata i općih akat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završiti Priručnik sustava osiguravanja kvalite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revidirati Pravilnik o postupku vrednovanja studijskih progr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izraditi Pravilnik o ocjenjivanju studen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izraditi Pravilnik o nagrađivanju studen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izraditi Pravilnik o provođenju studentske anke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kao 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provesti unutarnju prosudbu (samoanalizu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66"/>
                </a:solidFill>
                <a:latin typeface="Arial"/>
              </a:rPr>
              <a:t>izraditi gantogram s akcijskim planovima i program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ald Kis</cp:lastModifiedBy>
  <dcterms:modified xsi:type="dcterms:W3CDTF">2010-09-13T14:14:46Z</dcterms:modified>
  <cp:revision>37</cp:revision>
  <dc:subject/>
  <dc:title>PowerPoint Presentation</dc:title>
</cp:coreProperties>
</file>