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A7349-C03D-4380-8F5F-5673B86758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38280" y="6858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9BF28-B6D1-4537-885A-2A8C4E25DA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38280" y="6858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99ECC-0AA0-478D-BFB3-890C90FE32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438280" y="6858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95D4E-589A-4E6B-B493-52965B5443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E03049-AC75-44F8-928E-248690976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38280" y="6858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ED3907-8B1E-4E24-846A-85A3BC77F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8280" y="6858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A5C519-EA61-4947-9318-03DCA5756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8280" y="6858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F7F8C3-F6EE-486F-8542-9B57A2928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6858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12C6A7-EAEC-4BC1-93C7-A2FE0081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438280" y="685800"/>
            <a:ext cx="6400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6221B0-2690-46A0-8BCA-2C4D213EC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8280" y="6858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33D75B-BA0A-4FFE-8857-413A2618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438280" y="6858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1E896-030A-4D57-8B5C-48C2AA5008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38280" y="6858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26F538-53EA-40F6-A901-5C0EF9BD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8280" y="6858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BFDF9E-CB34-424B-B5A3-7F0F769D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38280" y="6858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BE1462-4853-4844-90C2-FB0643374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6858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F12F7D-41F6-4D45-9F51-B4F7D30C8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38280" y="6858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03A16C-A0B7-488C-9849-6D08C1A70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859FAA-142D-42CF-B19E-A06CAF91069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6858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652283-118B-47EE-BD0C-C33DC74A042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6858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3FF769-6749-4013-9442-B3D384D5EFE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6858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0C858D-A8F3-4524-8892-59ECC1CFC59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6858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95B987-DEFB-412F-A2FA-D7CCFFDF5A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6858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C0621-4609-4486-81D6-40B391B4958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438280" y="685800"/>
            <a:ext cx="6400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58220A-6297-4D9D-80D0-BAE7095E98A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6858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880B91-38DB-439A-BF98-319CC9F963D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6858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966AF8-389D-4C75-B25F-DF753E326DE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6858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019CA6-5508-4555-87F3-A88CD8FD0C4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6858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08E45F-F419-4A5E-AEBF-263D20AD508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38280" y="6858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600C67-51BB-4CA6-AA72-0492593B07D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6858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2D8071-02C1-4BEF-B9A4-256B029DAC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6858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C8B6A-6D17-4C02-B11D-AC55E50D27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38280" y="6858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2341B-1BF1-4821-A43F-73ABFA99B7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438280" y="685800"/>
            <a:ext cx="6400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6EE6C-3746-4A71-A614-778F9819B9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6858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8DD02-50DB-4353-A382-98A6AC1958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38280" y="6858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7A5DE-DF5C-4CD5-BB6F-D3D43A4471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38280" y="6858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82101-F5E9-4129-A0E7-023671FD95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143560" y="6640200"/>
            <a:ext cx="7556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2438280" y="6858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f00000"/>
              </a:solidFill>
              <a:latin typeface="Calibri"/>
            </a:endParaRPr>
          </a:p>
        </p:txBody>
      </p:sp>
      <p:grpSp>
        <p:nvGrpSpPr>
          <p:cNvPr id="2" name="Group 15"/>
          <p:cNvGrpSpPr/>
          <p:nvPr/>
        </p:nvGrpSpPr>
        <p:grpSpPr>
          <a:xfrm>
            <a:off x="108000" y="404640"/>
            <a:ext cx="2158920" cy="6111000"/>
            <a:chOff x="108000" y="404640"/>
            <a:chExt cx="2158920" cy="6111000"/>
          </a:xfrm>
        </p:grpSpPr>
        <p:sp>
          <p:nvSpPr>
            <p:cNvPr id="3" name="Text Box 12"/>
            <p:cNvSpPr/>
            <p:nvPr/>
          </p:nvSpPr>
          <p:spPr>
            <a:xfrm>
              <a:off x="210240" y="6147360"/>
              <a:ext cx="1983600" cy="36828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0000"/>
                  </a:solidFill>
                  <a:latin typeface="Calibri"/>
                </a:rPr>
                <a:t>UČINKOVITOST UNUTARNJEG SUSTAVA OSIGURAVANJA KVALITET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" name="Picture 13" descr="Logoveleuciliste"/>
            <p:cNvPicPr/>
            <p:nvPr/>
          </p:nvPicPr>
          <p:blipFill>
            <a:blip r:embed="rId2"/>
            <a:stretch/>
          </p:blipFill>
          <p:spPr>
            <a:xfrm>
              <a:off x="780120" y="404640"/>
              <a:ext cx="659160" cy="17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Text Box 14"/>
            <p:cNvSpPr/>
            <p:nvPr/>
          </p:nvSpPr>
          <p:spPr>
            <a:xfrm>
              <a:off x="108000" y="5518080"/>
              <a:ext cx="2158920" cy="26136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100" spc="-1" strike="noStrike">
                  <a:solidFill>
                    <a:srgbClr val="ff0000"/>
                  </a:solidFill>
                  <a:latin typeface="Calibri"/>
                </a:rPr>
                <a:t>Mr.sc.Diana  Plantić Tadić,v.pred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EF0C6-8C8C-41DE-8D61-00C059CE6968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15"/>
          <p:cNvGrpSpPr/>
          <p:nvPr/>
        </p:nvGrpSpPr>
        <p:grpSpPr>
          <a:xfrm>
            <a:off x="108000" y="404640"/>
            <a:ext cx="2158920" cy="6111000"/>
            <a:chOff x="108000" y="404640"/>
            <a:chExt cx="2158920" cy="6111000"/>
          </a:xfrm>
        </p:grpSpPr>
        <p:sp>
          <p:nvSpPr>
            <p:cNvPr id="84" name="Text Box 12"/>
            <p:cNvSpPr/>
            <p:nvPr/>
          </p:nvSpPr>
          <p:spPr>
            <a:xfrm>
              <a:off x="210240" y="6147360"/>
              <a:ext cx="1983600" cy="36828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0000"/>
                  </a:solidFill>
                  <a:latin typeface="Calibri"/>
                </a:rPr>
                <a:t>UČINKOVITOST UNUTARNJEG SUSTAVA OSIGURAVANJA KVALITET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" name="Picture 13" descr="Logoveleuciliste"/>
            <p:cNvPicPr/>
            <p:nvPr/>
          </p:nvPicPr>
          <p:blipFill>
            <a:blip r:embed="rId2"/>
            <a:stretch/>
          </p:blipFill>
          <p:spPr>
            <a:xfrm>
              <a:off x="780120" y="404640"/>
              <a:ext cx="659160" cy="17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14"/>
            <p:cNvSpPr/>
            <p:nvPr/>
          </p:nvSpPr>
          <p:spPr>
            <a:xfrm>
              <a:off x="108000" y="5518080"/>
              <a:ext cx="2158920" cy="26136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100" spc="-1" strike="noStrike">
                  <a:solidFill>
                    <a:srgbClr val="ff0000"/>
                  </a:solidFill>
                  <a:latin typeface="Calibri"/>
                </a:rPr>
                <a:t>Mr.sc.Diana  Plantić Tadić,v.pred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Naslov 1"/>
          <p:cNvSpPr/>
          <p:nvPr/>
        </p:nvSpPr>
        <p:spPr>
          <a:xfrm>
            <a:off x="1757520" y="4259160"/>
            <a:ext cx="702936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Mr.sc. Diana Plantić Tadić, viši predava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6858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f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ldNum" idx="5"/>
          </p:nvPr>
        </p:nvSpPr>
        <p:spPr>
          <a:xfrm>
            <a:off x="8143560" y="6640200"/>
            <a:ext cx="7556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356920" y="2142720"/>
            <a:ext cx="658836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00000"/>
                </a:solidFill>
                <a:latin typeface="Calibri"/>
              </a:rPr>
              <a:t>Sustav kvalitete </a:t>
            </a:r>
            <a:br>
              <a:rPr sz="3600"/>
            </a:br>
            <a:r>
              <a:rPr b="1" lang="sr-Latn-CS" sz="3600" spc="-1" strike="noStrike">
                <a:solidFill>
                  <a:srgbClr val="f00000"/>
                </a:solidFill>
                <a:latin typeface="Calibri"/>
              </a:rPr>
              <a:t>Veleučilišta VERN’ - Zagreb</a:t>
            </a:r>
            <a:endParaRPr b="1" lang="en-US" sz="3600" spc="-1" strike="noStrike">
              <a:solidFill>
                <a:srgbClr val="f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2843280" y="5660640"/>
            <a:ext cx="5976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EMINAR: UČINKOVITOST UNUTARNJEG SUSTAVA OSIGURAVANJA KVALITE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Calibri"/>
              </a:rPr>
              <a:t>Vijeće veleučilišta i visokih škol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Calibri"/>
              </a:rPr>
              <a:t>Zagreb, 14. rujna 2010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38280" y="6858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00000"/>
                </a:solidFill>
                <a:latin typeface="Calibri"/>
              </a:rPr>
              <a:t>Sustav kvalitete VERNQUAL - retrospektiva</a:t>
            </a:r>
            <a:endParaRPr b="1" lang="en-US" sz="2800" spc="-1" strike="noStrike">
              <a:solidFill>
                <a:srgbClr val="f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268000" y="1915920"/>
            <a:ext cx="6875640" cy="44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Calibri"/>
              </a:rPr>
              <a:t>2003.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g. – inicijativa i prve pripreme za uvođenje         sustava upravljanja kvalitetom na VERN-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Calibri"/>
              </a:rPr>
              <a:t>2004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.g. – implementacija i certifikacija sustava 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upravljanja kvalitetom VERNQUAL prema zahtjevima međunarodne norme ISO 9001:2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Calibri"/>
              </a:rPr>
              <a:t>2007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.g. – prva recertifikacija VERNQUAL-a uz certifikate CRO CERT-a i IQNet-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Calibri"/>
              </a:rPr>
              <a:t>2010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.g. – recertifikacija VERNQUAL-a prema zahtjevima revidirane norme ISO 9001: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38280" y="685800"/>
            <a:ext cx="640080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00000"/>
                </a:solidFill>
                <a:latin typeface="Calibri"/>
              </a:rPr>
              <a:t>Sustav kvalitete VERNQUAL – organizacijski ustroj i odgovornosti</a:t>
            </a:r>
            <a:endParaRPr b="1" lang="en-US" sz="2800" spc="-1" strike="noStrike">
              <a:solidFill>
                <a:srgbClr val="f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268000" y="2781360"/>
            <a:ext cx="687564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Predstavnik Uprave za kvalitetu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(Dek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strateška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odgovornost za kvalitet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Voditelj kvalitet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strateška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uodgovornost i </a:t>
            </a: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operativna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odgovornost za kvalitet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Interni auditori (6 stalno zaposleni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- operativna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uodgovornost za kvalitet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6858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00000"/>
                </a:solidFill>
                <a:latin typeface="Calibri"/>
              </a:rPr>
              <a:t>Unutarnje prosudbe (interni auditi)</a:t>
            </a:r>
            <a:endParaRPr b="1" lang="en-US" sz="3200" spc="-1" strike="noStrike">
              <a:solidFill>
                <a:srgbClr val="f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268000" y="1268280"/>
            <a:ext cx="67676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buClr>
                <a:srgbClr val="f10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periodična provedba internih audita svake akademske godine (priprema za eksterni audi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20000"/>
              </a:lnSpc>
              <a:buClr>
                <a:srgbClr val="f10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prezentacija rezultata Upravi u Izvješću o auditu→daljnje preventivne i korektivne radn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20000"/>
              </a:lnSpc>
              <a:buClr>
                <a:srgbClr val="f10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ključni rezultati posljednjeg audita (svibanj 2010.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20000"/>
              </a:lnSpc>
              <a:buClr>
                <a:srgbClr val="f10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jači fokus na nastavnicima – veći interes za stručno-znanstvenim usavršavanjem i sudjelovanjem na stručnim skupovima→više akademskih i nastavnih zvanj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20000"/>
              </a:lnSpc>
              <a:buClr>
                <a:srgbClr val="f10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povećanje prostornog kapaciteta (povećani uredi, učionice, kabinet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20000"/>
              </a:lnSpc>
              <a:buClr>
                <a:srgbClr val="f10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pripreme za reakreditaciju AZVO-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20000"/>
              </a:lnSpc>
              <a:spcBef>
                <a:spcPts val="1199"/>
              </a:spcBef>
              <a:buClr>
                <a:srgbClr val="f10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6858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00000"/>
                </a:solidFill>
                <a:latin typeface="Calibri"/>
              </a:rPr>
              <a:t>Opće smjernice plana za 2010/2011.</a:t>
            </a:r>
            <a:endParaRPr b="1" lang="en-US" sz="3200" spc="-1" strike="noStrike">
              <a:solidFill>
                <a:srgbClr val="f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268000" y="1484280"/>
            <a:ext cx="6767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f10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uspješne pripreme i provedba reakreditaci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f10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daljnja poboljšanja u VERNQUAL-u → interni audit u svibnju i nadzorni audit u lipnju 2011. god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f10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nove VERNQUAL radionice za stalno i honorarno zaposlene o sustavu kvalitete i dokumentaciji sustav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f10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pripreme za akreditaciju prema EFMD standardima kvalitete u visokom obrazovanju (EQUI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2414520"/>
            <a:ext cx="6400800" cy="180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Calibri"/>
              </a:rPr>
              <a:t>Pitanja i prijedlozi?</a:t>
            </a:r>
            <a:br>
              <a:rPr sz="3600"/>
            </a:br>
            <a:br>
              <a:rPr sz="3200"/>
            </a:br>
            <a:r>
              <a:rPr b="1" lang="hr-HR" sz="3200" spc="-1" strike="noStrike">
                <a:solidFill>
                  <a:srgbClr val="f00000"/>
                </a:solidFill>
                <a:latin typeface="Calibri"/>
              </a:rPr>
              <a:t>vernqual@vern.hr</a:t>
            </a:r>
            <a:endParaRPr b="1" lang="en-US" sz="3200" spc="-1" strike="noStrike">
              <a:solidFill>
                <a:srgbClr val="f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10:07:49Z</dcterms:created>
  <dc:creator>Diana</dc:creator>
  <dc:description/>
  <dc:language>en-US</dc:language>
  <cp:lastModifiedBy>Diana Plantić</cp:lastModifiedBy>
  <dcterms:modified xsi:type="dcterms:W3CDTF">2010-09-13T20:48:47Z</dcterms:modified>
  <cp:revision>39</cp:revision>
  <dc:subject/>
  <dc:title>Slide 1</dc:title>
</cp:coreProperties>
</file>