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D8A-6D6F-41DB-AFD8-714AC19D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8605-028C-4D89-BD73-8325B98F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3B27-0FB4-4C02-A190-C03E2D73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415-520C-4E48-98A1-AC7423A3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B10-3955-4DAA-B935-ED1C0334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63AA-F738-4434-9BBA-8C1421E6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219C-905A-489C-9B1F-1F92A110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60BD-FDB5-4513-B616-A4B663C8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2AB9-9513-4233-B391-0B730B8A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B793-90C0-4A6D-8D57-E41AA564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2125-C940-4879-9C96-CC448D72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94EB-3B84-40F1-B4AC-0C4EAD34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FCBE-E33D-4E09-AF94-AD64D81C1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VISOKA POLITEHNIČKA ŠKOLA U ZAGREB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P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-126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842472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dsjednik Jedinice za osiguravanje kvalitete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stavnik nastavnog osobl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govoran za sve aktivnosti Jedi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đuje plan rada Jedinice za tekuću akademsku godi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govara za realizaciju pl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jednom godišnje podnosi izvješće o svom radu Stručnom vijeću i glavnom direkto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Jedinica u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okviru svoje nadležnosti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pravlja sustavom za osiguravanje kval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rši unutarnju prosud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vodi strateško plan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tiče inov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 svrhu osiguranja i unapređenja kval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27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nutarnja prosudba provodi se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 obzirom na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ISIJ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UPRAVLJANJE VISOKOM ŠKOL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SIGURAVANJE KVAL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stav osiguravanja i stalnog poboljšanja kvalit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4.  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TUDIJSKI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dobravanje, praćenje i vrednovanje programa i z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bavještavanje jav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5.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ČENJE I NASTAV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rsi za učenje i pomoć studen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jenjivanje stude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iguravanje kvalitet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d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stavn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INFORMACIJSKI SUST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7. UPRAVLJANJE RESURS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tručne služ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pr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inan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judski resur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OBILNOST I MEĐUNARODN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SURADNJ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RUČN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I ISTRAŽIVAČK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DJELAT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RATKOROČNI CILJE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7786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ljnije razraditi ishode učenja za svaki kolegij studijskog pr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činiti sustav internog vrednovanja nastave transparentnij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novati radionicu za pomoć studentima pri uče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lanirano/ predviđeno vrijeme: akademska godina 2010./ 20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DUGOROČNI CILJEV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činkovit sustav osiguravanja kvalit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temelju SWOT analize i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tavljenih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lje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potpunosti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tvariti misij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POLY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naprijediti kvalitetu visokog obrazo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azv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kultur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kvalit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lanirano/ predviđeno vrijeme: kraj 20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-1260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3516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staln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težnj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za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spunjavanjem zahtje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nadmašivanjem očekivanja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korisni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ravljanje kvaliteto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rovodi se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traj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na svim organizacijskim razinam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uključuje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sve dionike POLY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27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ručnik za osiguravanje kval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avilnik o sustavu osiguravanja kval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iln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 studentskoj anke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ilnik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 interno vrednovanje nast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tički kod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stupn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ernet stranicama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LY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iručnik za osiguravanje kvalit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m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ć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edb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ovredn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ostavan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stup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eljen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m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jernicam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iguranj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litet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Europskog prostor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okog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razovanj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“ - ES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dinjuj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oruk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cij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nos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ok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razo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4212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3628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etaljno se opisuj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is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iz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ustav za osiguravanje kval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truktura i strate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uradnja s uprav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litika kvalit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404280"/>
            <a:ext cx="8280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vit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z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jmov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jmovi osiguravanja kvalitete u visokom obraz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sjetnik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jernicam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iguranj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alit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roln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is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utarnj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ud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brasci internih mehanizama za osiguranje kvalit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ra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za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za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zradu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odi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š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jeg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jelovan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inic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gurava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valit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ra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sc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provedbu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rednovanj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st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a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sc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za provedbu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udentske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ket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prilikom ocje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valitet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tavnik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valitet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vedb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egij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jelo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stava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iguranja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valit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edinica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siguravanje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valit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troj i način rada utvrđ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n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avilnikom o sustavu osiguravanja kvalit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lanovi Jedinice za osiguravanje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kvalite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član Upravnog vije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edstavnika stude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edstavnik nastavnog osob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20:29:45Z</dcterms:created>
  <dc:creator>Ivana</dc:creator>
  <dc:description/>
  <dc:language>en-US</dc:language>
  <cp:lastModifiedBy>Ivana</cp:lastModifiedBy>
  <dcterms:modified xsi:type="dcterms:W3CDTF">2010-09-13T08:15:11Z</dcterms:modified>
  <cp:revision>25</cp:revision>
  <dc:subject/>
  <dc:title>VISOKA POLITEHNIČKA ŠKOLA U ZAGREBU</dc:title>
</cp:coreProperties>
</file>