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hr-H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655E26-4DFD-413B-836E-1296D6F6CDAA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4EAD91-F56F-46A7-B755-910546A4A3B4}" type="slidenum">
              <a:rPr b="0" lang="hr-H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E30-B601-439B-9C27-E989A04E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87C-3638-4277-BF4E-10D12B1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2C8-A548-4F08-AA78-4BD3CD63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EE7-8E6C-4F16-8C8A-AC2E8433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3AF-5950-49D6-8609-F3B96F9C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6A5-7C07-451A-8671-AAB67C8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B02-2CD6-4F4F-8891-67BF732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365-084D-40D6-81D4-AC04CFE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73C-539E-465E-BB95-C7B83E74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62D-B402-401F-8381-141A84A0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0AE-2DB7-4FD5-8FD3-C1CBCAD2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B02-52EA-4E00-BD3E-A363D4F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CB0-1CBD-49C7-959D-6EB7DAD1364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20640"/>
            <a:ext cx="81342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UČINKOVITOST UNUTARNJEG SUSTAVA KVALITET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lorad Nikitović, prodekan za nast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aslovnica"/>
          <p:cNvPicPr/>
          <p:nvPr/>
        </p:nvPicPr>
        <p:blipFill>
          <a:blip r:embed="rId1"/>
          <a:stretch/>
        </p:blipFill>
        <p:spPr>
          <a:xfrm>
            <a:off x="3203640" y="549360"/>
            <a:ext cx="22222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SITE, dopusnica listopad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50 studen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0 nastavni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9 uposlenika (7 nastavni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100 m2 pro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1F8B-074F-4D3E-9851-51284197630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ustav kval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ljučeni od 30.studenog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ovicom prosinca 2009. oformljena jedinica osiguranja kvalitete (5 član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cijski plan sustavnog praćenja kvalitete (kraj prosinca 200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ilnik o praćenju, provjeri i unaprjeđenju kvalitete (travanj, 20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izradi Priručnik za osiguranje kvalitete (do kraja listopada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A09-C422-4EB7-A278-BA15AC47803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a za praćenje i osiguranje kvalitete je SCAD (vlastito softversko rješenje za praćenje ukupnosti praćenja rada VSITE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1F09-0067-4BB7-B80B-06D227D722C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BF4A-5F82-4B54-BB34-00CED194BD6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024-C01B-474A-B279-A456F8B3C32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D01-6373-4212-8A0C-0779D61E4C7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332000" y="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2C9-E20B-4F21-86B1-3EAB6C0F93C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AF8C-2399-4B0A-8EED-453071C00FD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7:37:17Z</dcterms:created>
  <dc:creator>Milorad Nikitović</dc:creator>
  <dc:description/>
  <dc:language>en-US</dc:language>
  <cp:lastModifiedBy>Milorad Nikitović</cp:lastModifiedBy>
  <dcterms:modified xsi:type="dcterms:W3CDTF">2010-09-14T10:00:17Z</dcterms:modified>
  <cp:revision>228</cp:revision>
  <dc:subject/>
  <dc:title>ARHITEKTURA OSOBNIH RAČUNALA</dc:title>
</cp:coreProperties>
</file>