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2BC8-F3B4-4896-916F-DFDF78C881B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7E8-DEDC-4B2B-9D73-C9D4336D98B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B52-AE8B-4A96-B293-FDF2155B08B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8556-FD8C-411F-89F0-FB4C0E678BC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1B01-6D6A-438F-B990-9AB105396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3EC9-EBED-46B1-A73E-561C628A9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F0F7-6C26-4A1B-807F-3B433487F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A46C-494B-4D34-8C32-1D44B720F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AEA9-B184-4DDC-9E87-E0BD30CD3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83CE-503E-4281-BC5F-F3CB9B90E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11F8-77B3-4329-BD82-6172F526F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854E-B42D-4A5C-898C-369A6D140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A450-B790-4218-BADC-65F5AC26C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0AAD-ABC1-41A3-924A-23B0B2322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4630-A10B-4DC5-B455-847986DF6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19EF-7913-457D-B7DF-CA01579B1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21"/>
          <p:cNvPicPr/>
          <p:nvPr/>
        </p:nvPicPr>
        <p:blipFill>
          <a:blip r:embed="rId2"/>
          <a:srcRect l="0" t="0" r="0" b="469"/>
          <a:stretch/>
        </p:blipFill>
        <p:spPr>
          <a:xfrm>
            <a:off x="0" y="6575400"/>
            <a:ext cx="9144000" cy="281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613560"/>
            <a:ext cx="33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Arial"/>
              </a:rPr>
              <a:t>Veleučilište u Slavonskom Br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53704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E49-9C1C-43DC-84B4-8CAB3B6246A3}" type="slidenum">
              <a:rPr b="1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Slika 11" descr="logo 2 - Veleuciliste.jpg"/>
          <p:cNvPicPr/>
          <p:nvPr/>
        </p:nvPicPr>
        <p:blipFill>
          <a:blip r:embed="rId3"/>
          <a:stretch/>
        </p:blipFill>
        <p:spPr>
          <a:xfrm>
            <a:off x="127080" y="20520"/>
            <a:ext cx="969840" cy="863640"/>
          </a:xfrm>
          <a:prstGeom prst="rect">
            <a:avLst/>
          </a:prstGeom>
          <a:ln w="0">
            <a:noFill/>
          </a:ln>
        </p:spPr>
      </p:pic>
      <p:pic>
        <p:nvPicPr>
          <p:cNvPr id="7" name="Dijagram toka: Izmjenična obrada 13" descr=""/>
          <p:cNvPicPr/>
          <p:nvPr/>
        </p:nvPicPr>
        <p:blipFill>
          <a:blip r:embed="rId4"/>
          <a:stretch/>
        </p:blipFill>
        <p:spPr>
          <a:xfrm>
            <a:off x="-55440" y="878040"/>
            <a:ext cx="920592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Optimization Graphic_small"/>
          <p:cNvPicPr/>
          <p:nvPr/>
        </p:nvPicPr>
        <p:blipFill>
          <a:blip r:embed="rId2"/>
          <a:srcRect l="0" t="0" r="1660" b="0"/>
          <a:stretch/>
        </p:blipFill>
        <p:spPr>
          <a:xfrm>
            <a:off x="5078520" y="1900080"/>
            <a:ext cx="3941640" cy="3156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9"/>
          <p:cNvSpPr/>
          <p:nvPr/>
        </p:nvSpPr>
        <p:spPr>
          <a:xfrm>
            <a:off x="0" y="0"/>
            <a:ext cx="9140760" cy="1692360"/>
          </a:xfrm>
          <a:prstGeom prst="rect">
            <a:avLst/>
          </a:prstGeom>
          <a:solidFill>
            <a:srgbClr val="3891a7"/>
          </a:solidFill>
          <a:ln w="32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0" y="5164200"/>
            <a:ext cx="9140760" cy="1692360"/>
          </a:xfrm>
          <a:prstGeom prst="rect">
            <a:avLst/>
          </a:prstGeom>
          <a:solidFill>
            <a:srgbClr val="3891a7"/>
          </a:solidFill>
          <a:ln w="32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6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7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5938920" y="6413400"/>
            <a:ext cx="30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Veleučilište u Slavonskom Br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18" descr="logo 2 - Veleuciliste.jpg"/>
          <p:cNvPicPr/>
          <p:nvPr/>
        </p:nvPicPr>
        <p:blipFill>
          <a:blip r:embed="rId3"/>
          <a:stretch/>
        </p:blipFill>
        <p:spPr>
          <a:xfrm>
            <a:off x="7462800" y="135000"/>
            <a:ext cx="1557360" cy="1386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876"/>
              </a:spcBef>
              <a:spcAft>
                <a:spcPts val="374"/>
              </a:spcAft>
              <a:buClr>
                <a:srgbClr val="feb80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7" descr=""/>
          <p:cNvPicPr/>
          <p:nvPr/>
        </p:nvPicPr>
        <p:blipFill>
          <a:blip r:embed="rId1"/>
          <a:stretch/>
        </p:blipFill>
        <p:spPr>
          <a:xfrm>
            <a:off x="79200" y="1932120"/>
            <a:ext cx="5357880" cy="1073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1253160" y="5445000"/>
            <a:ext cx="293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r.sc. Mladen Bošnjakov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kstniOkvir 3" descr=""/>
          <p:cNvPicPr/>
          <p:nvPr/>
        </p:nvPicPr>
        <p:blipFill>
          <a:blip r:embed="rId2"/>
          <a:stretch/>
        </p:blipFill>
        <p:spPr>
          <a:xfrm>
            <a:off x="566640" y="291960"/>
            <a:ext cx="6504120" cy="84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D:\iso9001\iso9001.bmp"/>
          <p:cNvPicPr/>
          <p:nvPr/>
        </p:nvPicPr>
        <p:blipFill>
          <a:blip r:embed="rId3"/>
          <a:stretch/>
        </p:blipFill>
        <p:spPr>
          <a:xfrm>
            <a:off x="7959600" y="5373720"/>
            <a:ext cx="933480" cy="1011240"/>
          </a:xfrm>
          <a:prstGeom prst="rect">
            <a:avLst/>
          </a:prstGeom>
          <a:ln w="0">
            <a:noFill/>
          </a:ln>
        </p:spPr>
      </p:pic>
      <p:sp>
        <p:nvSpPr>
          <p:cNvPr id="99" name="Pravokutnik 6"/>
          <p:cNvSpPr/>
          <p:nvPr/>
        </p:nvSpPr>
        <p:spPr>
          <a:xfrm>
            <a:off x="0" y="3716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eminar za Jedinice za osiguravanje kvalitete na veleučilištima i visokim ško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ravokutnik 7"/>
          <p:cNvSpPr/>
          <p:nvPr/>
        </p:nvSpPr>
        <p:spPr>
          <a:xfrm>
            <a:off x="1709640" y="450864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greb,14. rujna 2010. god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3674-FDD5-490B-97A8-6F4CDDA415B6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TekstniOkvir 5" descr=""/>
          <p:cNvPicPr/>
          <p:nvPr/>
        </p:nvPicPr>
        <p:blipFill>
          <a:blip r:embed="rId1"/>
          <a:stretch/>
        </p:blipFill>
        <p:spPr>
          <a:xfrm>
            <a:off x="1109520" y="-11592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133" name="TekstniOkvir 3"/>
          <p:cNvSpPr/>
          <p:nvPr/>
        </p:nvSpPr>
        <p:spPr>
          <a:xfrm>
            <a:off x="468360" y="2708280"/>
            <a:ext cx="7991280" cy="2533320"/>
          </a:xfrm>
          <a:prstGeom prst="rect">
            <a:avLst/>
          </a:prstGeom>
          <a:gradFill rotWithShape="0">
            <a:gsLst>
              <a:gs pos="0">
                <a:srgbClr val="ffedbe"/>
              </a:gs>
              <a:gs pos="100000">
                <a:srgbClr val="ffd61d"/>
              </a:gs>
            </a:gsLst>
            <a:lin ang="5400000"/>
          </a:gradFill>
          <a:ln w="10080">
            <a:solidFill>
              <a:srgbClr val="feb80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 sada je VUSB proveo dva postupka unutarnje prosudbe susta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listopadu 2009 u okviru  pripreme za postupak certifikacije  sustava prema ISO 9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lipnju/srpnju 2010 godine u okviru projekta NV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rovedbi je IV faza  - praćenje rada sust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D332-39A5-49C7-9B88-702F768D680A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ekstniOkvir 5" descr=""/>
          <p:cNvPicPr/>
          <p:nvPr/>
        </p:nvPicPr>
        <p:blipFill>
          <a:blip r:embed="rId1"/>
          <a:stretch/>
        </p:blipFill>
        <p:spPr>
          <a:xfrm>
            <a:off x="1468440" y="171360"/>
            <a:ext cx="7237440" cy="646200"/>
          </a:xfrm>
          <a:prstGeom prst="rect">
            <a:avLst/>
          </a:prstGeom>
          <a:ln w="0">
            <a:noFill/>
          </a:ln>
        </p:spPr>
      </p:pic>
      <p:sp>
        <p:nvSpPr>
          <p:cNvPr id="136" name="TekstniOkvir 3"/>
          <p:cNvSpPr/>
          <p:nvPr/>
        </p:nvSpPr>
        <p:spPr>
          <a:xfrm>
            <a:off x="250920" y="2637000"/>
            <a:ext cx="8642160" cy="1313640"/>
          </a:xfrm>
          <a:prstGeom prst="rect">
            <a:avLst/>
          </a:prstGeom>
          <a:gradFill rotWithShape="0">
            <a:gsLst>
              <a:gs pos="0">
                <a:srgbClr val="e4f5d0"/>
              </a:gs>
              <a:gs pos="100000">
                <a:srgbClr val="a7e04f"/>
              </a:gs>
            </a:gsLst>
            <a:lin ang="5400000"/>
          </a:gradFill>
          <a:ln w="10080">
            <a:solidFill>
              <a:srgbClr val="84aa33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VUSB nije bio u postupku vanjskog vrednovanja od strane AZ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Postupak vanjskog vrednovanja prema NVAO je u tijeku – izrađen SER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E21D-7BEA-4EEA-B12C-2FC4986F62E7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ekstniOkvir 5" descr=""/>
          <p:cNvPicPr/>
          <p:nvPr/>
        </p:nvPicPr>
        <p:blipFill>
          <a:blip r:embed="rId1"/>
          <a:stretch/>
        </p:blipFill>
        <p:spPr>
          <a:xfrm>
            <a:off x="1468440" y="171360"/>
            <a:ext cx="723744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ravokutnik 5"/>
          <p:cNvSpPr/>
          <p:nvPr/>
        </p:nvSpPr>
        <p:spPr>
          <a:xfrm>
            <a:off x="324000" y="126828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ožujku 2010. je započeo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pilot-projekt procjene i poboljšanja sustava kvalitet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stručnim visokoškolskim ustanovama. Hrvatski partneri u projektu su Vijeće veleučilišta i visokih škola, Visoka škola za primijenjeno računarstvo iz Zagreba, Veleučilište "Marko Marulić" iz Knina 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eleučilište u Slavonskom Brod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Koordinator i stručni inozemni partner ovog projekta je Akreditacijska organizacija Nizozemske i Flandrije – NVAO (eng. The Accreditation Organization of the Netherlands and Flan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rojek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će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traja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odinu dana, a k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oz navedenu suradnju, NVAO će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nije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znanje i iskustvo s hrvatskim partnerima u cilju razvoja i daljnje podrške internim sustavima kvalitete, koj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usklađ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s hrvatskim i europskim standardima. Jačanje sustava kvalitete institucija uključenih u ovaj projekt </a:t>
            </a:r>
            <a:r>
              <a:rPr b="0" lang="vi-VN" sz="1800" spc="-1" strike="noStrike">
                <a:solidFill>
                  <a:srgbClr val="3b16d8"/>
                </a:solidFill>
                <a:latin typeface="Arial"/>
              </a:rPr>
              <a:t>baziran je na formalnim akreditacijskim procedurama koje provodi NVAO, a ujedno je usklađen i sa "Standardima i smjernicama osiguranja kvalitete u području europskog visokog obrazovanja (ESG)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D38-724F-4B45-8DE8-18E0E6B645B2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kstniOkvir 5" descr=""/>
          <p:cNvPicPr/>
          <p:nvPr/>
        </p:nvPicPr>
        <p:blipFill>
          <a:blip r:embed="rId1"/>
          <a:stretch/>
        </p:blipFill>
        <p:spPr>
          <a:xfrm>
            <a:off x="1468440" y="171360"/>
            <a:ext cx="7237440" cy="646200"/>
          </a:xfrm>
          <a:prstGeom prst="rect">
            <a:avLst/>
          </a:prstGeom>
          <a:ln w="0">
            <a:noFill/>
          </a:ln>
        </p:spPr>
      </p:pic>
      <p:sp>
        <p:nvSpPr>
          <p:cNvPr id="142" name="TekstniOkvir 4"/>
          <p:cNvSpPr/>
          <p:nvPr/>
        </p:nvSpPr>
        <p:spPr>
          <a:xfrm>
            <a:off x="32400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USB je izradio Izvješće o samoprocjeni, a slijedeći korak je procjena Veleučilišta od strane NVAO na terenu, a koja će se održati 20. i 21. listopada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kstniOkvir 6"/>
          <p:cNvSpPr/>
          <p:nvPr/>
        </p:nvSpPr>
        <p:spPr>
          <a:xfrm>
            <a:off x="324000" y="2349360"/>
            <a:ext cx="87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lavni zaključci Izvješća o samoprocje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    Definiran je sustav osiguravanja kvalitete i mehanizmi za njegovu proved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efinirane su kompetencije završenih prvostup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ntinuirano se prati i poboljšava kvaliteta (provode se interni auditi i ankete, donose se novi i revidiraju postojeći dokum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efinirani su prioriteti u poboljšanju kvalitete studijskih programa (definiranje jednoznačnih kriterija ocjenjivanja, ishoda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hode učenja definirani na razini studijskog programa, potrebno je jednoznačno definirati za sve kole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ovoljavajuća uključenost dionika u djelovanje sustava osiguravanja kvalit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17b7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e17b7c"/>
                </a:solidFill>
                <a:latin typeface="Arial"/>
              </a:rPr>
              <a:t>Nezadovoljavajuća mobilnost stude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ec3d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ec3d4"/>
                </a:solidFill>
                <a:latin typeface="Arial"/>
              </a:rPr>
              <a:t>Veliki problem VUSB-a su zgrade za nastavu koje VUSB ne posjed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0200" y="3357360"/>
            <a:ext cx="3811680" cy="5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73520" indent="0" algn="ctr">
              <a:spcBef>
                <a:spcPts val="1576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zervirano mjesto broja slajda 4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232-D454-493C-8F09-EF23C1BC51F8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kstniOkvir 5" descr=""/>
          <p:cNvPicPr/>
          <p:nvPr/>
        </p:nvPicPr>
        <p:blipFill>
          <a:blip r:embed="rId1"/>
          <a:stretch/>
        </p:blipFill>
        <p:spPr>
          <a:xfrm>
            <a:off x="1517760" y="212760"/>
            <a:ext cx="5651280" cy="652320"/>
          </a:xfrm>
          <a:prstGeom prst="rect">
            <a:avLst/>
          </a:prstGeom>
          <a:ln w="0">
            <a:noFill/>
          </a:ln>
        </p:spPr>
      </p:pic>
      <p:sp>
        <p:nvSpPr>
          <p:cNvPr id="102" name="Rezervirano mjesto datuma 65"/>
          <p:cNvSpPr/>
          <p:nvPr/>
        </p:nvSpPr>
        <p:spPr>
          <a:xfrm>
            <a:off x="8391600" y="0"/>
            <a:ext cx="75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9A0F-A4A3-4337-AB17-CB237BE79BA0}" type="datetime10">
              <a:rPr b="1" lang="hr-HR" sz="1400" spc="-1" strike="noStrike">
                <a:solidFill>
                  <a:srgbClr val="ffffff"/>
                </a:solidFill>
                <a:latin typeface="Arial"/>
              </a:rPr>
              <a:t>06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niOkvir 4"/>
          <p:cNvSpPr/>
          <p:nvPr/>
        </p:nvSpPr>
        <p:spPr>
          <a:xfrm>
            <a:off x="395280" y="134136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eučilište u Slav. Brodu osnovano je 2006. g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eučilište se sastoji od tri odj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Društvenog odjela: Studij Menadžm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ljoprivrednog odjela: Studij Bilinogoj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Tehnički odjel: Studij proizvodnog strojar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akademskoj godini 2009/2010 na Veleučilištu studira 940 studen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oj nastavnog osoblja: 18 (nastavnici i suradni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oj administrativnog osoblja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4ECC-2FE5-4537-8760-0A8D70117376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kstniOkvir 5" descr=""/>
          <p:cNvPicPr/>
          <p:nvPr/>
        </p:nvPicPr>
        <p:blipFill>
          <a:blip r:embed="rId1"/>
          <a:stretch/>
        </p:blipFill>
        <p:spPr>
          <a:xfrm>
            <a:off x="1517760" y="212760"/>
            <a:ext cx="5651280" cy="65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539640" y="1112760"/>
            <a:ext cx="8463240" cy="5602320"/>
          </a:xfrm>
          <a:prstGeom prst="rect">
            <a:avLst/>
          </a:prstGeom>
          <a:ln w="0">
            <a:noFill/>
          </a:ln>
        </p:spPr>
      </p:pic>
      <p:sp>
        <p:nvSpPr>
          <p:cNvPr id="107" name="Prostoručno 8"/>
          <p:cNvSpPr/>
          <p:nvPr/>
        </p:nvSpPr>
        <p:spPr>
          <a:xfrm>
            <a:off x="5421240" y="2349360"/>
            <a:ext cx="2103480" cy="122400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035628" h="1705549">
                <a:moveTo>
                  <a:pt x="1872343" y="1349829"/>
                </a:moveTo>
                <a:cubicBezTo>
                  <a:pt x="1884705" y="1331286"/>
                  <a:pt x="1913268" y="1287132"/>
                  <a:pt x="1926771" y="1273629"/>
                </a:cubicBezTo>
                <a:cubicBezTo>
                  <a:pt x="1939600" y="1260800"/>
                  <a:pt x="1955800" y="1251858"/>
                  <a:pt x="1970314" y="1240972"/>
                </a:cubicBezTo>
                <a:cubicBezTo>
                  <a:pt x="1979693" y="1194076"/>
                  <a:pt x="1985119" y="1169990"/>
                  <a:pt x="1992085" y="1121229"/>
                </a:cubicBezTo>
                <a:cubicBezTo>
                  <a:pt x="2007470" y="1013529"/>
                  <a:pt x="1992513" y="1065516"/>
                  <a:pt x="2013857" y="1001486"/>
                </a:cubicBezTo>
                <a:cubicBezTo>
                  <a:pt x="2017486" y="965200"/>
                  <a:pt x="2020220" y="928814"/>
                  <a:pt x="2024743" y="892629"/>
                </a:cubicBezTo>
                <a:cubicBezTo>
                  <a:pt x="2027481" y="870728"/>
                  <a:pt x="2035628" y="849387"/>
                  <a:pt x="2035628" y="827315"/>
                </a:cubicBezTo>
                <a:cubicBezTo>
                  <a:pt x="2035628" y="780004"/>
                  <a:pt x="2030611" y="732746"/>
                  <a:pt x="2024743" y="685800"/>
                </a:cubicBezTo>
                <a:cubicBezTo>
                  <a:pt x="2023320" y="674414"/>
                  <a:pt x="2017009" y="664176"/>
                  <a:pt x="2013857" y="653143"/>
                </a:cubicBezTo>
                <a:cubicBezTo>
                  <a:pt x="2009747" y="638758"/>
                  <a:pt x="2009662" y="622982"/>
                  <a:pt x="2002971" y="609600"/>
                </a:cubicBezTo>
                <a:cubicBezTo>
                  <a:pt x="1994857" y="593373"/>
                  <a:pt x="1980859" y="580821"/>
                  <a:pt x="1970314" y="566057"/>
                </a:cubicBezTo>
                <a:cubicBezTo>
                  <a:pt x="1962710" y="555411"/>
                  <a:pt x="1955034" y="544759"/>
                  <a:pt x="1948543" y="533400"/>
                </a:cubicBezTo>
                <a:cubicBezTo>
                  <a:pt x="1919344" y="482301"/>
                  <a:pt x="1935740" y="493144"/>
                  <a:pt x="1894114" y="446315"/>
                </a:cubicBezTo>
                <a:cubicBezTo>
                  <a:pt x="1877068" y="427138"/>
                  <a:pt x="1853917" y="413235"/>
                  <a:pt x="1839685" y="391886"/>
                </a:cubicBezTo>
                <a:cubicBezTo>
                  <a:pt x="1832428" y="381000"/>
                  <a:pt x="1826529" y="369075"/>
                  <a:pt x="1817914" y="359229"/>
                </a:cubicBezTo>
                <a:cubicBezTo>
                  <a:pt x="1801018" y="339919"/>
                  <a:pt x="1781628" y="322943"/>
                  <a:pt x="1763485" y="304800"/>
                </a:cubicBezTo>
                <a:cubicBezTo>
                  <a:pt x="1752599" y="293914"/>
                  <a:pt x="1740065" y="284459"/>
                  <a:pt x="1730828" y="272143"/>
                </a:cubicBezTo>
                <a:cubicBezTo>
                  <a:pt x="1673763" y="196056"/>
                  <a:pt x="1725207" y="254584"/>
                  <a:pt x="1665514" y="206829"/>
                </a:cubicBezTo>
                <a:cubicBezTo>
                  <a:pt x="1657500" y="200418"/>
                  <a:pt x="1652544" y="190337"/>
                  <a:pt x="1643743" y="185057"/>
                </a:cubicBezTo>
                <a:cubicBezTo>
                  <a:pt x="1633903" y="179153"/>
                  <a:pt x="1621971" y="177800"/>
                  <a:pt x="1611085" y="174172"/>
                </a:cubicBezTo>
                <a:cubicBezTo>
                  <a:pt x="1554535" y="117620"/>
                  <a:pt x="1636327" y="197362"/>
                  <a:pt x="1545771" y="119743"/>
                </a:cubicBezTo>
                <a:cubicBezTo>
                  <a:pt x="1512065" y="90852"/>
                  <a:pt x="1518953" y="84563"/>
                  <a:pt x="1480457" y="65315"/>
                </a:cubicBezTo>
                <a:cubicBezTo>
                  <a:pt x="1462979" y="56576"/>
                  <a:pt x="1444324" y="50404"/>
                  <a:pt x="1426028" y="43543"/>
                </a:cubicBezTo>
                <a:cubicBezTo>
                  <a:pt x="1406937" y="36384"/>
                  <a:pt x="1368310" y="24412"/>
                  <a:pt x="1349828" y="21772"/>
                </a:cubicBezTo>
                <a:cubicBezTo>
                  <a:pt x="1313728" y="16615"/>
                  <a:pt x="1277188" y="15147"/>
                  <a:pt x="1240971" y="10886"/>
                </a:cubicBezTo>
                <a:cubicBezTo>
                  <a:pt x="1215489" y="7888"/>
                  <a:pt x="1190171" y="3629"/>
                  <a:pt x="1164771" y="0"/>
                </a:cubicBezTo>
                <a:lnTo>
                  <a:pt x="718457" y="10886"/>
                </a:lnTo>
                <a:cubicBezTo>
                  <a:pt x="634962" y="13495"/>
                  <a:pt x="551071" y="12197"/>
                  <a:pt x="468085" y="21772"/>
                </a:cubicBezTo>
                <a:cubicBezTo>
                  <a:pt x="452560" y="23563"/>
                  <a:pt x="424540" y="54431"/>
                  <a:pt x="413657" y="65315"/>
                </a:cubicBezTo>
                <a:cubicBezTo>
                  <a:pt x="410028" y="76201"/>
                  <a:pt x="409939" y="89012"/>
                  <a:pt x="402771" y="97972"/>
                </a:cubicBezTo>
                <a:cubicBezTo>
                  <a:pt x="394598" y="108188"/>
                  <a:pt x="380330" y="111570"/>
                  <a:pt x="370114" y="119743"/>
                </a:cubicBezTo>
                <a:cubicBezTo>
                  <a:pt x="362100" y="126154"/>
                  <a:pt x="356554" y="135357"/>
                  <a:pt x="348343" y="141515"/>
                </a:cubicBezTo>
                <a:cubicBezTo>
                  <a:pt x="327410" y="157215"/>
                  <a:pt x="283028" y="185057"/>
                  <a:pt x="283028" y="185057"/>
                </a:cubicBezTo>
                <a:cubicBezTo>
                  <a:pt x="275771" y="195943"/>
                  <a:pt x="270508" y="208464"/>
                  <a:pt x="261257" y="217715"/>
                </a:cubicBezTo>
                <a:cubicBezTo>
                  <a:pt x="245871" y="233101"/>
                  <a:pt x="202132" y="252720"/>
                  <a:pt x="185057" y="261257"/>
                </a:cubicBezTo>
                <a:cubicBezTo>
                  <a:pt x="177800" y="272143"/>
                  <a:pt x="169136" y="282213"/>
                  <a:pt x="163285" y="293915"/>
                </a:cubicBezTo>
                <a:cubicBezTo>
                  <a:pt x="158154" y="304178"/>
                  <a:pt x="160514" y="318458"/>
                  <a:pt x="152400" y="326572"/>
                </a:cubicBezTo>
                <a:cubicBezTo>
                  <a:pt x="140925" y="338047"/>
                  <a:pt x="123371" y="341086"/>
                  <a:pt x="108857" y="348343"/>
                </a:cubicBezTo>
                <a:cubicBezTo>
                  <a:pt x="53689" y="403511"/>
                  <a:pt x="118596" y="332113"/>
                  <a:pt x="76200" y="402772"/>
                </a:cubicBezTo>
                <a:cubicBezTo>
                  <a:pt x="70920" y="411573"/>
                  <a:pt x="61685" y="417286"/>
                  <a:pt x="54428" y="424543"/>
                </a:cubicBezTo>
                <a:cubicBezTo>
                  <a:pt x="19394" y="529650"/>
                  <a:pt x="75570" y="366247"/>
                  <a:pt x="21771" y="500743"/>
                </a:cubicBezTo>
                <a:cubicBezTo>
                  <a:pt x="13248" y="522051"/>
                  <a:pt x="0" y="566057"/>
                  <a:pt x="0" y="566057"/>
                </a:cubicBezTo>
                <a:cubicBezTo>
                  <a:pt x="3628" y="740229"/>
                  <a:pt x="4059" y="914496"/>
                  <a:pt x="10885" y="1088572"/>
                </a:cubicBezTo>
                <a:cubicBezTo>
                  <a:pt x="11335" y="1100038"/>
                  <a:pt x="18988" y="1110097"/>
                  <a:pt x="21771" y="1121229"/>
                </a:cubicBezTo>
                <a:cubicBezTo>
                  <a:pt x="26259" y="1139179"/>
                  <a:pt x="28170" y="1157707"/>
                  <a:pt x="32657" y="1175657"/>
                </a:cubicBezTo>
                <a:cubicBezTo>
                  <a:pt x="35440" y="1186789"/>
                  <a:pt x="40391" y="1197282"/>
                  <a:pt x="43543" y="1208315"/>
                </a:cubicBezTo>
                <a:cubicBezTo>
                  <a:pt x="47653" y="1222700"/>
                  <a:pt x="50318" y="1237472"/>
                  <a:pt x="54428" y="1251857"/>
                </a:cubicBezTo>
                <a:cubicBezTo>
                  <a:pt x="57580" y="1262890"/>
                  <a:pt x="62162" y="1273482"/>
                  <a:pt x="65314" y="1284515"/>
                </a:cubicBezTo>
                <a:cubicBezTo>
                  <a:pt x="69424" y="1298900"/>
                  <a:pt x="70307" y="1314306"/>
                  <a:pt x="76200" y="1328057"/>
                </a:cubicBezTo>
                <a:cubicBezTo>
                  <a:pt x="86501" y="1352092"/>
                  <a:pt x="102183" y="1364927"/>
                  <a:pt x="119743" y="1382486"/>
                </a:cubicBezTo>
                <a:cubicBezTo>
                  <a:pt x="127000" y="1404257"/>
                  <a:pt x="129707" y="1428121"/>
                  <a:pt x="141514" y="1447800"/>
                </a:cubicBezTo>
                <a:cubicBezTo>
                  <a:pt x="160590" y="1479594"/>
                  <a:pt x="174994" y="1505558"/>
                  <a:pt x="195943" y="1534886"/>
                </a:cubicBezTo>
                <a:cubicBezTo>
                  <a:pt x="206488" y="1549649"/>
                  <a:pt x="216547" y="1564869"/>
                  <a:pt x="228600" y="1578429"/>
                </a:cubicBezTo>
                <a:cubicBezTo>
                  <a:pt x="245646" y="1597606"/>
                  <a:pt x="262502" y="1617462"/>
                  <a:pt x="283028" y="1632857"/>
                </a:cubicBezTo>
                <a:cubicBezTo>
                  <a:pt x="292208" y="1639742"/>
                  <a:pt x="305422" y="1638611"/>
                  <a:pt x="315685" y="1643743"/>
                </a:cubicBezTo>
                <a:cubicBezTo>
                  <a:pt x="327387" y="1649594"/>
                  <a:pt x="336093" y="1660921"/>
                  <a:pt x="348343" y="1665515"/>
                </a:cubicBezTo>
                <a:cubicBezTo>
                  <a:pt x="365667" y="1672011"/>
                  <a:pt x="384521" y="1673358"/>
                  <a:pt x="402771" y="1676400"/>
                </a:cubicBezTo>
                <a:cubicBezTo>
                  <a:pt x="482236" y="1689644"/>
                  <a:pt x="510294" y="1690134"/>
                  <a:pt x="598714" y="1698172"/>
                </a:cubicBezTo>
                <a:cubicBezTo>
                  <a:pt x="685133" y="1696444"/>
                  <a:pt x="1051500" y="1705549"/>
                  <a:pt x="1240971" y="1676400"/>
                </a:cubicBezTo>
                <a:cubicBezTo>
                  <a:pt x="1255758" y="1674125"/>
                  <a:pt x="1269885" y="1668650"/>
                  <a:pt x="1284514" y="1665515"/>
                </a:cubicBezTo>
                <a:cubicBezTo>
                  <a:pt x="1320697" y="1657762"/>
                  <a:pt x="1358266" y="1655445"/>
                  <a:pt x="1393371" y="1643743"/>
                </a:cubicBezTo>
                <a:cubicBezTo>
                  <a:pt x="1426028" y="1632857"/>
                  <a:pt x="1457388" y="1616745"/>
                  <a:pt x="1491343" y="1611086"/>
                </a:cubicBezTo>
                <a:cubicBezTo>
                  <a:pt x="1520445" y="1606235"/>
                  <a:pt x="1580667" y="1596919"/>
                  <a:pt x="1611085" y="1589315"/>
                </a:cubicBezTo>
                <a:cubicBezTo>
                  <a:pt x="1622217" y="1586532"/>
                  <a:pt x="1632710" y="1581581"/>
                  <a:pt x="1643743" y="1578429"/>
                </a:cubicBezTo>
                <a:cubicBezTo>
                  <a:pt x="1658128" y="1574319"/>
                  <a:pt x="1673092" y="1572274"/>
                  <a:pt x="1687285" y="1567543"/>
                </a:cubicBezTo>
                <a:cubicBezTo>
                  <a:pt x="1705823" y="1561364"/>
                  <a:pt x="1723038" y="1551519"/>
                  <a:pt x="1741714" y="1545772"/>
                </a:cubicBezTo>
                <a:cubicBezTo>
                  <a:pt x="1770313" y="1536972"/>
                  <a:pt x="1799771" y="1531257"/>
                  <a:pt x="1828800" y="1524000"/>
                </a:cubicBezTo>
                <a:cubicBezTo>
                  <a:pt x="1843314" y="1520371"/>
                  <a:pt x="1858150" y="1517846"/>
                  <a:pt x="1872343" y="1513115"/>
                </a:cubicBezTo>
                <a:lnTo>
                  <a:pt x="1905000" y="1502229"/>
                </a:lnTo>
                <a:cubicBezTo>
                  <a:pt x="1912257" y="1491343"/>
                  <a:pt x="1915677" y="1476506"/>
                  <a:pt x="1926771" y="1469572"/>
                </a:cubicBezTo>
                <a:cubicBezTo>
                  <a:pt x="1946232" y="1457409"/>
                  <a:pt x="1975858" y="1464027"/>
                  <a:pt x="1992085" y="1447800"/>
                </a:cubicBezTo>
                <a:cubicBezTo>
                  <a:pt x="2005168" y="1434717"/>
                  <a:pt x="1998483" y="1411322"/>
                  <a:pt x="2002971" y="1393372"/>
                </a:cubicBezTo>
                <a:cubicBezTo>
                  <a:pt x="2005754" y="1382240"/>
                  <a:pt x="2010705" y="1371748"/>
                  <a:pt x="2013857" y="1360715"/>
                </a:cubicBezTo>
                <a:cubicBezTo>
                  <a:pt x="2017967" y="1346330"/>
                  <a:pt x="2021114" y="1331686"/>
                  <a:pt x="2024743" y="1317172"/>
                </a:cubicBezTo>
                <a:cubicBezTo>
                  <a:pt x="2021114" y="1211943"/>
                  <a:pt x="2020425" y="1106572"/>
                  <a:pt x="2013857" y="1001486"/>
                </a:cubicBezTo>
                <a:cubicBezTo>
                  <a:pt x="2013141" y="990034"/>
                  <a:pt x="2002971" y="980304"/>
                  <a:pt x="2002971" y="968829"/>
                </a:cubicBezTo>
                <a:cubicBezTo>
                  <a:pt x="2002971" y="946757"/>
                  <a:pt x="2011119" y="925416"/>
                  <a:pt x="2013857" y="903515"/>
                </a:cubicBezTo>
                <a:cubicBezTo>
                  <a:pt x="2014757" y="896314"/>
                  <a:pt x="2013857" y="889000"/>
                  <a:pt x="2013857" y="8817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EE7D-ADEC-418A-A71E-344AFFE1A39F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avokutnik 8"/>
          <p:cNvSpPr/>
          <p:nvPr/>
        </p:nvSpPr>
        <p:spPr>
          <a:xfrm>
            <a:off x="395280" y="3284640"/>
            <a:ext cx="835344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stavnik uprave za kvalite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kvaliteti svih procesa koji se odvijaju na Veleučilištu, a u svom radu vo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priznatim načelima osiguranja kvalitete, poput ISO 9001:2008 certifikata kojeg Veleučilište posjedu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dinica za osiguravanje kvalitet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ine o sustavu osiguravanja kvalitete u skladu sa ESG. Jedinicu 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 sedam članova: tri su predstavnika nastavnika zaposlenih na Veleučilištu, jedan je predstavnik stručnih službi, jedan je predstavnik studenata, a preostala dva člana su vanjski suradnici iz područja različitih gospodarskih aktivnosti (Hrvatska gospodarska komora, Hrvatski zavod za zapošljavanj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ekstniOkvir 5" descr=""/>
          <p:cNvPicPr/>
          <p:nvPr/>
        </p:nvPicPr>
        <p:blipFill>
          <a:blip r:embed="rId1"/>
          <a:stretch/>
        </p:blipFill>
        <p:spPr>
          <a:xfrm>
            <a:off x="1468440" y="171360"/>
            <a:ext cx="7237440" cy="646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7"/>
          <p:cNvSpPr/>
          <p:nvPr/>
        </p:nvSpPr>
        <p:spPr>
          <a:xfrm>
            <a:off x="324000" y="1137600"/>
            <a:ext cx="8496000" cy="1923480"/>
          </a:xfrm>
          <a:prstGeom prst="rect">
            <a:avLst/>
          </a:prstGeom>
          <a:gradFill rotWithShape="0">
            <a:gsLst>
              <a:gs pos="0">
                <a:srgbClr val="e4f5d0"/>
              </a:gs>
              <a:gs pos="100000">
                <a:srgbClr val="a7e04f"/>
              </a:gs>
            </a:gsLst>
            <a:lin ang="5400000"/>
          </a:gradFill>
          <a:ln w="10080">
            <a:solidFill>
              <a:srgbClr val="84aa33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trojbene jedinice sustava za osiguranje kvalitete na Veleučilištu je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inica za osiguranje kvalitete  (7 član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stavnik uprave za sustav kvalitete prema ISO 9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trojbene jedinice djeluju usklađeno i dijele odgovornost za osiguranj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aprjeđivanje te upravljanje kvalitet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0EE-9C85-481B-944F-59B2EAA4E64B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ekstniOkvir 5" descr=""/>
          <p:cNvPicPr/>
          <p:nvPr/>
        </p:nvPicPr>
        <p:blipFill>
          <a:blip r:embed="rId1"/>
          <a:stretch/>
        </p:blipFill>
        <p:spPr>
          <a:xfrm>
            <a:off x="1359000" y="171360"/>
            <a:ext cx="7443720" cy="646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163584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o temeljni dokumenti koji uređuju područje kvalitete na VUSB, usvojeni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avilnik o ustroju i djelovanju sustava osiguravanja kvalitet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svibanj, 2010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avilnik pobliže uređuje ustroj, djelovanje i predmet vrjednovanja unutar sustava za osiguranje kval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iručnik osiguranja kvalitete za ISO 900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rujan, 2009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definira politiku kvalitete, odgovornosti i postupke za provedbu bitnih proc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5896-72F2-4E7F-94CD-78DF9C2F5812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niOkvir 4"/>
          <p:cNvSpPr/>
          <p:nvPr/>
        </p:nvSpPr>
        <p:spPr>
          <a:xfrm>
            <a:off x="395280" y="27766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ovedba aktiv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vijanje pokazatelja kvalit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udjelovanje studenata u praćenju kvalitete provedbe stud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traživanje prohodnosti kroz studij i ishoda studir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laniranje i praćenje napredovanja u zvanje  i usavršavanja nastavnog osob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savršavanje administrativnoga i tehničkog osob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aprjeđivanje nastavnog procesa prema ishodima studi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efiniranje općih i posebnih kompetencija prvostup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kstniOkvir 5" descr=""/>
          <p:cNvPicPr/>
          <p:nvPr/>
        </p:nvPicPr>
        <p:blipFill>
          <a:blip r:embed="rId1"/>
          <a:stretch/>
        </p:blipFill>
        <p:spPr>
          <a:xfrm>
            <a:off x="963720" y="-66600"/>
            <a:ext cx="8186760" cy="920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395280" y="12304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Izrada strateških dokumenata i nadle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Definiranje misije i viz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donošenje strategije i politike kvalitete Veleučiliš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Definiranje nadležnosti te kontinuirana izobrazba i osposobljavanje kadr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547560" y="525096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Izvještavanje o stanju i razvoju S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izrada izvještaja o samoanal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objavljivanje dokumenata na web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EE76-5371-49DE-8FD7-F632D7637C10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ekstniOkvir 5" descr=""/>
          <p:cNvPicPr/>
          <p:nvPr/>
        </p:nvPicPr>
        <p:blipFill>
          <a:blip r:embed="rId1"/>
          <a:stretch/>
        </p:blipFill>
        <p:spPr>
          <a:xfrm>
            <a:off x="1468440" y="171360"/>
            <a:ext cx="7237440" cy="646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395280" y="191232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sposobljavanje nadležnih osoba za ustroj i djelovanje SOK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sustvovanje Seminar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stanci jedinice za osiguravanje kvalit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moedukacija nadležnih : Internet i 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vije osoba osposobljena za internog audi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dna osoba u postupku osposobljavanja za vanjskog audi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dostatak osoba !!!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5CE3-B978-400A-AC1A-DCF760515547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kstniOkvir 5" descr=""/>
          <p:cNvPicPr/>
          <p:nvPr/>
        </p:nvPicPr>
        <p:blipFill>
          <a:blip r:embed="rId1"/>
          <a:stretch/>
        </p:blipFill>
        <p:spPr>
          <a:xfrm>
            <a:off x="1359000" y="171360"/>
            <a:ext cx="7443720" cy="646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539640" y="1422000"/>
            <a:ext cx="8064720" cy="1496160"/>
          </a:xfrm>
          <a:prstGeom prst="rect">
            <a:avLst/>
          </a:prstGeom>
          <a:gradFill rotWithShape="0">
            <a:gsLst>
              <a:gs pos="0">
                <a:srgbClr val="ffedbe"/>
              </a:gs>
              <a:gs pos="100000">
                <a:srgbClr val="ffd61d"/>
              </a:gs>
            </a:gsLst>
            <a:lin ang="5400000"/>
          </a:gradFill>
          <a:ln w="10080">
            <a:solidFill>
              <a:srgbClr val="feb80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kumenti koji se odnose na sustav osiguravanja kvalitete prema ISO 9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osiguranja kvalitete za ISO 9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tupci osiguranja kval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3357720"/>
          <a:ext cx="6767640" cy="3071520"/>
        </p:xfrm>
        <a:graphic>
          <a:graphicData uri="http://schemas.openxmlformats.org/drawingml/2006/table">
            <a:tbl>
              <a:tblPr/>
              <a:tblGrid>
                <a:gridCol w="625320"/>
                <a:gridCol w="1409760"/>
                <a:gridCol w="4732560"/>
              </a:tblGrid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znaka dokum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postup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rada i izdavanje postupaka i radnih uputa sustava kvalit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 dokumentima i zapis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is studen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ođenje nast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aganje isp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b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izobrazbe i usavrša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i audit  kvalit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 nesukladnim proizvod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ravne i preventivne 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zervirano mjesto broja slajda 1"/>
          <p:cNvSpPr/>
          <p:nvPr/>
        </p:nvSpPr>
        <p:spPr>
          <a:xfrm>
            <a:off x="8537400" y="661176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C98C-056C-484D-BDD4-3C9EC72C71E3}" type="slidenum">
              <a:rPr b="1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ekstniOkvir 5" descr=""/>
          <p:cNvPicPr/>
          <p:nvPr/>
        </p:nvPicPr>
        <p:blipFill>
          <a:blip r:embed="rId1"/>
          <a:stretch/>
        </p:blipFill>
        <p:spPr>
          <a:xfrm>
            <a:off x="1359000" y="171360"/>
            <a:ext cx="7443720" cy="646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684360" y="11257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blica procesa i interakcija proc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136000" cy="4883040"/>
        </p:xfrm>
        <a:graphic>
          <a:graphicData uri="http://schemas.openxmlformats.org/drawingml/2006/table">
            <a:tbl>
              <a:tblPr/>
              <a:tblGrid>
                <a:gridCol w="792360"/>
                <a:gridCol w="2127240"/>
                <a:gridCol w="2336760"/>
                <a:gridCol w="1284120"/>
                <a:gridCol w="1595520"/>
              </a:tblGrid>
              <a:tr h="549360"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zn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proc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govor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akcije 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im proces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evantna proced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5720">
                <a:tc gridSpan="5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avni proc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i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vjerenstvo za razredbeni postup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ka služ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čel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avač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ordinatori programa  cjeloživotog obrazo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p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avač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vršni 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vjerenstvo za izradu završnog 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ka služ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ilnik o izradi završnog 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b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jnica Veleučiliš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5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ćni proc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dzor S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terni audit, popravne radnje, nesukladnos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 2 , 3 , 4, 5, 6,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K 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bori profes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čel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 3,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k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 2 , 3 , 4, 5, 6,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dovoljs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isn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jnica Veleučilš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 2, 3,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42:33Z</dcterms:created>
  <dc:creator>Mladen Bošnjaković</dc:creator>
  <dc:description/>
  <dc:language>en-US</dc:language>
  <cp:lastModifiedBy>Antun Stoić</cp:lastModifiedBy>
  <dcterms:modified xsi:type="dcterms:W3CDTF">2010-09-14T05:15:11Z</dcterms:modified>
  <cp:revision>931</cp:revision>
  <dc:subject/>
  <dc:title>Kondenzacijski kotao</dc:title>
</cp:coreProperties>
</file>