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848-7E7E-4BE6-828C-D425D8CC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BBC-C12B-42E5-8F4A-C01D48E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F17-E5FF-4EB1-A4A5-3866DE40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9FB-3802-48A5-9BFC-486935A7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F9C-B69E-4DAF-BA1C-82C6B241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CD7-F6A0-4E6B-9612-85CA9AF9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E7D-8AB2-45FC-92CD-6BF5E553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BCF-30A0-4040-8BCB-C590532A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ED6-49B3-4F2D-B589-5FB9E3B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106-35B9-4A44-8993-5604556B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DD9-EFAC-465A-B600-8EB2E04E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A3B-7645-4077-9CFC-AA859BC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F8E2-B249-498B-A5EA-A902703038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SUSTAV KVALITETE STUDIJA POLITEHNIKE (SKS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D:\My Documents 20-02-2008\PROJEKTI ZA POLITEHNIKU\Logo\Logo Poli 02.jpg"/>
          <p:cNvPicPr/>
          <p:nvPr/>
        </p:nvPicPr>
        <p:blipFill>
          <a:blip r:embed="rId1"/>
          <a:stretch/>
        </p:blipFill>
        <p:spPr>
          <a:xfrm>
            <a:off x="2556000" y="2060640"/>
            <a:ext cx="3846240" cy="2808360"/>
          </a:xfrm>
          <a:prstGeom prst="rect">
            <a:avLst/>
          </a:prstGeom>
          <a:ln w="0">
            <a:noFill/>
          </a:ln>
        </p:spPr>
      </p:pic>
      <p:sp>
        <p:nvSpPr>
          <p:cNvPr id="43" name="TekstniOkvir 4"/>
          <p:cNvSpPr/>
          <p:nvPr/>
        </p:nvSpPr>
        <p:spPr>
          <a:xfrm>
            <a:off x="0" y="6165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greb, 14. rujna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544320"/>
            <a:ext cx="8569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STAV KVALITETE STUDIJA POLITEHNIKE (SK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MELJNE POSTAV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IZIJA, MISIJA, STRATEŠKI CIL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STAV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CIL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TRU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FUNKCIONIRANJE (PROCES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PRAVLJ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MPATIBILNOST SA ISO I EU - STANDARD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My Documents 20-02-2008\PROJEKTI ZA POLITEHNIKU\Logo\Logo web.jpg"/>
          <p:cNvPicPr/>
          <p:nvPr/>
        </p:nvPicPr>
        <p:blipFill>
          <a:blip r:embed="rId1"/>
          <a:stretch/>
        </p:blipFill>
        <p:spPr>
          <a:xfrm>
            <a:off x="0" y="0"/>
            <a:ext cx="26146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JEŠTINE PRIMJENE ZN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UDIJSKI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LAZNE KOMPETENCI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STRUMENTALNE KOMPET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TERPERSONALNE KOMPET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USTAVNE KOMPET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KOMPATIBILNOST SA ZAHTJEVIMA GOSPODARST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STAV KVALITETE STUDIJA POLITEHNIKE (SK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My Documents 20-02-2008\PROJEKTI ZA POLITEHNIKU\Logo\Logo web.jpg"/>
          <p:cNvPicPr/>
          <p:nvPr/>
        </p:nvPicPr>
        <p:blipFill>
          <a:blip r:embed="rId1"/>
          <a:stretch/>
        </p:blipFill>
        <p:spPr>
          <a:xfrm>
            <a:off x="0" y="0"/>
            <a:ext cx="26146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ESNICI U PROCESNOM MODELU SK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619280" y="673200"/>
            <a:ext cx="6039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TEMELJNI PROCES SUSTAVA KVALITETE STUDIRANJA POLITEHN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"/>
          <p:cNvGraphicFramePr/>
          <p:nvPr/>
        </p:nvGraphicFramePr>
        <p:xfrm>
          <a:off x="826920" y="808200"/>
          <a:ext cx="7446960" cy="59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08200"/>
                    <a:ext cx="7446960" cy="59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FILOZOFIJA </a:t>
            </a: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KAIZEN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 “KAI”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= DOBRO, </a:t>
            </a: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“ZEN”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= BOL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NIKAD NIJE TAKO DOBRO DA NE BI MOGLO BITI BOLJ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PTIMIZACIJA PROCESA – eliminiranje gubitaka, vremenski usklađeno, ekonomični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NTINUIRANE (UNUTARNJE) PROSUDBE PUTEM CERTIFICIRANIH PROSUDITEL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VEĆENOST OSTVARIVANJU VIZIJE, MISIJE I CILJE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STAV KVALITETE STUDIJA POLITEHNIKE (SK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My Documents 20-02-2008\PROJEKTI ZA POLITEHNIKU\Logo\Logo web.jpg"/>
          <p:cNvPicPr/>
          <p:nvPr/>
        </p:nvPicPr>
        <p:blipFill>
          <a:blip r:embed="rId1"/>
          <a:stretch/>
        </p:blipFill>
        <p:spPr>
          <a:xfrm>
            <a:off x="0" y="0"/>
            <a:ext cx="26146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ilj Politehnike je formiranje“polivalentnog stručnjaka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nkurentnost na tržištu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emingov krug (PD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STAV KVALITETE STUDIJA POLITEHNIKE (SK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My Documents 20-02-2008\PROJEKTI ZA POLITEHNIKU\Logo\Logo web.jpg"/>
          <p:cNvPicPr/>
          <p:nvPr/>
        </p:nvPicPr>
        <p:blipFill>
          <a:blip r:embed="rId1"/>
          <a:stretch/>
        </p:blipFill>
        <p:spPr>
          <a:xfrm>
            <a:off x="0" y="0"/>
            <a:ext cx="2614680" cy="684360"/>
          </a:xfrm>
          <a:prstGeom prst="rect">
            <a:avLst/>
          </a:prstGeom>
          <a:ln w="0">
            <a:noFill/>
          </a:ln>
        </p:spPr>
      </p:pic>
      <p:sp>
        <p:nvSpPr>
          <p:cNvPr id="62" name="Naslov 1"/>
          <p:cNvSpPr/>
          <p:nvPr/>
        </p:nvSpPr>
        <p:spPr>
          <a:xfrm>
            <a:off x="250920" y="184464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HVALA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Naslov 1"/>
          <p:cNvSpPr/>
          <p:nvPr/>
        </p:nvSpPr>
        <p:spPr>
          <a:xfrm>
            <a:off x="457200" y="27468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SUSTAV KVALITETE STUDIJA POLITEHNIKE (SKS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:\My Documents 20-02-2008\PROJEKTI ZA POLITEHNIKU\Logo\Logo Poli 02.jpg"/>
          <p:cNvPicPr/>
          <p:nvPr/>
        </p:nvPicPr>
        <p:blipFill>
          <a:blip r:embed="rId1"/>
          <a:stretch/>
        </p:blipFill>
        <p:spPr>
          <a:xfrm>
            <a:off x="2556000" y="2060640"/>
            <a:ext cx="3846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7:27:35Z</dcterms:created>
  <dc:creator>Korisnik</dc:creator>
  <dc:description/>
  <dc:language>en-US</dc:language>
  <cp:lastModifiedBy>Korisnik</cp:lastModifiedBy>
  <dcterms:modified xsi:type="dcterms:W3CDTF">2010-09-10T13:14:55Z</dcterms:modified>
  <cp:revision>25</cp:revision>
  <dc:subject/>
  <dc:title>Slajd 1</dc:title>
</cp:coreProperties>
</file>