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19E3-C652-4622-8868-5A44D2F6B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EF75-F928-4F21-AACD-E9A503665F68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7C7-35EE-4234-976E-B3669C17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DC8-23EA-49FE-B24D-B0E0B369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B3F-1063-4647-B843-2A0A8154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8C6-A9DF-4393-8FD7-EC421274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68D4-75C9-4C45-8EBA-2A1D7D44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8794-B3AC-41E7-B7DE-88FBF8E1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DAE6-1299-4E45-8444-1030EA3E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1AA5-8E2A-45E8-883C-15DD8DD7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C53C-20BF-41BC-877A-520A20F1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0E22-483C-465C-AD06-15E338AE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12D1-0A77-4D63-9A21-DF04F155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FC2-89CC-4CDF-BD44-15CD4FAC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4BF0-1A55-41DB-896E-F0F0AFD3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8AB9-5DFF-4105-ACD1-F2B649AE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755A-58E5-4E96-83D8-8F1530DB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6D81-AECC-4462-A35C-E9E8A6D5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2431-6856-4FD6-BC4E-25833535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3D4-2A09-45B2-828E-32486354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BE0-E63E-4665-B965-B7BA5566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C75-EF78-4733-A0B5-1165F2FD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117-A104-4CF3-8449-A25E9E54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B15-ABC5-498F-92E7-CDD2C251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998-8BCA-4BC1-92B4-5FFF1B7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858-505A-4D38-87AE-A0AA8386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9CCB-492D-4D32-B406-D6942CFF4648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8EE5-86CE-4A44-9B1B-A9906BD1D4AF}" type="slidenum">
              <a:rPr b="0" lang="hr-H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eminar: Učinkovitost unutarnjeg sustava osiguranja kvalit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agreb, 14.rujan 20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banner1.jpg"/>
          <p:cNvPicPr/>
          <p:nvPr/>
        </p:nvPicPr>
        <p:blipFill>
          <a:blip r:embed="rId1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Veleučilište</a:t>
            </a:r>
            <a:r>
              <a:rPr b="0" lang="sr-Latn-C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Velika Go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snovano je 2003. god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vatna visokoobrazovna ustano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(Grad Velika Gorica, Visoka škola za sigurnos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vodi pet stručnih i tri specijalistička stud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veden je sustav osiguranja kvalit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SO 9001: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banner1.jpg"/>
          <p:cNvPicPr/>
          <p:nvPr/>
        </p:nvPicPr>
        <p:blipFill>
          <a:blip r:embed="rId1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strojbena shema Veleučilišta Velika Go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banner1.jpg"/>
          <p:cNvPicPr/>
          <p:nvPr/>
        </p:nvPicPr>
        <p:blipFill>
          <a:blip r:embed="rId1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1643040" y="2071800"/>
            <a:ext cx="711684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atrica</a:t>
            </a:r>
            <a:r>
              <a:rPr b="0" lang="hr-HR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odgovor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dsjek za kvalitetu je visoko pozicioniran u sustavu VVG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dsjek za kvalitetu je u direktnoj nadležnosti dekan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ekan na temelju izvješća odsjeka za kvalitetu provodi korekcije sust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banner1.jpg"/>
          <p:cNvPicPr/>
          <p:nvPr/>
        </p:nvPicPr>
        <p:blipFill>
          <a:blip r:embed="rId1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okumenti sustava kvalit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avilnik o osiguranju kvalit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ručnik sustava kvalit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stupci sustava kvalit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litika kvalit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Godišnji plan interne provj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gram interne provj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ekanska ocjena sustava kvalit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vješće voditelja kvalitete o internoj provje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vješće voditelja provjeritel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banner1.jpg"/>
          <p:cNvPicPr/>
          <p:nvPr/>
        </p:nvPicPr>
        <p:blipFill>
          <a:blip r:embed="rId1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3520" y="190512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pitne liste interne provjere sustava kvalit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vješća voditelja studija o izvedenoj nasta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pisnici sa sjednica Stručnog vijeća VVG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amoanaliza 2009/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vještaj o provedenoj studenskoj anke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avilnik o ustrojstvu VVG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avilnik o studi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trategija VVG-a 2010. do 20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okumenti sustava kvalit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banner1.jpg"/>
          <p:cNvPicPr/>
          <p:nvPr/>
        </p:nvPicPr>
        <p:blipFill>
          <a:blip r:embed="rId1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amoanali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00120" y="1628280"/>
            <a:ext cx="70106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nutarnja prosudba ili samoanaliza izrađena je 2009. god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 svibnju 2009. godine stručno povjerenstvo NVVO za vrednovanje kvalitete i učinkovitosti obavilo je vanjski nadz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obiveno je pismo očekivanja od MZOŠ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otklanjanje nedostataka: donošenja strategije VVG, poboljšanje prostora, pitanje knjižnice, razvoj vlastitog nastavnog osobl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trateški ciljevi Veleučilišta poklapaju se sa pismom očekiv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banner1.jpg"/>
          <p:cNvPicPr/>
          <p:nvPr/>
        </p:nvPicPr>
        <p:blipFill>
          <a:blip r:embed="rId1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trateški ciljevi VVG-a</a:t>
            </a:r>
            <a:br>
              <a:rPr sz="36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ategija VVG  2010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anner1.jpg"/>
          <p:cNvPicPr/>
          <p:nvPr/>
        </p:nvPicPr>
        <p:blipFill>
          <a:blip r:embed="rId1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00120" y="19288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zvoj vlastitog nastavničkog kadr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imjena suvremene nastavne tehnologij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siguranje sustava kvalitete nastavnog proces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Cjeloživotno obrazovanje odraslih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nanstveno-stručna djelatnos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uradnja s gospodarstvom i lokalnom zajednicom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Međunarodna suradnj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drživost Veleučiliš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642680" y="8571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Hvala na pažnj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banner1.jpg"/>
          <p:cNvPicPr/>
          <p:nvPr/>
        </p:nvPicPr>
        <p:blipFill>
          <a:blip r:embed="rId1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8:55:11Z</dcterms:created>
  <dc:creator>X</dc:creator>
  <dc:description/>
  <dc:language>en-US</dc:language>
  <cp:lastModifiedBy>Admin</cp:lastModifiedBy>
  <dcterms:modified xsi:type="dcterms:W3CDTF">2010-09-13T20:26:43Z</dcterms:modified>
  <cp:revision>53</cp:revision>
  <dc:subject/>
  <dc:title>Seminar: Učinkovitost unutarnjeg sustava osiguranja kvalitete</dc:title>
</cp:coreProperties>
</file>