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E83E-B8E3-471E-87C5-41055A6DE7E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54EC-CE75-4BA8-A239-43B4BD781F31}" type="slidenum">
              <a:rPr b="0" lang="hr-HR" sz="1200" spc="-1" strike="noStrike">
                <a:solidFill>
                  <a:srgbClr val="0033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5781-3999-4EBA-B740-F32C8D1CC525}" type="slidenum">
              <a:rPr b="0" lang="hr-HR" sz="1200" spc="-1" strike="noStrike">
                <a:solidFill>
                  <a:srgbClr val="0033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BF21-0DE5-4064-8C67-D2074D8E9255}" type="slidenum">
              <a:rPr b="0" lang="hr-HR" sz="1200" spc="-1" strike="noStrike">
                <a:solidFill>
                  <a:srgbClr val="0033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3B97-CF1F-4ADB-A253-24999FA9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320-A813-4749-8B3F-0BE5F68E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888BC-1FF2-4893-BB9E-082B0219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5C575-0660-4D53-9A2B-28E839FA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714240" y="228600"/>
            <a:ext cx="8048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87E0B-85C6-42A3-8521-6F2201AB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D752C-81AA-4A0D-8D10-36A55447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AF720-990C-4632-85C5-F979ED7E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B4329-A7E8-4DDB-ADDE-447D5F08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4AFF9-1BDA-4CB2-B87F-10CB0B51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74BB0-2346-4893-9147-924CD31D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504E5-A5AF-4E85-A57D-5B4FD8D7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3DA633-F899-4854-8362-2E705BA8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E5B0-29F2-41CB-92DC-0B359AF2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F67F1B-EAC0-4488-9CF0-DBBABF31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CD5442-0895-4A01-80A7-4B24557F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95796B-1DCD-4471-BBAB-64F7BEA9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2FCC56-C6A3-4CA1-AC31-F1F1B50D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714240" y="228600"/>
            <a:ext cx="8048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B3AF19-4B45-41F7-BC1A-B5473CC9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87B0A6-FCDF-4E8C-9487-B0F45E96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343D16-72C0-46B8-83A0-1A038536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575B9E-A794-4F3D-85CD-D4472B38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1E652F-055E-48C2-B36E-6CAE20CA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0557E2-609B-4C79-98E0-10D65766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DC3E-CD6C-4752-BD0D-E32E0C55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D294DA-0ACC-41BD-BA2A-24B3E112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BEF1A-0BFE-4429-87D9-E786063D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875DD-3EC2-4477-9D14-159CD76C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22E08-A347-46DF-A72D-D0B879B6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48588-5835-44E5-A3A5-1BD40CA1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ADCB3-0F5D-4669-94C5-6180EB98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714240" y="228600"/>
            <a:ext cx="8048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C3E34-C0CE-4A2D-BE64-A4494B61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C7111-0556-4EEE-B008-21979112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57CB7-5954-4776-9B73-AD271D59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2BFD5-8048-4B30-A21B-B15859E0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BE8B-1965-40BA-918C-93033345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27550-3DAA-4B8F-80BF-9EABCD34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B0A4E-35ED-4C65-8767-0328B267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89836-F8AC-42D3-87A0-E71D6296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A2621-52C0-4DFB-B7C5-78ED8EA1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E33C1-2CA8-404A-98CB-C3164CF4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78F2E-328D-465A-ACFA-94B2C661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F4653-2BF0-4F10-8914-5ABFB3F5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D93E3-4CD1-462A-B39E-069B9930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714240" y="228600"/>
            <a:ext cx="8048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BE729-A6D9-491E-BA90-90F32137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13C33-A0A3-4D1D-906A-4FB0A997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AD66-C8CF-4A9A-8A09-8DE6748A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C3F95-CAE2-4BC0-B359-5879D0B8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EEB6E-B355-4F4B-B2EE-78BDC894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86F0D-E553-4347-BC56-E04AE8A2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82B5F-0A50-43B6-BA44-B5E698FA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727C7-AF9C-4FF4-A2AE-DCA9F463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792D-41C5-4AED-AD89-F81685D1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58BD-F085-4CED-A27F-90F71EBB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7CDE-D76E-4415-9BBD-95C01E74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14240" y="228600"/>
            <a:ext cx="8048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34E4-631D-4D00-B414-86D01170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D4C1-E996-46F8-B7B4-4F3BC8A0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C5B-6CFC-4616-9F2E-9141F62F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50C9-55BE-4EA5-A4D8-6E06C183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028E-1650-4705-A15D-CEEFD373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130F-D889-4979-B946-17E60F11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FCFF-AC71-4CA0-AD20-BC7A2020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CD14-AA90-4513-A67B-E02CD0F5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9C0C3-3AAE-485C-80D2-B4F007A2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7583A-CD11-423D-9981-C717D500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4BF11-B94D-45EE-A04C-F901EC19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AFD22-FCBC-4796-9115-20CF97C4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BEE71-A805-48D2-A019-E8DE2FC3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627D-FEE1-44D5-B41D-289D291E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14240" y="228600"/>
            <a:ext cx="8048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D7F34-9AFE-4E74-BDF0-90F31D01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2F92D-A1CA-4C78-BDC4-9A3DF5E0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21F3F-BA75-4951-9592-574BB08C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64DCC-5AB2-4DB5-B974-B6838C51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1B9E1-6140-4D70-8208-90B480CC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6F775-8EB9-431D-831E-3E3037A0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93DBC-78DD-4938-A326-DDCD491E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CA3937-78B8-44B0-8A1A-C2904571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B1F02D-6470-4676-8D71-9A5DB238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25CFAA-F82B-4A81-BA71-8073B1CB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F3F0-6B49-4751-BD9C-B798B25D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4E1631-AA32-49F0-9E46-0ECFB4BC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EF97E4-82AA-4CE8-9BDE-DED01A2E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14240" y="228600"/>
            <a:ext cx="8048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315DD8-92E8-43CC-9FA6-95E3C9CE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D9CFC7-75A9-4CA5-BB53-395B9059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A33096-B606-44C4-92F0-93C341B2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EA84EE-1D02-44F7-838A-AA7D1FE0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9A154A-9B35-4551-901B-AC4AAB5C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4B980B-E891-49AC-9395-0911F408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67B3EE-E046-40CA-B95E-F58DF06E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A70A12-22D7-4A66-9A0A-965FA85B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582-0D0F-425D-983D-FF0ABC33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E2257D-33CB-4E8D-B5AC-72427ED9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7C31B-ED15-4A60-8CC7-36732BB2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15E089-D671-4362-99DB-31595906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F00C0D-500E-4EC3-9EEE-935634D0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14240" y="228600"/>
            <a:ext cx="8048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B2974C-EF80-4B31-948A-56B94147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0E31DC-5A8F-4F6F-965E-09D79562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05E598-506A-4904-B950-971BDD6E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F14D4A-3F74-462E-A1AD-2B779B22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EBA166-F592-4115-BEAB-CA1E7327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1798CE-BFB2-48F2-8AF1-9CD61DC1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14240" y="228600"/>
            <a:ext cx="8048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04A-14B3-46EA-89AB-71511B8A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79872-A9E0-4B85-9C56-7E7E8356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409BB5-3155-4CBC-B3B9-942DA65D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BC7C6C-D43C-480E-9A74-50BAAE9E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C9E642-445F-495E-9949-4B22654E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651A4-C747-477C-A01B-F4D6C3F3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8BE5AA-F641-40E2-BB4F-25E34FC9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714240" y="228600"/>
            <a:ext cx="8048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5C60C6-172F-49A4-823C-8E705076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E8CFD2-0692-4ECD-AC8F-753158F3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B61AE1-C78A-4B76-8046-8547C585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16D396-00A8-41E7-B753-8D55AD7E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62AC-3992-4162-9EA1-EEF49B98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74CA7F-09C7-46EE-92B6-9AA026B3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770DD-2896-4936-9ABD-7BF33167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999EB4-EA05-47D1-A610-0E1792ED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38542-3B8B-4A54-B2D0-3EE2DC08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6DF23-237F-4F3F-AC7E-3B89535B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530B9-4E89-4E3A-B11B-7ED24D11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DF654-3A83-49D2-AC1D-B5A5156C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E2645-71A1-4E7C-BD54-7E72E14B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714240" y="228600"/>
            <a:ext cx="8048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33D3C-719A-437A-95BC-9B87A858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70750-1109-4F8A-AB0D-20558069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7FA-8454-44DE-A804-0B02D3F9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577AA-D968-473E-A5B3-AA35E809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9DF23-0564-4E24-A7B2-FAAEDA39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FB89D-7F75-443D-ACD2-3F73E2E7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BA8DE-1D68-417D-B668-B9B45553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CDB44-5343-4247-9EB1-2145A1E1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3B7A3-30DD-469B-A181-4BEFF91E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C232E-8822-4CFD-828F-71A17194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FCA1B-772B-4BB7-B4C4-CEE1827D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9AC2F-7713-4374-90F5-06F40353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09974-AAB1-4C40-80CE-CB1BE485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F8F-E934-4F29-861B-0B18A152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714240" y="228600"/>
            <a:ext cx="8048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B1C5A-0996-4C5C-A8E5-1D80468B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AA375-38BF-4697-8056-D570B5EE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63B4E-FD1B-484A-B4EB-F10239E9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AD857-7F1E-4868-885A-EF431EC5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AC59E-F9B1-4163-967A-019ECF6B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06390-492A-4409-A46E-90C5F97A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89D8E-AA9F-4CEE-A1D8-75949BD6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33C27-5805-4987-B73C-381B5C14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4F806-1F92-43BB-B37C-917259CC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416E6-BD37-40AA-A1AD-C75CEC67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0033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a6a6a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3096-F7CA-4C50-8381-EA9DF16D20D4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a6a6a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C5BE-A0AF-49A3-A32A-F9CDAE26880F}" type="slidenum">
              <a:rPr b="1" lang="hr-H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" descr="tvz-memo.jpg"/>
          <p:cNvPicPr/>
          <p:nvPr/>
        </p:nvPicPr>
        <p:blipFill>
          <a:blip r:embed="rId2"/>
          <a:stretch/>
        </p:blipFill>
        <p:spPr>
          <a:xfrm>
            <a:off x="142920" y="21420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Rectangle 12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0033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a6a6a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AA79-6E0D-41EA-B565-477D3EDC1F63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0BBF-5C8D-4E03-B167-8CCF7AEC1F6F}" type="slidenum">
              <a:rPr b="1" lang="hr-HR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a6a6a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48" name="Picture 9" descr="tvz-memo.jpg"/>
          <p:cNvPicPr/>
          <p:nvPr/>
        </p:nvPicPr>
        <p:blipFill>
          <a:blip r:embed="rId2"/>
          <a:stretch/>
        </p:blipFill>
        <p:spPr>
          <a:xfrm>
            <a:off x="142920" y="2142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0033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a6a6a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4326-1562-4043-A746-271923E4AE39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a6a6a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BD5C-8A43-4D68-852E-4F6B250F2A82}" type="slidenum">
              <a:rPr b="1" lang="hr-H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Rectangle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Rectangle 12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0033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a6a6a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875F-216A-4C88-A68A-73A7C2EA7517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a6a6a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93A8-B78C-4ACE-8763-4E30010FE813}" type="slidenum">
              <a:rPr b="1" lang="hr-H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8" name="Picture 15" descr="tvz-memo.jpg"/>
          <p:cNvPicPr/>
          <p:nvPr/>
        </p:nvPicPr>
        <p:blipFill>
          <a:blip r:embed="rId2"/>
          <a:stretch/>
        </p:blipFill>
        <p:spPr>
          <a:xfrm>
            <a:off x="642960" y="5000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0033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A528-B52B-4282-8B4F-CCB8F9DCCF88}" type="datetime3">
              <a:rPr b="0" lang="hr-HR" sz="2000" spc="-1" strike="noStrike">
                <a:solidFill>
                  <a:srgbClr val="ffffff"/>
                </a:solidFill>
                <a:latin typeface="Verdana"/>
              </a:rPr>
              <a:t>31. srpnja 2026.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8f8f8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8D11-1395-4501-BF1E-3CC8AF371EA8}" type="slidenum">
              <a:rPr b="1" lang="hr-HR" sz="14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3" name="Picture 9" descr="tvz-memo.jpg"/>
          <p:cNvPicPr/>
          <p:nvPr/>
        </p:nvPicPr>
        <p:blipFill>
          <a:blip r:embed="rId2"/>
          <a:stretch/>
        </p:blipFill>
        <p:spPr>
          <a:xfrm>
            <a:off x="142920" y="2142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0033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a6a6a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4975-F228-4842-A6D5-4949BF5D6C0E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a6a6a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732D-B537-4FDB-9CE5-C83FBD6006B5}" type="slidenum">
              <a:rPr b="1" lang="hr-H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0033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a6a6a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85C4-54FB-4049-B883-C9EE2C281B80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1BA4-A6A5-43F5-8ECB-EFEF6A1CA40C}" type="slidenum">
              <a:rPr b="1" lang="hr-HR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a6a6a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2" name="Picture 9" descr="tvz-memo.jpg"/>
          <p:cNvPicPr/>
          <p:nvPr/>
        </p:nvPicPr>
        <p:blipFill>
          <a:blip r:embed="rId2"/>
          <a:stretch/>
        </p:blipFill>
        <p:spPr>
          <a:xfrm>
            <a:off x="142920" y="2142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0033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a6a6a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8B6A-67C6-4102-8B1F-6CA8DB59149C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B6BB-3AC9-447A-B678-24F537B28FF7}" type="slidenum">
              <a:rPr b="1" lang="hr-H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a6a6a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Picture 9" descr="tvz-memo.jpg"/>
          <p:cNvPicPr/>
          <p:nvPr/>
        </p:nvPicPr>
        <p:blipFill>
          <a:blip r:embed="rId2"/>
          <a:stretch/>
        </p:blipFill>
        <p:spPr>
          <a:xfrm>
            <a:off x="142920" y="2142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0033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a6a6a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2C20-E2D4-43FC-A553-C113244B5023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F77D-0124-4450-AF77-9999B8090BF9}" type="slidenum">
              <a:rPr b="1" lang="hr-H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a6a6a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2" name="Picture 9" descr="tvz-memo.jpg"/>
          <p:cNvPicPr/>
          <p:nvPr/>
        </p:nvPicPr>
        <p:blipFill>
          <a:blip r:embed="rId2"/>
          <a:stretch/>
        </p:blipFill>
        <p:spPr>
          <a:xfrm>
            <a:off x="142920" y="2142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0033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a6a6a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F87E-B114-40F8-8A87-5D78F5B31474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a6a6a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20A1-4278-481D-B8EA-F385EB82B5A1}" type="slidenum">
              <a:rPr b="1" lang="hr-H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0033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a6a6a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5D89-71F6-4992-AF8B-78715F3DB729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a6a6a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E733-D8DB-460F-842A-BA683C4C61C3}" type="slidenum">
              <a:rPr b="1" lang="hr-H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58" name="Picture 9" descr="tvz-memo.jpg"/>
          <p:cNvPicPr/>
          <p:nvPr/>
        </p:nvPicPr>
        <p:blipFill>
          <a:blip r:embed="rId2"/>
          <a:stretch/>
        </p:blipFill>
        <p:spPr>
          <a:xfrm>
            <a:off x="142920" y="2142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0033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a6a6a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FF5E-3E5F-443F-8499-21C6CB4A8FA3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a6a6a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4283-55BE-41CA-BDFA-8EFCBA455170}" type="slidenum">
              <a:rPr b="1" lang="hr-H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OBRAZAC%20-PRIJEDLOG.docx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85640" y="2707920"/>
            <a:ext cx="6643800" cy="286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r-HR" sz="4400" spc="-1" strike="noStrike">
                <a:solidFill>
                  <a:srgbClr val="00004d"/>
                </a:solidFill>
                <a:latin typeface="Verdana"/>
              </a:rPr>
              <a:t>Osiguranje kvalitete </a:t>
            </a:r>
            <a:br>
              <a:rPr sz="4400"/>
            </a:br>
            <a:r>
              <a:rPr b="1" lang="hr-HR" sz="4400" spc="-1" strike="noStrike">
                <a:solidFill>
                  <a:srgbClr val="00004d"/>
                </a:solidFill>
                <a:latin typeface="Verdana"/>
              </a:rPr>
              <a:t>na Tehničkom veleučilištu u Zagrebu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Verdana"/>
              </a:rPr>
              <a:t>Vesna Alić-Kostešić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Verdana"/>
              </a:rPr>
              <a:t>Natalija Špeh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3366"/>
                </a:solidFill>
                <a:latin typeface="Verdana"/>
              </a:rPr>
              <a:t>Dobra praks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3366"/>
                </a:solidFill>
                <a:latin typeface="Verdana"/>
              </a:rPr>
              <a:t>Suradnja s gospodarstvom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3366"/>
                </a:solidFill>
                <a:latin typeface="Verdana"/>
              </a:rPr>
              <a:t>Studentska praksa 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3366"/>
                </a:solidFill>
                <a:latin typeface="Verdana"/>
              </a:rPr>
              <a:t>Studentima omogućeno cjeloživotno učenje i certificiranje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3366"/>
                </a:solidFill>
                <a:latin typeface="Verdana"/>
              </a:rPr>
              <a:t>Povezivanje završnih radova studenata različitih polja tehničke znanosti u cjelovit i svrsishodah projektni zadatak 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6801-BB01-4011-9C96-A7D0781A3246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15328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3366"/>
                </a:solidFill>
                <a:latin typeface="Verdana"/>
              </a:rPr>
              <a:t>Plan rada za sljedeće razdoblj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3366"/>
                </a:solidFill>
                <a:latin typeface="Verdana"/>
              </a:rPr>
              <a:t>Pokretanje studija Mehatronike – dobivena dopusnica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3366"/>
                </a:solidFill>
                <a:latin typeface="Verdana"/>
              </a:rPr>
              <a:t>Dobivanje dopusnice za stručni studij Ortotike i protetike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3366"/>
                </a:solidFill>
                <a:latin typeface="Verdana"/>
              </a:rPr>
              <a:t>Usklađivanje postojećih studijskih programa s potrebama gospodarstva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3366"/>
                </a:solidFill>
                <a:latin typeface="Verdana"/>
              </a:rPr>
              <a:t>Razvijanje E-learning-a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0273-CB5E-432D-B5CB-D0055AF56560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3366"/>
                </a:solidFill>
                <a:latin typeface="Verdana"/>
              </a:rPr>
              <a:t>Utjecaj dosadašnjih aktivnosti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56760" y="1600200"/>
            <a:ext cx="8572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3366"/>
                </a:solidFill>
                <a:latin typeface="Verdana"/>
              </a:rPr>
              <a:t>Shvaćanje kvalitete kao kolektivne odgovornosti svih članova institucije – rukovoditelja, nastavnika, studenata, administracije i svih ostalih dionika sustava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3366"/>
                </a:solidFill>
                <a:latin typeface="Verdana"/>
              </a:rPr>
              <a:t>Dogovorno prihvaćanje zajedničkog sustava vrijednosti 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3366"/>
                </a:solidFill>
                <a:latin typeface="Verdana"/>
              </a:rPr>
              <a:t>Učinkovito osiguranje i unaprjeđenje kvalitete na TVZ-u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4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8674-FDD7-4C32-972C-B27549B50722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Verdana"/>
              </a:rPr>
              <a:t>Hvala na pažnji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8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F05A-4EAC-4550-8F85-04F5EFE38901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7939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66"/>
                </a:solidFill>
                <a:latin typeface="Verdana"/>
              </a:rPr>
              <a:t>Osiguranje kvalitete na TVZ-u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12360" y="1600200"/>
            <a:ext cx="8280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Verdana"/>
              </a:rPr>
              <a:t>Ustroj 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Verdana"/>
              </a:rPr>
              <a:t>Matrica odgovornosti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Verdana"/>
              </a:rPr>
              <a:t>Izrađeni i usvojeni dokumenti sustav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Verdana"/>
              </a:rPr>
              <a:t>Rezultati provedene unutarnje prosudbe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Verdana"/>
              </a:rPr>
              <a:t>Dobra praks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Verdana"/>
              </a:rPr>
              <a:t>Plan rada za sljedeće razdoblje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5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93DB-876C-41DA-B52F-252520FA6F9C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Footer Placeholder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824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Verdana"/>
              </a:rPr>
              <a:t>Ustroj Jedinice za osiguranje kvalitete na TVZ-u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12360" y="1600200"/>
            <a:ext cx="8280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66"/>
                </a:solidFill>
                <a:latin typeface="Verdana"/>
              </a:rPr>
              <a:t>Donešen</a:t>
            </a:r>
            <a:r>
              <a:rPr b="1" lang="hr-HR" sz="3200" spc="-1" strike="noStrike">
                <a:solidFill>
                  <a:srgbClr val="003366"/>
                </a:solidFill>
                <a:latin typeface="Verdana"/>
              </a:rPr>
              <a:t> Pravilnik o praćenju, provjeri i unaprijeđenju kvalitete studija na TVZ-u </a:t>
            </a:r>
            <a:r>
              <a:rPr b="0" lang="hr-HR" sz="3200" spc="-1" strike="noStrike">
                <a:solidFill>
                  <a:srgbClr val="003366"/>
                </a:solidFill>
                <a:latin typeface="Verdana"/>
              </a:rPr>
              <a:t>(prosinac, 2009.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66"/>
                </a:solidFill>
                <a:latin typeface="Verdana"/>
              </a:rPr>
              <a:t>Osnovani </a:t>
            </a:r>
            <a:r>
              <a:rPr b="1" lang="hr-HR" sz="3200" spc="-1" strike="noStrike">
                <a:solidFill>
                  <a:srgbClr val="003366"/>
                </a:solidFill>
                <a:latin typeface="Verdana"/>
              </a:rPr>
              <a:t>Odbori za kvalitetu odjela TVZ-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66"/>
                </a:solidFill>
                <a:latin typeface="Verdana"/>
              </a:rPr>
              <a:t>Osnovan </a:t>
            </a:r>
            <a:r>
              <a:rPr b="1" lang="hr-HR" sz="3200" spc="-1" strike="noStrike">
                <a:solidFill>
                  <a:srgbClr val="003366"/>
                </a:solidFill>
                <a:latin typeface="Verdana"/>
              </a:rPr>
              <a:t>Odbor za kvalitetu TVZ-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9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2E6F-8DB7-4894-B5A5-803805C64034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Footer Placeholder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90E3-A784-4987-8B4D-175F39F19906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Footer Placeholder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3" name="Content Placeholder 6" descr=""/>
          <p:cNvPicPr/>
          <p:nvPr/>
        </p:nvPicPr>
        <p:blipFill>
          <a:blip r:embed="rId1"/>
          <a:stretch/>
        </p:blipFill>
        <p:spPr>
          <a:xfrm>
            <a:off x="633240" y="1835280"/>
            <a:ext cx="7729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Date Placeholder 1"/>
          <p:cNvSpPr/>
          <p:nvPr/>
        </p:nvSpPr>
        <p:spPr>
          <a:xfrm>
            <a:off x="6072120" y="628668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F824-37E5-4906-BE20-4EF39F09BF77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6" name="Content Placeholder 6" descr=""/>
          <p:cNvPicPr/>
          <p:nvPr/>
        </p:nvPicPr>
        <p:blipFill>
          <a:blip r:embed="rId1"/>
          <a:stretch/>
        </p:blipFill>
        <p:spPr>
          <a:xfrm>
            <a:off x="347760" y="549360"/>
            <a:ext cx="5833800" cy="5576760"/>
          </a:xfrm>
          <a:prstGeom prst="rect">
            <a:avLst/>
          </a:prstGeom>
          <a:ln w="0">
            <a:noFill/>
          </a:ln>
        </p:spPr>
      </p:pic>
      <p:sp>
        <p:nvSpPr>
          <p:cNvPr id="557" name="Rounded Rectangle 4"/>
          <p:cNvSpPr/>
          <p:nvPr/>
        </p:nvSpPr>
        <p:spPr>
          <a:xfrm>
            <a:off x="6357960" y="571680"/>
            <a:ext cx="2214720" cy="550044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5500440"/>
              <a:gd name="textAreaBottom" fmla="*/ 5392440 h 5500440"/>
            </a:gdLst>
            <a:ahLst/>
            <a:rect l="textAreaLeft" t="textAreaTop" r="textAreaRight" b="textAreaBottom"/>
            <a:pathLst>
              <a:path w="21600" h="53640">
                <a:moveTo>
                  <a:pt x="3600" y="0"/>
                </a:moveTo>
                <a:arcTo wR="3600" hR="3600" stAng="16200000" swAng="-5400000"/>
                <a:lnTo>
                  <a:pt x="0" y="50040"/>
                </a:lnTo>
                <a:arcTo wR="3600" hR="3600" stAng="10800000" swAng="-5400000"/>
                <a:lnTo>
                  <a:pt x="18000" y="536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3366"/>
          </a:solidFill>
          <a:ln w="19080">
            <a:solidFill>
              <a:srgbClr val="002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Odbor za kvalitetu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ff"/>
                </a:solidFill>
                <a:latin typeface="Verdana"/>
              </a:rPr>
              <a:t>TVZ-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3366"/>
                </a:solidFill>
                <a:latin typeface="Verdana"/>
              </a:rPr>
              <a:t>Matrica odgovornosti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79280" y="1600200"/>
          <a:ext cx="8856720" cy="47577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  <a:gridCol w="1998720"/>
              </a:tblGrid>
              <a:tr h="73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Vrsta aktivnosti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sitelj aktivnosti (naziv tijela ili imena osoba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Učestalost aktivnosti (broj sastanaka ili akcija godišnje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Broj izvješća koji su proizašli iz pojedine aktivnosti u posljednjoj godini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raktični rezultati aktivnosti (opisno u samoanalizi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3366"/>
                          </a:solidFill>
                          <a:latin typeface="Calibri"/>
                          <a:ea typeface="Times New Roman"/>
                        </a:rPr>
                        <a:t>Tematske sjednice o kvaliteti nastav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Prodekan za nastavu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Edukacija nastavnik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 u="sng">
                          <a:solidFill>
                            <a:srgbClr val="5f5f5f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Obrazac plana i programa orijentiran ishodim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  <a:tr h="79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3366"/>
                          </a:solidFill>
                          <a:latin typeface="Calibri"/>
                          <a:ea typeface="Times New Roman"/>
                        </a:rPr>
                        <a:t>Rad odbora (povjerenstva) za praćenje kvalitete nastav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Odbor za kvalitetu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TVZ-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Pravilnik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Priručnik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79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3366"/>
                          </a:solidFill>
                          <a:latin typeface="Calibri"/>
                          <a:ea typeface="Times New Roman"/>
                        </a:rPr>
                        <a:t>Studentska anketa (provođenje, obrada, informiranje studenata, očitovanja nastavnika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Odbor za kvalitetu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Odjel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Rezultati anketa po svim studijskim odjelima – objava na webu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  <a:tr h="79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3366"/>
                          </a:solidFill>
                          <a:latin typeface="Calibri"/>
                          <a:ea typeface="Times New Roman"/>
                        </a:rPr>
                        <a:t>SWOT</a:t>
                      </a:r>
                      <a:r>
                        <a:rPr b="0" lang="hr-HR" sz="1200" spc="-1" strike="noStrike">
                          <a:solidFill>
                            <a:srgbClr val="003366"/>
                          </a:solidFill>
                          <a:latin typeface="Calibri"/>
                          <a:ea typeface="Times New Roman"/>
                        </a:rPr>
                        <a:t> analiza na razini ustanov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Odbor za kvalitetu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TVZ-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Usavršavanje nastavika,  objava nastavnih materijala, aktivnosti koje vode rastu st. stndard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79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3366"/>
                          </a:solidFill>
                          <a:latin typeface="Calibri"/>
                          <a:ea typeface="Times New Roman"/>
                        </a:rPr>
                        <a:t>Praćenje pokazatelja kvalitete u ustanovi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Odbor za kvalitetu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TVZ-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 +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amoanaliza po Odjelim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amoanaliza TVZ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3366"/>
                          </a:solidFill>
                          <a:latin typeface="Calibri"/>
                          <a:ea typeface="Times New Roman"/>
                        </a:rPr>
                        <a:t>Ostali oblici evaluacij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</a:tr>
            </a:tbl>
          </a:graphicData>
        </a:graphic>
      </p:graphicFrame>
      <p:sp>
        <p:nvSpPr>
          <p:cNvPr id="560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A7CC-9BFC-47B6-A62B-7BCEAE935C0F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0820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3366"/>
                </a:solidFill>
                <a:latin typeface="Verdana"/>
              </a:rPr>
              <a:t>Priručnik za osiguranje kvalitete na TVZ-u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3366"/>
                </a:solidFill>
                <a:latin typeface="Verdana"/>
              </a:rPr>
              <a:t>Trenutno je u završnoj fazi izrade, a temelji se na strategiji TVZ-a</a:t>
            </a:r>
            <a:endParaRPr b="0" lang="en-US" sz="25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3366"/>
                </a:solidFill>
                <a:latin typeface="Verdana"/>
              </a:rPr>
              <a:t>Priručnik definira:</a:t>
            </a:r>
            <a:endParaRPr b="0" lang="en-US" sz="25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3366"/>
                </a:solidFill>
                <a:latin typeface="Verdana"/>
              </a:rPr>
              <a:t>Politiku i s</a:t>
            </a:r>
            <a:r>
              <a:rPr b="1" lang="en-US" sz="2500" spc="-1" strike="noStrike">
                <a:solidFill>
                  <a:srgbClr val="003366"/>
                </a:solidFill>
                <a:latin typeface="Verdana"/>
              </a:rPr>
              <a:t>trategiju </a:t>
            </a:r>
            <a:r>
              <a:rPr b="0" lang="en-US" sz="2500" spc="-1" strike="noStrike">
                <a:solidFill>
                  <a:srgbClr val="003366"/>
                </a:solidFill>
                <a:latin typeface="Verdana"/>
              </a:rPr>
              <a:t>osiguravanja kvalitete</a:t>
            </a:r>
            <a:r>
              <a:rPr b="0" lang="hr-HR" sz="25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Verdana"/>
              </a:rPr>
              <a:t>Procedure</a:t>
            </a:r>
            <a:r>
              <a:rPr b="0" lang="en-US" sz="2500" spc="-1" strike="noStrike">
                <a:solidFill>
                  <a:srgbClr val="003366"/>
                </a:solidFill>
                <a:latin typeface="Verdana"/>
              </a:rPr>
              <a:t> svih procesa </a:t>
            </a:r>
            <a:r>
              <a:rPr b="0" lang="hr-HR" sz="2500" spc="-1" strike="noStrike">
                <a:solidFill>
                  <a:srgbClr val="003366"/>
                </a:solidFill>
                <a:latin typeface="Verdana"/>
              </a:rPr>
              <a:t>i aktivnosti </a:t>
            </a:r>
            <a:r>
              <a:rPr b="0" lang="en-US" sz="2500" spc="-1" strike="noStrike">
                <a:solidFill>
                  <a:srgbClr val="003366"/>
                </a:solidFill>
                <a:latin typeface="Verdana"/>
              </a:rPr>
              <a:t>koj</a:t>
            </a:r>
            <a:r>
              <a:rPr b="0" lang="hr-HR" sz="2500" spc="-1" strike="noStrike">
                <a:solidFill>
                  <a:srgbClr val="003366"/>
                </a:solidFill>
                <a:latin typeface="Verdana"/>
              </a:rPr>
              <a:t>e</a:t>
            </a:r>
            <a:r>
              <a:rPr b="0" lang="en-US" sz="2500" spc="-1" strike="noStrike">
                <a:solidFill>
                  <a:srgbClr val="003366"/>
                </a:solidFill>
                <a:latin typeface="Verdana"/>
              </a:rPr>
              <a:t> se </a:t>
            </a:r>
            <a:r>
              <a:rPr b="0" lang="hr-HR" sz="2500" spc="-1" strike="noStrike">
                <a:solidFill>
                  <a:srgbClr val="003366"/>
                </a:solidFill>
                <a:latin typeface="Verdana"/>
              </a:rPr>
              <a:t>provode </a:t>
            </a:r>
            <a:endParaRPr b="0" lang="en-US" sz="25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Verdana"/>
              </a:rPr>
              <a:t>Odgovornost</a:t>
            </a:r>
            <a:r>
              <a:rPr b="0" lang="en-US" sz="25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hr-HR" sz="2500" spc="-1" strike="noStrike">
                <a:solidFill>
                  <a:srgbClr val="003366"/>
                </a:solidFill>
                <a:latin typeface="Verdana"/>
              </a:rPr>
              <a:t>i sudjelovanje </a:t>
            </a:r>
            <a:r>
              <a:rPr b="0" lang="en-US" sz="2500" spc="-1" strike="noStrike">
                <a:solidFill>
                  <a:srgbClr val="003366"/>
                </a:solidFill>
                <a:latin typeface="Verdana"/>
              </a:rPr>
              <a:t>svih dionika</a:t>
            </a:r>
            <a:endParaRPr b="0" lang="en-US" sz="25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3366"/>
                </a:solidFill>
                <a:latin typeface="Verdana"/>
              </a:rPr>
              <a:t>Smjernice za provedbu </a:t>
            </a:r>
            <a:r>
              <a:rPr b="0" lang="hr-HR" sz="2500" spc="-1" strike="noStrike">
                <a:solidFill>
                  <a:srgbClr val="003366"/>
                </a:solidFill>
                <a:latin typeface="Verdana"/>
              </a:rPr>
              <a:t>unutarnje prosudbe (godišnji plan i raspored aktivnosti)</a:t>
            </a:r>
            <a:endParaRPr b="0" lang="en-US" sz="25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Verdana"/>
              </a:rPr>
              <a:t>Suradnj</a:t>
            </a:r>
            <a:r>
              <a:rPr b="1" lang="hr-HR" sz="2500" spc="-1" strike="noStrike">
                <a:solidFill>
                  <a:srgbClr val="003366"/>
                </a:solidFill>
                <a:latin typeface="Verdana"/>
              </a:rPr>
              <a:t>u</a:t>
            </a:r>
            <a:r>
              <a:rPr b="0" lang="en-US" sz="2500" spc="-1" strike="noStrike">
                <a:solidFill>
                  <a:srgbClr val="003366"/>
                </a:solidFill>
                <a:latin typeface="Verdana"/>
              </a:rPr>
              <a:t> uprave i </a:t>
            </a:r>
            <a:r>
              <a:rPr b="0" lang="hr-HR" sz="2500" spc="-1" strike="noStrike">
                <a:solidFill>
                  <a:srgbClr val="003366"/>
                </a:solidFill>
                <a:latin typeface="Verdana"/>
              </a:rPr>
              <a:t>Odbora za kvalitetu TVZ-a</a:t>
            </a:r>
            <a:endParaRPr b="0" lang="en-US" sz="25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4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34F4-6DCF-4D25-8F41-C9D16C83EECD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94920" y="213840"/>
            <a:ext cx="8497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3366"/>
                </a:solidFill>
                <a:latin typeface="Verdana"/>
              </a:rPr>
              <a:t>Rezultati provedene unutarnje prosudb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12720" y="1600200"/>
            <a:ext cx="835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Verdana"/>
              </a:rPr>
              <a:t>Provedena po Odjelima</a:t>
            </a:r>
            <a:r>
              <a:rPr b="1" lang="hr-H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3366"/>
                </a:solidFill>
                <a:latin typeface="Verdana"/>
              </a:rPr>
              <a:t>- izvješća Odjela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1" lang="hr-HR" sz="2800" spc="-1" strike="noStrike">
                <a:solidFill>
                  <a:srgbClr val="003366"/>
                </a:solidFill>
                <a:latin typeface="Verdana"/>
              </a:rPr>
              <a:t>ezultati: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Verdana"/>
              </a:rPr>
              <a:t>Strategija u skladu s misijom i vizijom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Verdana"/>
              </a:rPr>
              <a:t>Studijski programi- porast broja upisanih studenata, gasi se 1 studijski program, 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Verdana"/>
              </a:rPr>
              <a:t>Studenti – provedene ankete, financijska pomoć najuspješnijim studentim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Verdana"/>
              </a:rPr>
              <a:t>Nastavnici, omjer nastavnik/student zadovoljavajući, porast broja znanstvenih novaka, rast pisanih materijal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8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0854-4F10-4F13-88C4-0865D2FADC0B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612720" y="1700280"/>
            <a:ext cx="81532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66"/>
                </a:solidFill>
                <a:latin typeface="Verdana"/>
              </a:rPr>
              <a:t>Zadovoljavajući broj stručnih projekata, broj istraživačkih u porastu, radovi nagrađeni na međunarodnoj razini</a:t>
            </a:r>
            <a:endParaRPr b="0" lang="en-US" sz="26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66"/>
                </a:solidFill>
                <a:latin typeface="Verdana"/>
              </a:rPr>
              <a:t>Mobilnost – sudjelujemo u međunarodnoj razmjeni studenata i nastavnika </a:t>
            </a:r>
            <a:endParaRPr b="0" lang="en-US" sz="26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66"/>
                </a:solidFill>
                <a:latin typeface="Arial"/>
              </a:rPr>
              <a:t>Cjeloživotno obrazovanje</a:t>
            </a:r>
            <a:endParaRPr b="0" lang="en-US" sz="2600" spc="-1" strike="noStrike">
              <a:solidFill>
                <a:srgbClr val="003366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66"/>
                </a:solidFill>
                <a:latin typeface="Verdana"/>
              </a:rPr>
              <a:t>Dobra opremljenost informatičkom opremom, nedostatak vlastitog prostor</a:t>
            </a:r>
            <a:endParaRPr b="0" lang="en-US" sz="2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1D6A-939F-451D-B00C-8A564C7F49EA}" type="datetime3">
              <a:rPr b="0" lang="hr-HR" sz="1400" spc="-1" strike="noStrike">
                <a:solidFill>
                  <a:srgbClr val="a6a6a6"/>
                </a:solidFill>
                <a:latin typeface="Verdana"/>
              </a:rPr>
              <a:t>31. srpnja 2026.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a6a6a6"/>
                </a:solidFill>
                <a:latin typeface="Verdana"/>
              </a:rPr>
              <a:t>Osiguranje kvalitete na TVZ-u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15328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3366"/>
                </a:solidFill>
                <a:latin typeface="Verdana"/>
              </a:rPr>
              <a:t>Rezultati provedene unutarnje prosudbe</a:t>
            </a:r>
            <a:endParaRPr b="0" lang="en-US" sz="3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8:57:20Z</dcterms:created>
  <dc:creator>Natasa</dc:creator>
  <dc:description/>
  <dc:language>en-US</dc:language>
  <cp:lastModifiedBy>vesna</cp:lastModifiedBy>
  <dcterms:modified xsi:type="dcterms:W3CDTF">2010-09-14T03:48:45Z</dcterms:modified>
  <cp:revision>77</cp:revision>
  <dc:subject/>
  <dc:title>PROJEKT Osiguranje kvalitete na TVZ-u   praćenje, provjera, unaprjeđenje</dc:title>
</cp:coreProperties>
</file>