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5716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77C19-391D-41A0-B104-40A090DE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D1293-7699-49C7-B901-E7E7A4B8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63BEE1-C6E9-41AD-86E8-97E60C13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685783-7F19-4EA7-AF7C-D039D517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16B0CC-3EB3-438E-B0C6-C53D58D6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56A152-EB17-4191-B11D-D455C26E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7EDD50-482F-486D-BADD-52010854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9C3C88-FC85-4005-A8CB-059F7A7F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835EAB-6576-46AF-857B-958FA6B2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B75966-A272-46C8-9A2A-4C300009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DF3574-B721-4BB0-8BAF-C13096F6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E10385-928D-4479-87B4-E6ECBC49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EA1F8-69ED-4CA5-A8CA-B9BF34C8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3BF25F-4F10-415F-B75D-9BADDC55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027240-6721-47E6-80EB-D121935C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F37924-7D4E-4D93-BB5D-9E0A79A6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C92484-E80D-48C0-B3E4-31F895E9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1CBAA4-531D-4B07-AB32-F4D479F4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5D8100-6322-424A-9C38-DCF96213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806402-798A-4405-A60B-D6FEC1D5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0B5AA1-D85D-46D1-BC35-F730A323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F1C4B0-FC32-4395-AD61-2C782EDE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E5DBF6-0795-43AA-A73E-394E9E38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73BC6-6A98-40E9-BCF7-03315ADB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243D09-F9F7-46F1-A5F5-501B1DF2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2490EB-6AE4-4701-8D40-09C22C50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7E15BC-BF7C-4F5B-B0AD-82813479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41B163-0857-4C66-9507-4B15E466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255284-F565-4CC4-BBD1-3DAF8772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EDB2CE-8DAA-4623-BFF3-55108336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29E824-ED68-4FD0-85ED-BEEF946A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414A2C-87CE-43D8-B7B5-06F52818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A23314-83DE-4EC3-B80D-FC1F24F7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DA8A5B-7827-4976-8398-CC83FF10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10D2-56EC-4A2B-9229-301CF5B6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4EA602-5E0C-48D7-87BE-985911A6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038FBB-C678-4585-9519-24A436DE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567334-5E56-40A8-A9CB-0215A8CE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FF0AD4-2B46-4EAF-9820-605F3FE6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8A2A1C-D2DD-47AD-A6BE-0A5DF3E7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8447F2-560F-4F70-B3EE-2D035243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4E07FA-A477-44DF-AAB0-5B6AD6E2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226B12-1DC6-4222-9F39-F9C9233F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76D95E-811A-4535-98F4-5EF41548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AC9DB0-F7DA-479D-A33F-7C95AC5D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1D32-0EA9-465B-9AE5-B4E8C61B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8BA15D-2E7A-4915-8E22-444E5416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D8B97B-381A-474F-9DE3-4D441BA2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6F2E2F-7D1F-4AC7-B0B7-DB06F701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B9781F-2B84-46A0-9DA3-BD263719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5C0DA1-FD63-426D-B3F8-B693D0E8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0309-1170-4559-9CAF-E63FE9FC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BDF7-F041-41FA-8CA3-2F44DCFC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F287-CDB5-44F9-96EB-A2E73D47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EE35-061E-4FAD-BFB9-F9A5595B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75C8-93AB-448E-BAFF-AFC85DBC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0EC05-9452-4786-AF41-FC0B09AE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7B44-1D66-4E98-8D09-8C6D380B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6D18-B0F6-4C0C-903F-DD774204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8150-4EB2-491F-9BBE-B4A6C23D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1DD3-D408-4B24-A5F2-FECC936F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85D9-8375-4F03-9DE9-EC8DA8A9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EFEF73-DDA6-4A40-9499-73B2E8BA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6E7DE-CBEF-442A-97E0-1A770893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356828-8A7E-4317-8D01-061E75C6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939F86-301C-4DB3-8E5A-B1E568E3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88070D-4D1C-4181-A59A-C395B08B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752F7-6852-44D5-B6B5-40B416DB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E9101A-81F8-4807-91D3-DBE761C7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BE4D1-85DE-4315-9949-855E72D0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9DA4E-0785-4400-9AF2-CA08534C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A2EC36-6CBE-4E8B-A24E-8FDBBD12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698021-9886-4822-AF2C-8207966A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8A4D4-3E94-410D-BA92-DA3502D2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833E3-6445-4C5F-8A62-7CFBDE6F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F65DC1-F579-4E45-8499-EE725B03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46559C-0D6C-4AB9-91FB-F8114A27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6F1BC2-4368-40EB-B06B-393553AA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D7049-5168-4544-B842-E64842A2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D42AE1-D7BC-4D73-9B71-4FFC7DA5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D72161-705E-40B9-8DDE-2124CF1E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36552D-CA08-4F9B-874B-13F62173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896B4E-15E8-46ED-8C2C-6C66A898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32503F-DFDA-4CB6-A619-35E23CAF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CA0D72-0005-4837-A982-4CA06FCE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A686C5-DFB8-4504-A7DA-03878F42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FBA762-C7C9-4EC6-B631-7DB1ADE9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4234B4-E518-4EE5-B5DC-0A927CF6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12F4EB-E827-4E96-8AAF-648A43FF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DD4DC-8F88-4289-B0E1-BE816231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E4CE31-E064-46D3-B14F-C2EBCA2F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E7165-7DB5-4734-BD25-038DF426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33A009-AD10-4AE0-AE16-00A59A66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61C32E-E56F-405D-B9F2-BF9BFA89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594F96-019A-4DBA-B1D1-59AD7328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61D218-95D1-400C-97C6-312621AB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9ED19E-A408-44C7-A137-41985204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81DFEC-8A39-4CBE-B79E-B7DFA91D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194B71-0077-431E-9AD7-669750F3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973D1D-648B-4DB2-8C36-1C5E7064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F28F9-E1AA-46E9-B577-EC1FBBED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0671E6-9605-4F37-951C-718CB994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C9BB29-DBEC-4451-BAB4-B0FD1E90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85F817-BBC0-403C-BE8C-EAA4F07D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E8E2EC-9284-4DFA-847E-EA2698FB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66821E-947E-446E-B2B1-7E9A25AB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15EF74-6F5A-4BD6-8BD4-80B239B9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9F98BF-7567-464E-BC95-BA80D69D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CCEC4E-39B5-4FAC-AC9D-DC2B7DFA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4D9FF9-C6A0-40F5-AB9D-3AFE437C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1DBD85-B900-4E4C-AE16-BF27FF67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85EAF-B147-47D8-AFB7-AFAD3A58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9507B9-378C-4D83-8D89-1F8D465E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3ACEFF-0803-40A6-8529-FB2A971F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E4719A-2B41-431E-897F-38B7A745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FA1B21-E093-4531-869B-8E8BF9A4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2A78AA-7F90-450F-B44C-5BB31A0C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CC1F00-20D7-4C59-92FA-A828066B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B37C17-FC78-45F3-82D6-23155F00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8DF111-5F0E-4DAE-9F57-99D5E880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3662CE-1C7F-4DC4-8A20-7D32BE35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E4F319-BF81-47EE-8DAC-399D2A0E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ADC1-5E4A-479C-BDB2-B8E94547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5B94BB-E560-4C47-8896-9073F998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71010B-7C33-4B3F-906F-0F55F5C8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E92531-014C-473D-BD36-434EC6E0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51C415-9997-4FB7-93C1-A40D1D06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7550D8-0453-4C94-9A05-24723A68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4AB827-4211-4FE0-A50A-2901E4B40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1EF585-49C6-49CF-9601-5ECB1C5D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C1946B-B233-46D7-8F05-A729322A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720619-A008-4DA2-9E31-914D763B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6EE223-9113-4003-B258-9CA25BB2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C6F60-7DB4-49E0-9F98-884566FE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0DF8EE-C94F-462A-BFDC-6CA0C9CB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5ED314-C8AD-4806-AE79-046330D1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2286A3-BCAC-4F41-AD06-51553AA5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2930B0-E54A-4CF0-8334-08DED8AD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98905B-BA85-48B1-9BC1-87410677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C9F642-5DA0-47C5-81FA-804972CD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5B7725-5FE9-424A-8402-F74D12EB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CB96C3-5DC3-4050-9529-DDFE9532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CC729B-65C4-4990-A39D-39AC8512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318C7E-299F-42C1-81BA-74A10BC6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5210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520704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EB19-6508-4D9E-9627-BDD845EC6295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5708160"/>
            <a:chOff x="0" y="0"/>
            <a:chExt cx="9140760" cy="570816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2950200"/>
              <a:ext cx="6392880" cy="2757960"/>
              <a:chOff x="2743200" y="2950200"/>
              <a:chExt cx="6392880" cy="275796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3497040"/>
                <a:ext cx="4575240" cy="22107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3536640"/>
                <a:ext cx="1998360" cy="10713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4425480"/>
                <a:ext cx="4522680" cy="128232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2950200"/>
                <a:ext cx="4773600" cy="275796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069000"/>
                <a:ext cx="1981080" cy="711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1775160"/>
              <a:ext cx="2897280" cy="203184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34936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520704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5210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520704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4E01-6FFC-41D8-812F-3B3AB88158A1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520704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5210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520704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3CAB-5ADF-448D-A71A-36BD62FE482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520704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5210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520704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E654-D274-4DB4-A03A-EC19D818C627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520704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5708520"/>
            <a:chOff x="0" y="0"/>
            <a:chExt cx="9140760" cy="570852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2948760"/>
              <a:ext cx="6392880" cy="2759760"/>
              <a:chOff x="2743200" y="2948760"/>
              <a:chExt cx="6392880" cy="275976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3496320"/>
                <a:ext cx="4575240" cy="2211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3533400"/>
                <a:ext cx="1998360" cy="107280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4425120"/>
                <a:ext cx="4522680" cy="12830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2948760"/>
                <a:ext cx="4773600" cy="275976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065040"/>
                <a:ext cx="1981080" cy="71280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1775160"/>
              <a:ext cx="2897280" cy="203184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34936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520704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521028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521136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DB0D-E758-43C6-B975-087533BA25A4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5210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520704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A7EB-72D8-4DD1-85E5-70812E6D5356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520704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5210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520704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BBE6-39C9-4638-8A6D-1BBDC413A889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520704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5210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520704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A8AA-37DA-4FEC-97A9-940B03D47317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520704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5210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520704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60E7-15A7-4510-BB9C-EB25D6BB4D46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520704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5210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520704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33AD-6E49-4450-9217-5F62ED1CD885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520704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5210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520704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3E02-BE27-4209-8414-953581E49CCC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520704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5210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520704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C0C0-9AEA-44B5-B317-224B571C1F16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520704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6" descr="DSC06209"/>
          <p:cNvPicPr/>
          <p:nvPr/>
        </p:nvPicPr>
        <p:blipFill>
          <a:blip r:embed="rId1"/>
          <a:stretch/>
        </p:blipFill>
        <p:spPr>
          <a:xfrm>
            <a:off x="-57240" y="-27000"/>
            <a:ext cx="9201240" cy="574200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8"/>
          <p:cNvSpPr/>
          <p:nvPr/>
        </p:nvSpPr>
        <p:spPr>
          <a:xfrm>
            <a:off x="3143160" y="5478480"/>
            <a:ext cx="28576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514"/>
                </a:solidFill>
                <a:latin typeface="Garamond"/>
              </a:rPr>
              <a:t>Dr. sc. Sarajko BAKSA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5" descr="logo-final"/>
          <p:cNvPicPr/>
          <p:nvPr/>
        </p:nvPicPr>
        <p:blipFill>
          <a:blip r:embed="rId1"/>
          <a:stretch/>
        </p:blipFill>
        <p:spPr>
          <a:xfrm>
            <a:off x="0" y="0"/>
            <a:ext cx="1155600" cy="1006560"/>
          </a:xfrm>
          <a:prstGeom prst="rect">
            <a:avLst/>
          </a:prstGeom>
          <a:ln w="0">
            <a:noFill/>
          </a:ln>
        </p:spPr>
      </p:pic>
      <p:sp>
        <p:nvSpPr>
          <p:cNvPr id="556" name="Date Placeholder 2"/>
          <p:cNvSpPr/>
          <p:nvPr/>
        </p:nvSpPr>
        <p:spPr>
          <a:xfrm>
            <a:off x="457200" y="528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1EF9-DE78-497C-9D60-1AEFEB1953F1}" type="datetime">
              <a:rPr b="0" lang="hr-HR" sz="1000" spc="-1" strike="noStrike">
                <a:solidFill>
                  <a:srgbClr val="000514"/>
                </a:solidFill>
                <a:latin typeface="Arial"/>
              </a:rPr>
              <a:t>31.07.26</a:t>
            </a:fld>
            <a:r>
              <a:rPr b="0" lang="hr-HR" sz="1000" spc="-1" strike="noStrike">
                <a:solidFill>
                  <a:srgbClr val="000514"/>
                </a:solidFill>
                <a:latin typeface="Arial"/>
              </a:rPr>
              <a:t> </a:t>
            </a:r>
            <a:fld id="{2146DD0A-1AEB-48AA-A060-BF890981235B}" type="datetime10">
              <a:rPr b="0" lang="hr-HR" sz="1000" spc="-1" strike="noStrike">
                <a:solidFill>
                  <a:srgbClr val="000514"/>
                </a:solidFill>
                <a:latin typeface="Arial"/>
              </a:rPr>
              <a:t>06:42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7924680" y="528624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24FA-3F23-419D-B58B-C73A2BA4BD6E}" type="slidenum">
              <a:rPr b="0" lang="en-US" sz="10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8" name="Rectangle 14"/>
          <p:cNvSpPr/>
          <p:nvPr/>
        </p:nvSpPr>
        <p:spPr>
          <a:xfrm>
            <a:off x="3143160" y="5478480"/>
            <a:ext cx="28576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514"/>
                </a:solidFill>
                <a:latin typeface="Garamond"/>
              </a:rPr>
              <a:t>Dr. sc. Sarajko BAKSA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71720" y="785520"/>
            <a:ext cx="757224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99"/>
                </a:solidFill>
                <a:latin typeface="Garamond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Studentska procjena vrijednosti nastave i nastavnika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0" name="Title 1"/>
          <p:cNvSpPr/>
          <p:nvPr/>
        </p:nvSpPr>
        <p:spPr>
          <a:xfrm>
            <a:off x="357120" y="1714680"/>
            <a:ext cx="842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99"/>
                </a:solidFill>
                <a:latin typeface="Garamond"/>
              </a:rPr>
              <a:t>    </a:t>
            </a:r>
            <a:r>
              <a:rPr b="1" lang="hr-HR" sz="2000" spc="-1" strike="noStrike">
                <a:solidFill>
                  <a:srgbClr val="003399"/>
                </a:solidFill>
                <a:latin typeface="Garamond"/>
              </a:rPr>
              <a:t>Svrha ovog anketnog djelovanja su informacije koje opisuju kvalitetu nastave i kvalitetu rada svakog pojedinog nastavnika, u cilju poboljšanja razine nastavnog sadržaja i unapređenja nivoa rada nastavnog osoblj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5" descr="logo-final"/>
          <p:cNvPicPr/>
          <p:nvPr/>
        </p:nvPicPr>
        <p:blipFill>
          <a:blip r:embed="rId1"/>
          <a:stretch/>
        </p:blipFill>
        <p:spPr>
          <a:xfrm>
            <a:off x="0" y="0"/>
            <a:ext cx="1155600" cy="1006560"/>
          </a:xfrm>
          <a:prstGeom prst="rect">
            <a:avLst/>
          </a:prstGeom>
          <a:ln w="0">
            <a:noFill/>
          </a:ln>
        </p:spPr>
      </p:pic>
      <p:sp>
        <p:nvSpPr>
          <p:cNvPr id="562" name="Date Placeholder 2"/>
          <p:cNvSpPr/>
          <p:nvPr/>
        </p:nvSpPr>
        <p:spPr>
          <a:xfrm>
            <a:off x="457200" y="528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984A-1E85-4355-A5C8-F20A477ED1BD}" type="datetime">
              <a:rPr b="0" lang="hr-HR" sz="1000" spc="-1" strike="noStrike">
                <a:solidFill>
                  <a:srgbClr val="000514"/>
                </a:solidFill>
                <a:latin typeface="Arial"/>
              </a:rPr>
              <a:t>31.07.26</a:t>
            </a:fld>
            <a:r>
              <a:rPr b="0" lang="hr-HR" sz="1000" spc="-1" strike="noStrike">
                <a:solidFill>
                  <a:srgbClr val="000514"/>
                </a:solidFill>
                <a:latin typeface="Arial"/>
              </a:rPr>
              <a:t> </a:t>
            </a:r>
            <a:fld id="{6E5887C8-7B00-4AFD-BCA8-53894038013D}" type="datetime10">
              <a:rPr b="0" lang="hr-HR" sz="1000" spc="-1" strike="noStrike">
                <a:solidFill>
                  <a:srgbClr val="000514"/>
                </a:solidFill>
                <a:latin typeface="Arial"/>
              </a:rPr>
              <a:t>06:42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7924680" y="528624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381C-A68E-4494-BB42-C7C2995B0884}" type="slidenum">
              <a:rPr b="0" lang="en-US" sz="10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4" name="Rectangle 14"/>
          <p:cNvSpPr/>
          <p:nvPr/>
        </p:nvSpPr>
        <p:spPr>
          <a:xfrm>
            <a:off x="3143160" y="5478480"/>
            <a:ext cx="28576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514"/>
                </a:solidFill>
                <a:latin typeface="Garamond"/>
              </a:rPr>
              <a:t>Dr. sc. Sarajko BAKSA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71720" y="785520"/>
            <a:ext cx="757224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99"/>
                </a:solidFill>
                <a:latin typeface="Garamond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Studentska procjena vrijednosti nastave i nastavnika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6" name="Title 1"/>
          <p:cNvSpPr/>
          <p:nvPr/>
        </p:nvSpPr>
        <p:spPr>
          <a:xfrm>
            <a:off x="357120" y="1714680"/>
            <a:ext cx="842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99"/>
                </a:solidFill>
                <a:latin typeface="Garamond"/>
              </a:rPr>
              <a:t>    </a:t>
            </a:r>
            <a:r>
              <a:rPr b="1" lang="hr-HR" sz="2000" spc="-1" strike="noStrike">
                <a:solidFill>
                  <a:srgbClr val="003399"/>
                </a:solidFill>
                <a:latin typeface="Garamond"/>
              </a:rPr>
              <a:t>Svrha ovog anketnog djelovanja su informacije koje opisuju kvalitetu nastave i kvalitetu rada svakog pojedinog nastavnika, u cilju poboljšanja razine nastavnog sadržaja i unapređenja nivoa rada nastavnog osoblj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7" name="Title 1"/>
          <p:cNvSpPr/>
          <p:nvPr/>
        </p:nvSpPr>
        <p:spPr>
          <a:xfrm>
            <a:off x="357120" y="2928960"/>
            <a:ext cx="84297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99"/>
                </a:solidFill>
                <a:latin typeface="Garamond"/>
              </a:rPr>
              <a:t>    </a:t>
            </a:r>
            <a:r>
              <a:rPr b="1" lang="hr-HR" sz="2000" spc="-1" strike="noStrike">
                <a:solidFill>
                  <a:srgbClr val="003399"/>
                </a:solidFill>
                <a:latin typeface="Garamond"/>
              </a:rPr>
              <a:t>Anketni upitnik popunjavaju redovni studenti, sukladno nastavnom planu i programu za one nastavnike, asistente i vanjske suradnike čije su predmete odslušali u prethodnom semestru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5" descr="logo-final"/>
          <p:cNvPicPr/>
          <p:nvPr/>
        </p:nvPicPr>
        <p:blipFill>
          <a:blip r:embed="rId1"/>
          <a:stretch/>
        </p:blipFill>
        <p:spPr>
          <a:xfrm>
            <a:off x="0" y="0"/>
            <a:ext cx="1155600" cy="1006560"/>
          </a:xfrm>
          <a:prstGeom prst="rect">
            <a:avLst/>
          </a:prstGeom>
          <a:ln w="0">
            <a:noFill/>
          </a:ln>
        </p:spPr>
      </p:pic>
      <p:sp>
        <p:nvSpPr>
          <p:cNvPr id="569" name="Date Placeholder 2"/>
          <p:cNvSpPr/>
          <p:nvPr/>
        </p:nvSpPr>
        <p:spPr>
          <a:xfrm>
            <a:off x="457200" y="528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F6D2-B864-482E-82CD-1CCD64AD60E7}" type="datetime">
              <a:rPr b="0" lang="hr-HR" sz="1000" spc="-1" strike="noStrike">
                <a:solidFill>
                  <a:srgbClr val="000514"/>
                </a:solidFill>
                <a:latin typeface="Arial"/>
              </a:rPr>
              <a:t>31.07.26</a:t>
            </a:fld>
            <a:r>
              <a:rPr b="0" lang="hr-HR" sz="1000" spc="-1" strike="noStrike">
                <a:solidFill>
                  <a:srgbClr val="000514"/>
                </a:solidFill>
                <a:latin typeface="Arial"/>
              </a:rPr>
              <a:t> </a:t>
            </a:r>
            <a:fld id="{CABFDBCD-4D95-4BF1-908E-24620F053ACF}" type="datetime10">
              <a:rPr b="0" lang="hr-HR" sz="1000" spc="-1" strike="noStrike">
                <a:solidFill>
                  <a:srgbClr val="000514"/>
                </a:solidFill>
                <a:latin typeface="Arial"/>
              </a:rPr>
              <a:t>06:42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7924680" y="528624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E9DA-8B8E-4242-BE21-63594D2C38E7}" type="slidenum">
              <a:rPr b="0" lang="en-US" sz="10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1" name="Rectangle 14"/>
          <p:cNvSpPr/>
          <p:nvPr/>
        </p:nvSpPr>
        <p:spPr>
          <a:xfrm>
            <a:off x="3143160" y="5478480"/>
            <a:ext cx="28576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514"/>
                </a:solidFill>
                <a:latin typeface="Garamond"/>
              </a:rPr>
              <a:t>Dr. sc. Sarajko BAKSA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71720" y="785520"/>
            <a:ext cx="757224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99"/>
                </a:solidFill>
                <a:latin typeface="Garamond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Studentska procjena vrijednosti nastave i nastavnika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3" name="Title 1"/>
          <p:cNvSpPr/>
          <p:nvPr/>
        </p:nvSpPr>
        <p:spPr>
          <a:xfrm>
            <a:off x="357120" y="1714680"/>
            <a:ext cx="842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99"/>
                </a:solidFill>
                <a:latin typeface="Garamond"/>
              </a:rPr>
              <a:t>    </a:t>
            </a:r>
            <a:r>
              <a:rPr b="1" lang="hr-HR" sz="2000" spc="-1" strike="noStrike">
                <a:solidFill>
                  <a:srgbClr val="003399"/>
                </a:solidFill>
                <a:latin typeface="Garamond"/>
              </a:rPr>
              <a:t>Svrha ovog anketnog djelovanja su informacije koje opisuju kvalitetu nastave i kvalitetu rada svakog pojedinog nastavnika, u cilju poboljšanja razine nastavnog sadržaja i unapređenja nivoa rada nastavnog osoblj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Title 1"/>
          <p:cNvSpPr/>
          <p:nvPr/>
        </p:nvSpPr>
        <p:spPr>
          <a:xfrm>
            <a:off x="357120" y="2928960"/>
            <a:ext cx="84297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99"/>
                </a:solidFill>
                <a:latin typeface="Garamond"/>
              </a:rPr>
              <a:t>    </a:t>
            </a:r>
            <a:r>
              <a:rPr b="1" lang="hr-HR" sz="2000" spc="-1" strike="noStrike">
                <a:solidFill>
                  <a:srgbClr val="003399"/>
                </a:solidFill>
                <a:latin typeface="Garamond"/>
              </a:rPr>
              <a:t>Anketni upitnik popunjavaju redovni studenti, sukladno nastavnom planu i programu za one nastavnike, asistente i vanjske suradnike čije su predmete odslušali u prethodnom semestru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5" name="Title 1"/>
          <p:cNvSpPr/>
          <p:nvPr/>
        </p:nvSpPr>
        <p:spPr>
          <a:xfrm>
            <a:off x="357120" y="4143240"/>
            <a:ext cx="84297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99"/>
                </a:solidFill>
                <a:latin typeface="Garamond"/>
              </a:rPr>
              <a:t>    </a:t>
            </a:r>
            <a:r>
              <a:rPr b="1" lang="hr-HR" sz="2000" spc="-1" strike="noStrike">
                <a:solidFill>
                  <a:srgbClr val="003399"/>
                </a:solidFill>
                <a:latin typeface="Garamond"/>
              </a:rPr>
              <a:t>Unos, obrada i analiza podataka, obavlja se pomoću računala, uz korištenje programskog aplikacijskog rješenja epn</a:t>
            </a:r>
            <a:r>
              <a:rPr b="1" lang="hr-HR" sz="2000" spc="-1" strike="noStrike" baseline="30000">
                <a:solidFill>
                  <a:srgbClr val="003399"/>
                </a:solidFill>
                <a:latin typeface="Garamond"/>
              </a:rPr>
              <a:t>2</a:t>
            </a:r>
            <a:r>
              <a:rPr b="1" lang="hr-HR" sz="2000" spc="-1" strike="noStrike">
                <a:solidFill>
                  <a:srgbClr val="003399"/>
                </a:solidFill>
                <a:latin typeface="Garamond"/>
              </a:rPr>
              <a:t>s</a:t>
            </a:r>
            <a:r>
              <a:rPr b="1" lang="hr-HR" sz="2000" spc="-1" strike="noStrike" baseline="30000">
                <a:solidFill>
                  <a:srgbClr val="003399"/>
                </a:solidFill>
                <a:latin typeface="Garamond"/>
              </a:rPr>
              <a:t>2</a:t>
            </a:r>
            <a:r>
              <a:rPr b="1" lang="hr-HR" sz="2000" spc="-1" strike="noStrike">
                <a:solidFill>
                  <a:srgbClr val="003399"/>
                </a:solidFill>
                <a:latin typeface="Garamond"/>
              </a:rPr>
              <a:t>SABA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5" descr="logo-final"/>
          <p:cNvPicPr/>
          <p:nvPr/>
        </p:nvPicPr>
        <p:blipFill>
          <a:blip r:embed="rId1"/>
          <a:stretch/>
        </p:blipFill>
        <p:spPr>
          <a:xfrm>
            <a:off x="0" y="0"/>
            <a:ext cx="1155600" cy="1006560"/>
          </a:xfrm>
          <a:prstGeom prst="rect">
            <a:avLst/>
          </a:prstGeom>
          <a:ln w="0">
            <a:noFill/>
          </a:ln>
        </p:spPr>
      </p:pic>
      <p:sp>
        <p:nvSpPr>
          <p:cNvPr id="577" name="Date Placeholder 2"/>
          <p:cNvSpPr/>
          <p:nvPr/>
        </p:nvSpPr>
        <p:spPr>
          <a:xfrm>
            <a:off x="457200" y="528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9D32-1D15-4C05-B639-8763B30568AA}" type="datetime">
              <a:rPr b="0" lang="hr-HR" sz="1000" spc="-1" strike="noStrike">
                <a:solidFill>
                  <a:srgbClr val="000514"/>
                </a:solidFill>
                <a:latin typeface="Arial"/>
              </a:rPr>
              <a:t>31.07.26</a:t>
            </a:fld>
            <a:r>
              <a:rPr b="0" lang="hr-HR" sz="1000" spc="-1" strike="noStrike">
                <a:solidFill>
                  <a:srgbClr val="000514"/>
                </a:solidFill>
                <a:latin typeface="Arial"/>
              </a:rPr>
              <a:t> </a:t>
            </a:r>
            <a:fld id="{EF468505-65AD-4A6B-8F47-E6B7937EA90D}" type="datetime10">
              <a:rPr b="0" lang="hr-HR" sz="1000" spc="-1" strike="noStrike">
                <a:solidFill>
                  <a:srgbClr val="000514"/>
                </a:solidFill>
                <a:latin typeface="Arial"/>
              </a:rPr>
              <a:t>06:42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7924680" y="528624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04C5-4500-411B-835E-2A36200D0D4D}" type="slidenum">
              <a:rPr b="0" lang="en-US" sz="10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9" name="Rectangle 14"/>
          <p:cNvSpPr/>
          <p:nvPr/>
        </p:nvSpPr>
        <p:spPr>
          <a:xfrm>
            <a:off x="3143160" y="5478480"/>
            <a:ext cx="28576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514"/>
                </a:solidFill>
                <a:latin typeface="Garamond"/>
              </a:rPr>
              <a:t>Dr. sc. Sarajko BAKSA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57120" y="4429080"/>
            <a:ext cx="38577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99"/>
                </a:solidFill>
                <a:latin typeface="Garamond"/>
              </a:rPr>
              <a:t>Anketni list za procjenu nastavnika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581" name="Picture 7" descr="Obrazac 01.jpg"/>
          <p:cNvPicPr/>
          <p:nvPr/>
        </p:nvPicPr>
        <p:blipFill>
          <a:blip r:embed="rId2"/>
          <a:stretch/>
        </p:blipFill>
        <p:spPr>
          <a:xfrm>
            <a:off x="4572000" y="341280"/>
            <a:ext cx="3584520" cy="50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5" descr="logo-final"/>
          <p:cNvPicPr/>
          <p:nvPr/>
        </p:nvPicPr>
        <p:blipFill>
          <a:blip r:embed="rId1"/>
          <a:stretch/>
        </p:blipFill>
        <p:spPr>
          <a:xfrm>
            <a:off x="0" y="0"/>
            <a:ext cx="1155600" cy="1006560"/>
          </a:xfrm>
          <a:prstGeom prst="rect">
            <a:avLst/>
          </a:prstGeom>
          <a:ln w="0">
            <a:noFill/>
          </a:ln>
        </p:spPr>
      </p:pic>
      <p:sp>
        <p:nvSpPr>
          <p:cNvPr id="583" name="Date Placeholder 2"/>
          <p:cNvSpPr/>
          <p:nvPr/>
        </p:nvSpPr>
        <p:spPr>
          <a:xfrm>
            <a:off x="457200" y="528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A07F-82BD-4D63-90BD-7EF175E4E44C}" type="datetime">
              <a:rPr b="0" lang="hr-HR" sz="1000" spc="-1" strike="noStrike">
                <a:solidFill>
                  <a:srgbClr val="000514"/>
                </a:solidFill>
                <a:latin typeface="Arial"/>
              </a:rPr>
              <a:t>31.07.26</a:t>
            </a:fld>
            <a:r>
              <a:rPr b="0" lang="hr-HR" sz="1000" spc="-1" strike="noStrike">
                <a:solidFill>
                  <a:srgbClr val="000514"/>
                </a:solidFill>
                <a:latin typeface="Arial"/>
              </a:rPr>
              <a:t> </a:t>
            </a:r>
            <a:fld id="{F61F88AE-9CFB-446D-B28B-3EAFC55D9A7B}" type="datetime10">
              <a:rPr b="0" lang="hr-HR" sz="1000" spc="-1" strike="noStrike">
                <a:solidFill>
                  <a:srgbClr val="000514"/>
                </a:solidFill>
                <a:latin typeface="Arial"/>
              </a:rPr>
              <a:t>06:42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7924680" y="528624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2296-03F7-4231-A5F9-47A33081B84E}" type="slidenum">
              <a:rPr b="0" lang="en-US" sz="10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Rectangle 14"/>
          <p:cNvSpPr/>
          <p:nvPr/>
        </p:nvSpPr>
        <p:spPr>
          <a:xfrm>
            <a:off x="3143160" y="5478480"/>
            <a:ext cx="28576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514"/>
                </a:solidFill>
                <a:latin typeface="Garamond"/>
              </a:rPr>
              <a:t>Dr. sc. Sarajko BAKSA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285840" y="1143000"/>
          <a:ext cx="8572320" cy="3927600"/>
        </p:xfrm>
        <a:graphic>
          <a:graphicData uri="http://schemas.openxmlformats.org/drawingml/2006/table">
            <a:tbl>
              <a:tblPr/>
              <a:tblGrid>
                <a:gridCol w="342720"/>
                <a:gridCol w="317520"/>
                <a:gridCol w="298440"/>
                <a:gridCol w="284400"/>
                <a:gridCol w="4614840"/>
                <a:gridCol w="714240"/>
                <a:gridCol w="642960"/>
                <a:gridCol w="642960"/>
                <a:gridCol w="714240"/>
              </a:tblGrid>
              <a:tr h="262080">
                <a:tc gridSpan="7">
                  <a:txBody>
                    <a:bodyPr lIns="64080" rIns="640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. 1. Prosječne vrijednosti procjena na 12 tvrdnji vezanih uz rad nastavn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64080" marR="64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64080" marR="64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080" rIns="640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64080" marR="64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64080" rIns="640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64080" marR="64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64080" marR="64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64080" marR="64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64080" marR="64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64080" marR="64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64080" marR="64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64080" marR="64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64080" marR="64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64080" marR="64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 gridSpan="5">
                  <a:txBody>
                    <a:bodyPr lIns="64080" rIns="640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p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.d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r. proc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 gridSpan="5"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roz nastavu pokazuje dobro poznavanje sadržaja kolegija, a na studente djeluje motivirajuć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 gridSpan="5"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 postavljena pitanja odgovara stručno i spremn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 gridSpan="5"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valitetnim primjerima i zadacima olakšava razumijevanje sadržaj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 gridSpan="5"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okventno i razumljivo izlaže demonstrirane nastavne sadržaj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 gridSpan="5"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asno definira ciljeve kolegija i ono što očekuje od studena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 gridSpan="5"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stava je zanimljiva, dinamična i nije čitan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 gridSpan="5"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porabom nastavnih pomagala i suvremene tehnologije podiže kvalitetu nastav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 gridSpan="5"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ma vrsne komunikacijske vještine, a izlazom unutar auditorija stvara ugodnu radnu atmosferu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 gridSpan="5"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ma studentima se odnosi korektno i s poštovanje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gridSpan="5"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pontan i susretljiv za konzultacije i naknadnu pomo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 gridSpan="5"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stavu održava redovito i na vrijem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 gridSpan="5"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oju biste opću ocjenu dali ovom nastavniku/nastavnici u cjelini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 gridSpan="9"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 = aritmetička sredina;  s.d. = standardna devijacija,  mod = dominantna (najčešća) vrijedno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080" marR="64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5" descr="logo-final"/>
          <p:cNvPicPr/>
          <p:nvPr/>
        </p:nvPicPr>
        <p:blipFill>
          <a:blip r:embed="rId1"/>
          <a:stretch/>
        </p:blipFill>
        <p:spPr>
          <a:xfrm>
            <a:off x="0" y="0"/>
            <a:ext cx="1155600" cy="1006560"/>
          </a:xfrm>
          <a:prstGeom prst="rect">
            <a:avLst/>
          </a:prstGeom>
          <a:ln w="0">
            <a:noFill/>
          </a:ln>
        </p:spPr>
      </p:pic>
      <p:sp>
        <p:nvSpPr>
          <p:cNvPr id="588" name="Date Placeholder 2"/>
          <p:cNvSpPr/>
          <p:nvPr/>
        </p:nvSpPr>
        <p:spPr>
          <a:xfrm>
            <a:off x="457200" y="528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B0FB-3DC4-40D9-AC07-BB504E2CFEBE}" type="datetime">
              <a:rPr b="0" lang="hr-HR" sz="1000" spc="-1" strike="noStrike">
                <a:solidFill>
                  <a:srgbClr val="000514"/>
                </a:solidFill>
                <a:latin typeface="Arial"/>
              </a:rPr>
              <a:t>31.07.26</a:t>
            </a:fld>
            <a:r>
              <a:rPr b="0" lang="hr-HR" sz="1000" spc="-1" strike="noStrike">
                <a:solidFill>
                  <a:srgbClr val="000514"/>
                </a:solidFill>
                <a:latin typeface="Arial"/>
              </a:rPr>
              <a:t> </a:t>
            </a:r>
            <a:fld id="{D4DB21DB-E5E0-4C67-B2B2-33BD566C1237}" type="datetime10">
              <a:rPr b="0" lang="hr-HR" sz="1000" spc="-1" strike="noStrike">
                <a:solidFill>
                  <a:srgbClr val="000514"/>
                </a:solidFill>
                <a:latin typeface="Arial"/>
              </a:rPr>
              <a:t>06:42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7924680" y="528624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51CA-B96F-4AB8-885B-F115C8DEA4CE}" type="slidenum">
              <a:rPr b="0" lang="en-US" sz="10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0" name="Rectangle 14"/>
          <p:cNvSpPr/>
          <p:nvPr/>
        </p:nvSpPr>
        <p:spPr>
          <a:xfrm>
            <a:off x="3143160" y="5478480"/>
            <a:ext cx="28576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514"/>
                </a:solidFill>
                <a:latin typeface="Garamond"/>
              </a:rPr>
              <a:t>Dr. sc. Sarajko BAKSA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357120" y="2055960"/>
          <a:ext cx="8501040" cy="1317600"/>
        </p:xfrm>
        <a:graphic>
          <a:graphicData uri="http://schemas.openxmlformats.org/drawingml/2006/table">
            <a:tbl>
              <a:tblPr/>
              <a:tblGrid>
                <a:gridCol w="1125720"/>
                <a:gridCol w="244440"/>
                <a:gridCol w="237960"/>
                <a:gridCol w="236520"/>
                <a:gridCol w="1084320"/>
                <a:gridCol w="1143000"/>
                <a:gridCol w="1071720"/>
                <a:gridCol w="1071360"/>
                <a:gridCol w="1143000"/>
                <a:gridCol w="1143000"/>
              </a:tblGrid>
              <a:tr h="245880">
                <a:tc gridSpan="9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. 2. Čestina odabira pojedine ocjene pri procjeni ukupnog rada nastavn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 gridSpan="5"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pi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nedovolj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 dovolj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 dob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 vrlodob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 izvrst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oju biste opću ocjenu dali ovo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stavniku/nastavnici u cjelini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,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4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8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5" descr="logo-final"/>
          <p:cNvPicPr/>
          <p:nvPr/>
        </p:nvPicPr>
        <p:blipFill>
          <a:blip r:embed="rId1"/>
          <a:stretch/>
        </p:blipFill>
        <p:spPr>
          <a:xfrm>
            <a:off x="0" y="0"/>
            <a:ext cx="1155600" cy="1006560"/>
          </a:xfrm>
          <a:prstGeom prst="rect">
            <a:avLst/>
          </a:prstGeom>
          <a:ln w="0">
            <a:noFill/>
          </a:ln>
        </p:spPr>
      </p:pic>
      <p:sp>
        <p:nvSpPr>
          <p:cNvPr id="593" name="Date Placeholder 2"/>
          <p:cNvSpPr/>
          <p:nvPr/>
        </p:nvSpPr>
        <p:spPr>
          <a:xfrm>
            <a:off x="457200" y="528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4E08-1C0B-4BB9-83C8-68CFF7A3ED18}" type="datetime">
              <a:rPr b="0" lang="hr-HR" sz="1000" spc="-1" strike="noStrike">
                <a:solidFill>
                  <a:srgbClr val="000514"/>
                </a:solidFill>
                <a:latin typeface="Arial"/>
              </a:rPr>
              <a:t>31.07.26</a:t>
            </a:fld>
            <a:r>
              <a:rPr b="0" lang="hr-HR" sz="1000" spc="-1" strike="noStrike">
                <a:solidFill>
                  <a:srgbClr val="000514"/>
                </a:solidFill>
                <a:latin typeface="Arial"/>
              </a:rPr>
              <a:t> </a:t>
            </a:r>
            <a:fld id="{9E9A9180-2317-4C8B-BCB9-ACA3C8459248}" type="datetime10">
              <a:rPr b="0" lang="hr-HR" sz="1000" spc="-1" strike="noStrike">
                <a:solidFill>
                  <a:srgbClr val="000514"/>
                </a:solidFill>
                <a:latin typeface="Arial"/>
              </a:rPr>
              <a:t>06:42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7924680" y="528624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1DEE-F204-4753-AFB6-3E30328E8C7A}" type="slidenum">
              <a:rPr b="0" lang="en-US" sz="10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5" name="Rectangle 14"/>
          <p:cNvSpPr/>
          <p:nvPr/>
        </p:nvSpPr>
        <p:spPr>
          <a:xfrm>
            <a:off x="3143160" y="5478480"/>
            <a:ext cx="28576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514"/>
                </a:solidFill>
                <a:latin typeface="Garamond"/>
              </a:rPr>
              <a:t>Dr. sc. Sarajko BAKSA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57120" y="928800"/>
            <a:ext cx="842976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99"/>
                </a:solidFill>
                <a:latin typeface="Garamond"/>
              </a:rPr>
              <a:t>    </a:t>
            </a:r>
            <a:r>
              <a:rPr b="1" lang="hr-HR" sz="2000" spc="-1" strike="noStrike">
                <a:solidFill>
                  <a:srgbClr val="003399"/>
                </a:solidFill>
                <a:latin typeface="Garamond"/>
              </a:rPr>
              <a:t>Plan djelovanja radne jedinice za osiguranje kvalitete, Međimurskog veleučilišta u Čakovcu, u narednom razdoblju je u potpunosti uskladiti i provesti unutarnju prosudbu sa I. dijelom Standarda i smjernica za osiguranje kvalitete kako to propisuje Europski prostor visokog obrazovanja, što će rezultirati izradom funkcionalnog, jasno razumljivog i u praksi primjenjivog Priručnika za unaprjeđenje i osiguranje kvalitete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5" descr="logo-final"/>
          <p:cNvPicPr/>
          <p:nvPr/>
        </p:nvPicPr>
        <p:blipFill>
          <a:blip r:embed="rId1"/>
          <a:stretch/>
        </p:blipFill>
        <p:spPr>
          <a:xfrm>
            <a:off x="0" y="0"/>
            <a:ext cx="1155600" cy="1006560"/>
          </a:xfrm>
          <a:prstGeom prst="rect">
            <a:avLst/>
          </a:prstGeom>
          <a:ln w="0">
            <a:noFill/>
          </a:ln>
        </p:spPr>
      </p:pic>
      <p:sp>
        <p:nvSpPr>
          <p:cNvPr id="598" name="Date Placeholder 2"/>
          <p:cNvSpPr/>
          <p:nvPr/>
        </p:nvSpPr>
        <p:spPr>
          <a:xfrm>
            <a:off x="457200" y="528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0E3D-8510-40E2-8442-2A1899FFED1E}" type="datetime">
              <a:rPr b="0" lang="hr-HR" sz="1000" spc="-1" strike="noStrike">
                <a:solidFill>
                  <a:srgbClr val="000514"/>
                </a:solidFill>
                <a:latin typeface="Arial"/>
              </a:rPr>
              <a:t>31.07.26</a:t>
            </a:fld>
            <a:r>
              <a:rPr b="0" lang="hr-HR" sz="1000" spc="-1" strike="noStrike">
                <a:solidFill>
                  <a:srgbClr val="000514"/>
                </a:solidFill>
                <a:latin typeface="Arial"/>
              </a:rPr>
              <a:t> </a:t>
            </a:r>
            <a:fld id="{42222DB6-31BD-45BB-8463-93B2C43850AA}" type="datetime10">
              <a:rPr b="0" lang="hr-HR" sz="1000" spc="-1" strike="noStrike">
                <a:solidFill>
                  <a:srgbClr val="000514"/>
                </a:solidFill>
                <a:latin typeface="Arial"/>
              </a:rPr>
              <a:t>06:42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7924680" y="528624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1F01-AC64-42EA-A563-6CDD0ED2F901}" type="slidenum">
              <a:rPr b="0" lang="en-US" sz="10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0" name="Rectangle 14"/>
          <p:cNvSpPr/>
          <p:nvPr/>
        </p:nvSpPr>
        <p:spPr>
          <a:xfrm>
            <a:off x="3143160" y="5478480"/>
            <a:ext cx="28576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514"/>
                </a:solidFill>
                <a:latin typeface="Garamond"/>
              </a:rPr>
              <a:t>Dr. sc. Sarajko BAKSA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57120" y="928800"/>
            <a:ext cx="842976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99"/>
                </a:solidFill>
                <a:latin typeface="Garamond"/>
              </a:rPr>
              <a:t>    </a:t>
            </a:r>
            <a:r>
              <a:rPr b="1" lang="hr-HR" sz="2000" spc="-1" strike="noStrike">
                <a:solidFill>
                  <a:srgbClr val="003399"/>
                </a:solidFill>
                <a:latin typeface="Garamond"/>
              </a:rPr>
              <a:t>Plan djelovanja radne jedinice za osiguranje kvalitete, Međimurskog veleučilišta u Čakovcu, u narednom razdoblju je u potpunosti uskladiti i provesti unutarnju prosudbu sa I. dijelom Standarda i smjernica za osiguranje kvalitete kako to propisuje Europski prostor visokog obrazovanja, što će rezultirati izradom funkcionalnog, jasno razumljivog i u praksi primjenjivog Priručnika za unaprjeđenje i osiguranje kvalitete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2" name="Title 1"/>
          <p:cNvSpPr/>
          <p:nvPr/>
        </p:nvSpPr>
        <p:spPr>
          <a:xfrm>
            <a:off x="357120" y="342900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99"/>
                </a:solidFill>
                <a:latin typeface="Garamond"/>
              </a:rPr>
              <a:t>    </a:t>
            </a:r>
            <a:r>
              <a:rPr b="1" lang="hr-HR" sz="2000" spc="-1" strike="noStrike">
                <a:solidFill>
                  <a:srgbClr val="003399"/>
                </a:solidFill>
                <a:latin typeface="Garamond"/>
              </a:rPr>
              <a:t>Cilj izrade predmetnog Priručnika je mogućnost osiguranja permanentnog monitoringa raznovrsnih pokazatelja kvalitete, te povratnim aktivnostima djelovati u smjeru mogućih poboljšanja i potrebnih unapređenj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5" descr="logo-final"/>
          <p:cNvPicPr/>
          <p:nvPr/>
        </p:nvPicPr>
        <p:blipFill>
          <a:blip r:embed="rId1"/>
          <a:stretch/>
        </p:blipFill>
        <p:spPr>
          <a:xfrm>
            <a:off x="0" y="0"/>
            <a:ext cx="1155600" cy="1006560"/>
          </a:xfrm>
          <a:prstGeom prst="rect">
            <a:avLst/>
          </a:prstGeom>
          <a:ln w="0">
            <a:noFill/>
          </a:ln>
        </p:spPr>
      </p:pic>
      <p:sp>
        <p:nvSpPr>
          <p:cNvPr id="604" name="Date Placeholder 2"/>
          <p:cNvSpPr/>
          <p:nvPr/>
        </p:nvSpPr>
        <p:spPr>
          <a:xfrm>
            <a:off x="457200" y="528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748B-9463-4691-8022-753FFBD65369}" type="datetime">
              <a:rPr b="0" lang="hr-HR" sz="1000" spc="-1" strike="noStrike">
                <a:solidFill>
                  <a:srgbClr val="000514"/>
                </a:solidFill>
                <a:latin typeface="Arial"/>
              </a:rPr>
              <a:t>31.07.26</a:t>
            </a:fld>
            <a:r>
              <a:rPr b="0" lang="hr-HR" sz="1000" spc="-1" strike="noStrike">
                <a:solidFill>
                  <a:srgbClr val="000514"/>
                </a:solidFill>
                <a:latin typeface="Arial"/>
              </a:rPr>
              <a:t> </a:t>
            </a:r>
            <a:fld id="{2AF459BF-ED49-4FFE-B993-C3957CDD76DB}" type="datetime10">
              <a:rPr b="0" lang="hr-HR" sz="1000" spc="-1" strike="noStrike">
                <a:solidFill>
                  <a:srgbClr val="000514"/>
                </a:solidFill>
                <a:latin typeface="Arial"/>
              </a:rPr>
              <a:t>06:42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7924680" y="528624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778B-9946-471F-824B-81DAA22B9E66}" type="slidenum">
              <a:rPr b="0" lang="en-US" sz="10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Rectangle 14"/>
          <p:cNvSpPr/>
          <p:nvPr/>
        </p:nvSpPr>
        <p:spPr>
          <a:xfrm>
            <a:off x="3143160" y="5478480"/>
            <a:ext cx="28576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514"/>
                </a:solidFill>
                <a:latin typeface="Garamond"/>
              </a:rPr>
              <a:t>Dr. sc. Sarajko BAKSA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7" name="Title 1"/>
          <p:cNvSpPr/>
          <p:nvPr/>
        </p:nvSpPr>
        <p:spPr>
          <a:xfrm>
            <a:off x="357120" y="1785960"/>
            <a:ext cx="842976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99"/>
                </a:solidFill>
                <a:latin typeface="Garamond"/>
              </a:rPr>
              <a:t>    </a:t>
            </a:r>
            <a:r>
              <a:rPr b="1" lang="hr-HR" sz="4400" spc="-1" strike="noStrike">
                <a:solidFill>
                  <a:srgbClr val="003399"/>
                </a:solidFill>
                <a:latin typeface="Garamond"/>
              </a:rPr>
              <a:t>Zahvaljujem na pozornost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6" descr="DSC06209"/>
          <p:cNvPicPr/>
          <p:nvPr/>
        </p:nvPicPr>
        <p:blipFill>
          <a:blip r:embed="rId1"/>
          <a:stretch/>
        </p:blipFill>
        <p:spPr>
          <a:xfrm>
            <a:off x="-57240" y="-27000"/>
            <a:ext cx="9201240" cy="574200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8"/>
          <p:cNvSpPr/>
          <p:nvPr/>
        </p:nvSpPr>
        <p:spPr>
          <a:xfrm>
            <a:off x="3143160" y="5478480"/>
            <a:ext cx="28576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514"/>
                </a:solidFill>
                <a:latin typeface="Garamond"/>
              </a:rPr>
              <a:t>Dr. sc. Sarajko BAKSA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14240" y="14284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003399"/>
                </a:solidFill>
                <a:latin typeface="Cambria"/>
              </a:rPr>
              <a:t>MEĐIMURSKO        VELEUČILIŠTE </a:t>
            </a:r>
            <a:br>
              <a:rPr sz="6600"/>
            </a:br>
            <a:r>
              <a:rPr b="1" lang="hr-HR" sz="6600" spc="-1" strike="noStrike">
                <a:solidFill>
                  <a:srgbClr val="003399"/>
                </a:solidFill>
                <a:latin typeface="Cambria"/>
              </a:rPr>
              <a:t>U ČAKOVCU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515" name="Picture 5" descr="logo-final"/>
          <p:cNvPicPr/>
          <p:nvPr/>
        </p:nvPicPr>
        <p:blipFill>
          <a:blip r:embed="rId2"/>
          <a:stretch/>
        </p:blipFill>
        <p:spPr>
          <a:xfrm>
            <a:off x="0" y="0"/>
            <a:ext cx="115560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" descr="F:\Otvaranje ME VE\zupanija_slikala\veleuciliste-11.jpg"/>
          <p:cNvPicPr/>
          <p:nvPr/>
        </p:nvPicPr>
        <p:blipFill>
          <a:blip r:embed="rId1"/>
          <a:srcRect l="0" t="1173" r="0" b="5352"/>
          <a:stretch/>
        </p:blipFill>
        <p:spPr>
          <a:xfrm>
            <a:off x="0" y="0"/>
            <a:ext cx="9201240" cy="5715000"/>
          </a:xfrm>
          <a:prstGeom prst="rect">
            <a:avLst/>
          </a:prstGeom>
          <a:ln w="0">
            <a:noFill/>
          </a:ln>
        </p:spPr>
      </p:pic>
      <p:sp>
        <p:nvSpPr>
          <p:cNvPr id="517" name="Date Placeholder 2"/>
          <p:cNvSpPr/>
          <p:nvPr/>
        </p:nvSpPr>
        <p:spPr>
          <a:xfrm>
            <a:off x="457200" y="528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9674-5C18-467B-AF26-8BE332A6A54F}" type="datetime">
              <a:rPr b="0" lang="hr-HR" sz="1000" spc="-1" strike="noStrike">
                <a:solidFill>
                  <a:srgbClr val="000514"/>
                </a:solidFill>
                <a:latin typeface="Arial"/>
              </a:rPr>
              <a:t>31.07.26</a:t>
            </a:fld>
            <a:r>
              <a:rPr b="0" lang="hr-HR" sz="1000" spc="-1" strike="noStrike">
                <a:solidFill>
                  <a:srgbClr val="000514"/>
                </a:solidFill>
                <a:latin typeface="Arial"/>
              </a:rPr>
              <a:t> </a:t>
            </a:r>
            <a:fld id="{09915CF6-223A-4BAF-BD8C-9E25F4F59F19}" type="datetime10">
              <a:rPr b="0" lang="hr-HR" sz="1000" spc="-1" strike="noStrike">
                <a:solidFill>
                  <a:srgbClr val="000514"/>
                </a:solidFill>
                <a:latin typeface="Arial"/>
              </a:rPr>
              <a:t>06:42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7924680" y="528624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0CDB-6B1B-4ED1-85CA-DF6497E7FE3B}" type="slidenum">
              <a:rPr b="0" lang="en-US" sz="10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3143160" y="5478480"/>
            <a:ext cx="28576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514"/>
                </a:solidFill>
                <a:latin typeface="Garamond"/>
              </a:rPr>
              <a:t>Dr. sc. Sarajko BAKSA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14200" y="4357800"/>
            <a:ext cx="48578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3399"/>
                </a:solidFill>
                <a:latin typeface="Garamond"/>
              </a:rPr>
              <a:t>DAN VELEUČILIŠTA</a:t>
            </a:r>
            <a:br>
              <a:rPr sz="3600"/>
            </a:br>
            <a:r>
              <a:rPr b="1" lang="hr-HR" sz="3600" spc="-1" strike="noStrike">
                <a:solidFill>
                  <a:srgbClr val="003399"/>
                </a:solidFill>
                <a:latin typeface="Garamond"/>
              </a:rPr>
              <a:t>24. travnja 2009.</a:t>
            </a:r>
            <a:r>
              <a:rPr b="1" lang="hr-HR" sz="36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521" name="Picture 5" descr="logo-final"/>
          <p:cNvPicPr/>
          <p:nvPr/>
        </p:nvPicPr>
        <p:blipFill>
          <a:blip r:embed="rId2"/>
          <a:stretch/>
        </p:blipFill>
        <p:spPr>
          <a:xfrm>
            <a:off x="0" y="0"/>
            <a:ext cx="115560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5" descr="C:\Documents and Settings\prof_miroslav\Desktop\prezentacija_ministar\SLIKE\Medimursko Veleuciliste I 2009 (2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23" name="Date Placeholder 2"/>
          <p:cNvSpPr/>
          <p:nvPr/>
        </p:nvSpPr>
        <p:spPr>
          <a:xfrm>
            <a:off x="457200" y="528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B8EC-60CB-47DB-9494-B60F736367F5}" type="datetime">
              <a:rPr b="0" lang="hr-HR" sz="1000" spc="-1" strike="noStrike">
                <a:solidFill>
                  <a:srgbClr val="000514"/>
                </a:solidFill>
                <a:latin typeface="Arial"/>
              </a:rPr>
              <a:t>31.07.26</a:t>
            </a:fld>
            <a:r>
              <a:rPr b="0" lang="hr-HR" sz="1000" spc="-1" strike="noStrike">
                <a:solidFill>
                  <a:srgbClr val="000514"/>
                </a:solidFill>
                <a:latin typeface="Arial"/>
              </a:rPr>
              <a:t> </a:t>
            </a:r>
            <a:fld id="{F2B4F5EF-3B31-4892-A82A-252C77838D84}" type="datetime10">
              <a:rPr b="0" lang="hr-HR" sz="1000" spc="-1" strike="noStrike">
                <a:solidFill>
                  <a:srgbClr val="000514"/>
                </a:solidFill>
                <a:latin typeface="Arial"/>
              </a:rPr>
              <a:t>06:42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7924680" y="528624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CAD0-826C-45E1-8D55-00E7E5C3284A}" type="slidenum">
              <a:rPr b="0" lang="en-US" sz="10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3143160" y="5478480"/>
            <a:ext cx="28576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514"/>
                </a:solidFill>
                <a:latin typeface="Garamond"/>
              </a:rPr>
              <a:t>Dr. sc. Sarajko BAKSA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00760" y="476280"/>
            <a:ext cx="40003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3399"/>
                </a:solidFill>
                <a:latin typeface="Garamond"/>
              </a:rPr>
              <a:t>Naši prostori</a:t>
            </a:r>
            <a:r>
              <a:rPr b="1" lang="hr-HR" sz="36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527" name="Picture 5" descr="logo-final"/>
          <p:cNvPicPr/>
          <p:nvPr/>
        </p:nvPicPr>
        <p:blipFill>
          <a:blip r:embed="rId2"/>
          <a:stretch/>
        </p:blipFill>
        <p:spPr>
          <a:xfrm>
            <a:off x="0" y="0"/>
            <a:ext cx="115560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C:\Documents and Settings\prof_miroslav\Desktop\prezentacija_ministar\SLIKE\Medimursko Veleuciliste I 2009 (9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30840"/>
          </a:xfrm>
          <a:prstGeom prst="rect">
            <a:avLst/>
          </a:prstGeom>
          <a:ln w="0">
            <a:noFill/>
          </a:ln>
        </p:spPr>
      </p:pic>
      <p:sp>
        <p:nvSpPr>
          <p:cNvPr id="529" name="Date Placeholder 2"/>
          <p:cNvSpPr/>
          <p:nvPr/>
        </p:nvSpPr>
        <p:spPr>
          <a:xfrm>
            <a:off x="457200" y="528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6AE6-99D2-4596-91CF-BB559BDF5DF9}" type="datetime">
              <a:rPr b="0" lang="hr-HR" sz="1000" spc="-1" strike="noStrike">
                <a:solidFill>
                  <a:srgbClr val="000514"/>
                </a:solidFill>
                <a:latin typeface="Arial"/>
              </a:rPr>
              <a:t>31.07.26</a:t>
            </a:fld>
            <a:r>
              <a:rPr b="0" lang="hr-HR" sz="1000" spc="-1" strike="noStrike">
                <a:solidFill>
                  <a:srgbClr val="000514"/>
                </a:solidFill>
                <a:latin typeface="Arial"/>
              </a:rPr>
              <a:t> </a:t>
            </a:r>
            <a:fld id="{AE17C5F7-4734-42CD-B9C9-76A4079B8D9D}" type="datetime10">
              <a:rPr b="0" lang="hr-HR" sz="1000" spc="-1" strike="noStrike">
                <a:solidFill>
                  <a:srgbClr val="000514"/>
                </a:solidFill>
                <a:latin typeface="Arial"/>
              </a:rPr>
              <a:t>06:42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528624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F8F9-1109-402E-A694-726F0CEA310C}" type="slidenum">
              <a:rPr b="0" lang="en-US" sz="10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143160" y="5478480"/>
            <a:ext cx="28576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514"/>
                </a:solidFill>
                <a:latin typeface="Garamond"/>
              </a:rPr>
              <a:t>Dr. sc. Sarajko BAKSA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2" name="Picture 5" descr="logo-final"/>
          <p:cNvPicPr/>
          <p:nvPr/>
        </p:nvPicPr>
        <p:blipFill>
          <a:blip r:embed="rId2"/>
          <a:stretch/>
        </p:blipFill>
        <p:spPr>
          <a:xfrm>
            <a:off x="0" y="0"/>
            <a:ext cx="1155600" cy="100656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856880" y="4572000"/>
            <a:ext cx="40006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3399"/>
                </a:solidFill>
                <a:latin typeface="Garamond"/>
              </a:rPr>
              <a:t>Naši studenti</a:t>
            </a:r>
            <a:r>
              <a:rPr b="1" lang="hr-HR" sz="36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5" descr="logo-final"/>
          <p:cNvPicPr/>
          <p:nvPr/>
        </p:nvPicPr>
        <p:blipFill>
          <a:blip r:embed="rId1"/>
          <a:stretch/>
        </p:blipFill>
        <p:spPr>
          <a:xfrm>
            <a:off x="0" y="0"/>
            <a:ext cx="1155600" cy="1006560"/>
          </a:xfrm>
          <a:prstGeom prst="rect">
            <a:avLst/>
          </a:prstGeom>
          <a:ln w="0">
            <a:noFill/>
          </a:ln>
        </p:spPr>
      </p:pic>
      <p:sp>
        <p:nvSpPr>
          <p:cNvPr id="535" name="Date Placeholder 2"/>
          <p:cNvSpPr/>
          <p:nvPr/>
        </p:nvSpPr>
        <p:spPr>
          <a:xfrm>
            <a:off x="457200" y="528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B51C-5491-4357-8507-264A0A326564}" type="datetime">
              <a:rPr b="0" lang="hr-HR" sz="1000" spc="-1" strike="noStrike">
                <a:solidFill>
                  <a:srgbClr val="000514"/>
                </a:solidFill>
                <a:latin typeface="Arial"/>
              </a:rPr>
              <a:t>31.07.26</a:t>
            </a:fld>
            <a:r>
              <a:rPr b="0" lang="hr-HR" sz="1000" spc="-1" strike="noStrike">
                <a:solidFill>
                  <a:srgbClr val="000514"/>
                </a:solidFill>
                <a:latin typeface="Arial"/>
              </a:rPr>
              <a:t> </a:t>
            </a:r>
            <a:fld id="{7E02C61C-BBF9-48CC-A627-95F8AC6ED96D}" type="datetime10">
              <a:rPr b="0" lang="hr-HR" sz="1000" spc="-1" strike="noStrike">
                <a:solidFill>
                  <a:srgbClr val="000514"/>
                </a:solidFill>
                <a:latin typeface="Arial"/>
              </a:rPr>
              <a:t>06:42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7924680" y="528624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232E-4C70-429E-BE1E-11A342D39DD7}" type="slidenum">
              <a:rPr b="0" lang="en-US" sz="10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Rectangle 14"/>
          <p:cNvSpPr/>
          <p:nvPr/>
        </p:nvSpPr>
        <p:spPr>
          <a:xfrm>
            <a:off x="3143160" y="5478480"/>
            <a:ext cx="28576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514"/>
                </a:solidFill>
                <a:latin typeface="Garamond"/>
              </a:rPr>
              <a:t>Dr. sc. Sarajko BAKSA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14200" y="1476360"/>
            <a:ext cx="8715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3399"/>
                </a:solidFill>
                <a:latin typeface="Garamond"/>
              </a:rPr>
              <a:t>Razvoj kulture kvalitete</a:t>
            </a:r>
            <a:r>
              <a:rPr b="1" lang="hr-HR" sz="36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5" descr="logo-final"/>
          <p:cNvPicPr/>
          <p:nvPr/>
        </p:nvPicPr>
        <p:blipFill>
          <a:blip r:embed="rId1"/>
          <a:stretch/>
        </p:blipFill>
        <p:spPr>
          <a:xfrm>
            <a:off x="0" y="0"/>
            <a:ext cx="1155600" cy="1006560"/>
          </a:xfrm>
          <a:prstGeom prst="rect">
            <a:avLst/>
          </a:prstGeom>
          <a:ln w="0">
            <a:noFill/>
          </a:ln>
        </p:spPr>
      </p:pic>
      <p:sp>
        <p:nvSpPr>
          <p:cNvPr id="540" name="Date Placeholder 2"/>
          <p:cNvSpPr/>
          <p:nvPr/>
        </p:nvSpPr>
        <p:spPr>
          <a:xfrm>
            <a:off x="457200" y="528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C8B9-BE16-445A-9F2B-D7D650665751}" type="datetime">
              <a:rPr b="0" lang="hr-HR" sz="1000" spc="-1" strike="noStrike">
                <a:solidFill>
                  <a:srgbClr val="000514"/>
                </a:solidFill>
                <a:latin typeface="Arial"/>
              </a:rPr>
              <a:t>31.07.26</a:t>
            </a:fld>
            <a:r>
              <a:rPr b="0" lang="hr-HR" sz="1000" spc="-1" strike="noStrike">
                <a:solidFill>
                  <a:srgbClr val="000514"/>
                </a:solidFill>
                <a:latin typeface="Arial"/>
              </a:rPr>
              <a:t> </a:t>
            </a:r>
            <a:fld id="{C08A276D-B51E-46F9-A226-C670794B480F}" type="datetime10">
              <a:rPr b="0" lang="hr-HR" sz="1000" spc="-1" strike="noStrike">
                <a:solidFill>
                  <a:srgbClr val="000514"/>
                </a:solidFill>
                <a:latin typeface="Arial"/>
              </a:rPr>
              <a:t>06:42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7924680" y="528624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63A0-E5BD-4C29-A968-8711EDCB060F}" type="slidenum">
              <a:rPr b="0" lang="en-US" sz="10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3143160" y="5478480"/>
            <a:ext cx="28576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514"/>
                </a:solidFill>
                <a:latin typeface="Garamond"/>
              </a:rPr>
              <a:t>Dr. sc. Sarajko BAKSA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3" name="Picture 7" descr="Odluka.jpg"/>
          <p:cNvPicPr/>
          <p:nvPr/>
        </p:nvPicPr>
        <p:blipFill>
          <a:blip r:embed="rId2"/>
          <a:srcRect l="0" t="0" r="0" b="32499"/>
          <a:stretch/>
        </p:blipFill>
        <p:spPr>
          <a:xfrm>
            <a:off x="1765440" y="142920"/>
            <a:ext cx="559260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5" descr="logo-final"/>
          <p:cNvPicPr/>
          <p:nvPr/>
        </p:nvPicPr>
        <p:blipFill>
          <a:blip r:embed="rId1"/>
          <a:stretch/>
        </p:blipFill>
        <p:spPr>
          <a:xfrm>
            <a:off x="0" y="0"/>
            <a:ext cx="1155600" cy="1006560"/>
          </a:xfrm>
          <a:prstGeom prst="rect">
            <a:avLst/>
          </a:prstGeom>
          <a:ln w="0">
            <a:noFill/>
          </a:ln>
        </p:spPr>
      </p:pic>
      <p:sp>
        <p:nvSpPr>
          <p:cNvPr id="545" name="Date Placeholder 2"/>
          <p:cNvSpPr/>
          <p:nvPr/>
        </p:nvSpPr>
        <p:spPr>
          <a:xfrm>
            <a:off x="457200" y="528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B0A2-81FA-4DD5-B558-878F6AE51C5D}" type="datetime">
              <a:rPr b="0" lang="hr-HR" sz="1000" spc="-1" strike="noStrike">
                <a:solidFill>
                  <a:srgbClr val="000514"/>
                </a:solidFill>
                <a:latin typeface="Arial"/>
              </a:rPr>
              <a:t>31.07.26</a:t>
            </a:fld>
            <a:r>
              <a:rPr b="0" lang="hr-HR" sz="1000" spc="-1" strike="noStrike">
                <a:solidFill>
                  <a:srgbClr val="000514"/>
                </a:solidFill>
                <a:latin typeface="Arial"/>
              </a:rPr>
              <a:t> </a:t>
            </a:r>
            <a:fld id="{87400EAB-FD72-467D-BFED-836BD84A1E91}" type="datetime10">
              <a:rPr b="0" lang="hr-HR" sz="1000" spc="-1" strike="noStrike">
                <a:solidFill>
                  <a:srgbClr val="000514"/>
                </a:solidFill>
                <a:latin typeface="Arial"/>
              </a:rPr>
              <a:t>06:42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7924680" y="528624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D54B-057A-413B-930A-1BF20DBC597F}" type="slidenum">
              <a:rPr b="0" lang="en-US" sz="10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Rectangle 14"/>
          <p:cNvSpPr/>
          <p:nvPr/>
        </p:nvSpPr>
        <p:spPr>
          <a:xfrm>
            <a:off x="3143160" y="5478480"/>
            <a:ext cx="28576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514"/>
                </a:solidFill>
                <a:latin typeface="Garamond"/>
              </a:rPr>
              <a:t>Dr. sc. Sarajko BAKSA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57120" y="1356840"/>
            <a:ext cx="842976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99"/>
                </a:solidFill>
                <a:latin typeface="Garamond"/>
              </a:rPr>
              <a:t>    </a:t>
            </a:r>
            <a:r>
              <a:rPr b="1" lang="hr-HR" sz="2000" spc="-1" strike="noStrike">
                <a:solidFill>
                  <a:srgbClr val="003399"/>
                </a:solidFill>
                <a:latin typeface="Garamond"/>
              </a:rPr>
              <a:t>Ustanovljena jedinica za osiguranje kvalitete, Međimurskog veleučilišta u Čakovcu, sukladno Zakonu o osiguravanju kvalitete u znanosti i visokom obrazovanju (NN 45/09), pokrenula je razvoj unutarnjeg sustava osiguranja kvalitete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9" name="Title 1"/>
          <p:cNvSpPr/>
          <p:nvPr/>
        </p:nvSpPr>
        <p:spPr>
          <a:xfrm>
            <a:off x="357120" y="300024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99"/>
                </a:solidFill>
                <a:latin typeface="Garamond"/>
              </a:rPr>
              <a:t>    </a:t>
            </a:r>
            <a:r>
              <a:rPr b="1" lang="hr-HR" sz="2000" spc="-1" strike="noStrike">
                <a:solidFill>
                  <a:srgbClr val="003399"/>
                </a:solidFill>
                <a:latin typeface="Garamond"/>
              </a:rPr>
              <a:t>U skladu s usvojenim smjernicama i standardima u osiguranju kvalitete unutar Europskog okružja visokog obrazovanja i jedinica za osiguranje kvalitete, Međimurskog veleučilišta u Čakovcu, radi na ustroju, matrici i hodogramu odgovornosti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5" descr="logo-final"/>
          <p:cNvPicPr/>
          <p:nvPr/>
        </p:nvPicPr>
        <p:blipFill>
          <a:blip r:embed="rId1"/>
          <a:stretch/>
        </p:blipFill>
        <p:spPr>
          <a:xfrm>
            <a:off x="0" y="0"/>
            <a:ext cx="1155600" cy="1006560"/>
          </a:xfrm>
          <a:prstGeom prst="rect">
            <a:avLst/>
          </a:prstGeom>
          <a:ln w="0">
            <a:noFill/>
          </a:ln>
        </p:spPr>
      </p:pic>
      <p:sp>
        <p:nvSpPr>
          <p:cNvPr id="551" name="Date Placeholder 2"/>
          <p:cNvSpPr/>
          <p:nvPr/>
        </p:nvSpPr>
        <p:spPr>
          <a:xfrm>
            <a:off x="457200" y="528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CF60-B2D3-42B8-9520-08D015014CE7}" type="datetime">
              <a:rPr b="0" lang="hr-HR" sz="1000" spc="-1" strike="noStrike">
                <a:solidFill>
                  <a:srgbClr val="000514"/>
                </a:solidFill>
                <a:latin typeface="Arial"/>
              </a:rPr>
              <a:t>31.07.26</a:t>
            </a:fld>
            <a:r>
              <a:rPr b="0" lang="hr-HR" sz="1000" spc="-1" strike="noStrike">
                <a:solidFill>
                  <a:srgbClr val="000514"/>
                </a:solidFill>
                <a:latin typeface="Arial"/>
              </a:rPr>
              <a:t> </a:t>
            </a:r>
            <a:fld id="{4EB321E8-56FF-4C84-9BEF-340FC8EC3D94}" type="datetime10">
              <a:rPr b="0" lang="hr-HR" sz="1000" spc="-1" strike="noStrike">
                <a:solidFill>
                  <a:srgbClr val="000514"/>
                </a:solidFill>
                <a:latin typeface="Arial"/>
              </a:rPr>
              <a:t>06:42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7924680" y="528624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BEB7-8D2B-4E5F-B8E5-89894F9E4899}" type="slidenum">
              <a:rPr b="0" lang="en-US" sz="10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Rectangle 14"/>
          <p:cNvSpPr/>
          <p:nvPr/>
        </p:nvSpPr>
        <p:spPr>
          <a:xfrm>
            <a:off x="3143160" y="5478480"/>
            <a:ext cx="28576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514"/>
                </a:solidFill>
                <a:latin typeface="Garamond"/>
              </a:rPr>
              <a:t>Dr. sc. Sarajko BAKSA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71720" y="785520"/>
            <a:ext cx="757224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99"/>
                </a:solidFill>
                <a:latin typeface="Garamond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Studentska procjena vrijednosti nastave i nastavnika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1:43:14Z</dcterms:created>
  <dc:creator>mev</dc:creator>
  <dc:description/>
  <dc:language>en-US</dc:language>
  <cp:lastModifiedBy>SB</cp:lastModifiedBy>
  <dcterms:modified xsi:type="dcterms:W3CDTF">2010-09-13T20:41:09Z</dcterms:modified>
  <cp:revision>207</cp:revision>
  <dc:subject/>
  <dc:title>MEĐIMURSKO VELEUČILIŠTE</dc:title>
</cp:coreProperties>
</file>