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19845-B0E9-49CA-9754-AD872C5CFD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2400" spc="-1" strike="noStrike">
              <a:solidFill>
                <a:srgbClr val="00007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79440" y="1663200"/>
            <a:ext cx="914400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650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32591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9440" y="4118040"/>
            <a:ext cx="914400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650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3259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C6D99-E46C-44DB-99CB-89C07D6890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2400" spc="-1" strike="noStrike">
              <a:solidFill>
                <a:srgbClr val="00007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79440" y="1663200"/>
            <a:ext cx="446220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650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3259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5200" y="1663200"/>
            <a:ext cx="446220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650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32591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79440" y="4118040"/>
            <a:ext cx="446220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650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32591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65200" y="4118040"/>
            <a:ext cx="446220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650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3259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FEB0B-4655-4187-98D7-272FAA1D67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2400" spc="-1" strike="noStrike">
              <a:solidFill>
                <a:srgbClr val="00007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79440" y="1663200"/>
            <a:ext cx="294408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650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3259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471120" y="1663200"/>
            <a:ext cx="294408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650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3259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62800" y="1663200"/>
            <a:ext cx="294408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650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3259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379440" y="4118040"/>
            <a:ext cx="294408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650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32591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471120" y="4118040"/>
            <a:ext cx="294408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650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32591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562800" y="4118040"/>
            <a:ext cx="294408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650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3259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B5F05-3BC9-483C-B351-4644968DA7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2400" spc="-1" strike="noStrike">
              <a:solidFill>
                <a:srgbClr val="00007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379440" y="1663200"/>
            <a:ext cx="9144000" cy="46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1650"/>
              </a:spcBef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325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093C3-ABC9-4ABA-93B2-22A13D6322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2400" spc="-1" strike="noStrike">
              <a:solidFill>
                <a:srgbClr val="00007e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79440" y="1663200"/>
            <a:ext cx="914400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650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325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267D9-2AF7-40F7-A907-FC54B384CF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2400" spc="-1" strike="noStrike">
              <a:solidFill>
                <a:srgbClr val="00007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9440" y="1663200"/>
            <a:ext cx="446220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650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32591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5200" y="1663200"/>
            <a:ext cx="446220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650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3259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D09C6-A336-426A-A8F5-1D2BDA7F8A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2400" spc="-1" strike="noStrike">
              <a:solidFill>
                <a:srgbClr val="00007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2DF75-F7E3-4639-8F00-C8032277AC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1650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325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86947-D899-49F9-BC97-F9F7CC2713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2400" spc="-1" strike="noStrike">
              <a:solidFill>
                <a:srgbClr val="00007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9440" y="1663200"/>
            <a:ext cx="446220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650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32591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5200" y="1663200"/>
            <a:ext cx="446220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650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32591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79440" y="4118040"/>
            <a:ext cx="446220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650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3259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86E18-CAC6-4D9B-A39B-8FB1BEAA51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2400" spc="-1" strike="noStrike">
              <a:solidFill>
                <a:srgbClr val="00007e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79440" y="1663200"/>
            <a:ext cx="446220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650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32591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65200" y="1663200"/>
            <a:ext cx="446220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650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32591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65200" y="4118040"/>
            <a:ext cx="446220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650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3259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E9109-DCE5-40D3-8753-F2368EE302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2400" spc="-1" strike="noStrike">
              <a:solidFill>
                <a:srgbClr val="00007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79440" y="1663200"/>
            <a:ext cx="446220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650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32591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65200" y="1663200"/>
            <a:ext cx="446220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650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32591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9440" y="4118040"/>
            <a:ext cx="914400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650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3259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CBB9B-8D82-4295-9AB8-0F009B75BE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06880" y="155520"/>
            <a:ext cx="6300720" cy="566640"/>
          </a:xfrm>
          <a:prstGeom prst="rect">
            <a:avLst/>
          </a:prstGeom>
          <a:gradFill rotWithShape="0">
            <a:gsLst>
              <a:gs pos="0">
                <a:srgbClr val="00007e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513640" y="254160"/>
            <a:ext cx="374760" cy="37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955000" y="187200"/>
            <a:ext cx="507960" cy="507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982800" y="139680"/>
            <a:ext cx="7355160" cy="599400"/>
            <a:chOff x="982800" y="139680"/>
            <a:chExt cx="7355160" cy="599400"/>
          </a:xfrm>
        </p:grpSpPr>
        <p:sp>
          <p:nvSpPr>
            <p:cNvPr id="4" name=""/>
            <p:cNvSpPr/>
            <p:nvPr/>
          </p:nvSpPr>
          <p:spPr>
            <a:xfrm>
              <a:off x="982800" y="139680"/>
              <a:ext cx="7355160" cy="418680"/>
            </a:xfrm>
            <a:custGeom>
              <a:avLst/>
              <a:gdLst/>
              <a:ahLst/>
              <a:rect l="l" t="t" r="r" b="b"/>
              <a:pathLst>
                <a:path w="3228" h="251">
                  <a:moveTo>
                    <a:pt x="0" y="0"/>
                  </a:moveTo>
                  <a:cubicBezTo>
                    <a:pt x="400" y="84"/>
                    <a:pt x="800" y="169"/>
                    <a:pt x="1338" y="210"/>
                  </a:cubicBezTo>
                  <a:cubicBezTo>
                    <a:pt x="1876" y="251"/>
                    <a:pt x="2552" y="248"/>
                    <a:pt x="3228" y="24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982800" y="319680"/>
              <a:ext cx="7355160" cy="418680"/>
            </a:xfrm>
            <a:custGeom>
              <a:avLst/>
              <a:gdLst/>
              <a:ahLst/>
              <a:rect l="l" t="t" r="r" b="b"/>
              <a:pathLst>
                <a:path w="3228" h="251">
                  <a:moveTo>
                    <a:pt x="0" y="0"/>
                  </a:moveTo>
                  <a:cubicBezTo>
                    <a:pt x="400" y="84"/>
                    <a:pt x="800" y="169"/>
                    <a:pt x="1338" y="210"/>
                  </a:cubicBezTo>
                  <a:cubicBezTo>
                    <a:pt x="1876" y="251"/>
                    <a:pt x="2552" y="248"/>
                    <a:pt x="3228" y="24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"/>
          <p:cNvSpPr/>
          <p:nvPr/>
        </p:nvSpPr>
        <p:spPr>
          <a:xfrm>
            <a:off x="8201160" y="316080"/>
            <a:ext cx="250560" cy="250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V="1">
            <a:off x="8226360" y="341280"/>
            <a:ext cx="200160" cy="200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7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7360" y="0"/>
            <a:ext cx="8056440" cy="625320"/>
          </a:xfrm>
          <a:custGeom>
            <a:avLst/>
            <a:gdLst/>
            <a:ahLst/>
            <a:rect l="l" t="t" r="r" b="b"/>
            <a:pathLst>
              <a:path w="3228" h="251">
                <a:moveTo>
                  <a:pt x="0" y="0"/>
                </a:moveTo>
                <a:cubicBezTo>
                  <a:pt x="400" y="84"/>
                  <a:pt x="800" y="169"/>
                  <a:pt x="1338" y="210"/>
                </a:cubicBezTo>
                <a:cubicBezTo>
                  <a:pt x="1876" y="251"/>
                  <a:pt x="2552" y="248"/>
                  <a:pt x="3228" y="24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V="1">
            <a:off x="568440" y="255240"/>
            <a:ext cx="8145360" cy="650880"/>
          </a:xfrm>
          <a:custGeom>
            <a:avLst/>
            <a:gdLst/>
            <a:ahLst/>
            <a:rect l="l" t="t" r="r" b="b"/>
            <a:pathLst>
              <a:path w="3228" h="251">
                <a:moveTo>
                  <a:pt x="0" y="0"/>
                </a:moveTo>
                <a:cubicBezTo>
                  <a:pt x="400" y="84"/>
                  <a:pt x="800" y="169"/>
                  <a:pt x="1338" y="210"/>
                </a:cubicBezTo>
                <a:cubicBezTo>
                  <a:pt x="1876" y="251"/>
                  <a:pt x="2552" y="248"/>
                  <a:pt x="3228" y="24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8537400" y="275400"/>
            <a:ext cx="327240" cy="3272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7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254240" y="0"/>
            <a:ext cx="7951680" cy="698400"/>
          </a:xfrm>
          <a:custGeom>
            <a:avLst/>
            <a:gdLst/>
            <a:ahLst/>
            <a:rect l="l" t="t" r="r" b="b"/>
            <a:pathLst>
              <a:path w="3228" h="251">
                <a:moveTo>
                  <a:pt x="0" y="0"/>
                </a:moveTo>
                <a:cubicBezTo>
                  <a:pt x="400" y="84"/>
                  <a:pt x="800" y="169"/>
                  <a:pt x="1338" y="210"/>
                </a:cubicBezTo>
                <a:cubicBezTo>
                  <a:pt x="1876" y="251"/>
                  <a:pt x="2552" y="248"/>
                  <a:pt x="3228" y="24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480960" y="178920"/>
            <a:ext cx="8724960" cy="914400"/>
          </a:xfrm>
          <a:custGeom>
            <a:avLst/>
            <a:gdLst/>
            <a:ahLst/>
            <a:rect l="l" t="t" r="r" b="b"/>
            <a:pathLst>
              <a:path w="3228" h="251">
                <a:moveTo>
                  <a:pt x="0" y="0"/>
                </a:moveTo>
                <a:cubicBezTo>
                  <a:pt x="400" y="84"/>
                  <a:pt x="800" y="169"/>
                  <a:pt x="1338" y="210"/>
                </a:cubicBezTo>
                <a:cubicBezTo>
                  <a:pt x="1876" y="251"/>
                  <a:pt x="2552" y="248"/>
                  <a:pt x="3228" y="24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V="1">
            <a:off x="8980560" y="208440"/>
            <a:ext cx="460440" cy="4618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7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754200" y="152280"/>
            <a:ext cx="2662200" cy="567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007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331920" y="22320"/>
            <a:ext cx="831600" cy="831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V="1">
            <a:off x="399960" y="87840"/>
            <a:ext cx="692280" cy="692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7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body"/>
          </p:nvPr>
        </p:nvSpPr>
        <p:spPr>
          <a:xfrm>
            <a:off x="379440" y="1663200"/>
            <a:ext cx="914400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-314280">
              <a:lnSpc>
                <a:spcPct val="105000"/>
              </a:lnSpc>
              <a:spcBef>
                <a:spcPts val="1650"/>
              </a:spcBef>
              <a:buClr>
                <a:srgbClr val="ffff32"/>
              </a:buClr>
              <a:buSzPct val="115000"/>
              <a:buFont typeface="Wingdings" charset="2"/>
              <a:buChar char="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200" spc="-1" strike="noStrike">
                <a:solidFill>
                  <a:srgbClr val="032591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32591"/>
              </a:solidFill>
              <a:latin typeface="Arial"/>
            </a:endParaRPr>
          </a:p>
          <a:p>
            <a:pPr lvl="1" marL="668160" indent="-230040">
              <a:lnSpc>
                <a:spcPct val="105000"/>
              </a:lnSpc>
              <a:spcBef>
                <a:spcPts val="1650"/>
              </a:spcBef>
              <a:buClr>
                <a:srgbClr val="032591"/>
              </a:buClr>
              <a:buFont typeface="Helvetica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200" spc="-1" strike="noStrike">
                <a:solidFill>
                  <a:srgbClr val="032591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32591"/>
              </a:solidFill>
              <a:latin typeface="Arial"/>
            </a:endParaRPr>
          </a:p>
          <a:p>
            <a:pPr lvl="2" marL="990720" indent="-198720">
              <a:lnSpc>
                <a:spcPct val="105000"/>
              </a:lnSpc>
              <a:spcBef>
                <a:spcPts val="1650"/>
              </a:spcBef>
              <a:buClr>
                <a:srgbClr val="032591"/>
              </a:buClr>
              <a:buFont typeface="Helvetica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200" spc="-1" strike="noStrike">
                <a:solidFill>
                  <a:srgbClr val="032591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32591"/>
              </a:solidFill>
              <a:latin typeface="Arial"/>
            </a:endParaRPr>
          </a:p>
          <a:p>
            <a:pPr lvl="3" marL="1305000" indent="-190440">
              <a:lnSpc>
                <a:spcPct val="105000"/>
              </a:lnSpc>
              <a:spcBef>
                <a:spcPts val="1650"/>
              </a:spcBef>
              <a:buClr>
                <a:srgbClr val="032591"/>
              </a:buClr>
              <a:buFont typeface="Helvetica"/>
              <a:buChar char="-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200" spc="-1" strike="noStrike">
                <a:solidFill>
                  <a:srgbClr val="032591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32591"/>
              </a:solidFill>
              <a:latin typeface="Arial"/>
            </a:endParaRPr>
          </a:p>
          <a:p>
            <a:pPr lvl="4" marL="1620720" indent="-191880">
              <a:lnSpc>
                <a:spcPct val="105000"/>
              </a:lnSpc>
              <a:spcBef>
                <a:spcPts val="1650"/>
              </a:spcBef>
              <a:buClr>
                <a:srgbClr val="032591"/>
              </a:buClr>
              <a:buFont typeface="Helvetica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200" spc="-1" strike="noStrike">
                <a:solidFill>
                  <a:srgbClr val="032591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32591"/>
              </a:solidFill>
              <a:latin typeface="Arial"/>
            </a:endParaRPr>
          </a:p>
          <a:p>
            <a:pPr lvl="5" marL="1620720" indent="-191880">
              <a:lnSpc>
                <a:spcPct val="105000"/>
              </a:lnSpc>
              <a:spcBef>
                <a:spcPts val="1650"/>
              </a:spcBef>
              <a:buClr>
                <a:srgbClr val="ffffff"/>
              </a:buClr>
              <a:buFont typeface="Helvetica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200" spc="-1" strike="noStrike">
                <a:solidFill>
                  <a:srgbClr val="032591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32591"/>
              </a:solidFill>
              <a:latin typeface="Arial"/>
            </a:endParaRPr>
          </a:p>
          <a:p>
            <a:pPr lvl="6" marL="1620720" indent="-191880">
              <a:lnSpc>
                <a:spcPct val="105000"/>
              </a:lnSpc>
              <a:spcBef>
                <a:spcPts val="1650"/>
              </a:spcBef>
              <a:buClr>
                <a:srgbClr val="ffffff"/>
              </a:buClr>
              <a:buFont typeface="Helvetica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200" spc="-1" strike="noStrike">
                <a:solidFill>
                  <a:srgbClr val="032591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3259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ldNum" idx="1"/>
          </p:nvPr>
        </p:nvSpPr>
        <p:spPr>
          <a:xfrm>
            <a:off x="7619760" y="6299280"/>
            <a:ext cx="1903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325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A396-6A82-4F7F-8A51-7B1794022914}" type="slidenum">
              <a:rPr b="0" lang="en-GB" sz="1200" spc="-1" strike="noStrike">
                <a:solidFill>
                  <a:srgbClr val="03259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4535640" y="6248520"/>
            <a:ext cx="190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1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Progress Me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2631960" y="4869000"/>
            <a:ext cx="2529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mperial Colleg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OF SCIENCE, TECHNOLOGY AND MEDICIN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>
            <a:off x="379440" y="6299280"/>
            <a:ext cx="91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400" spc="-1" strike="noStrike">
                <a:solidFill>
                  <a:srgbClr val="00007e"/>
                </a:solidFill>
                <a:latin typeface="Arial"/>
              </a:rPr>
              <a:t>Seminar: UČINKOVITOST UNUTARNJEG SUSTAVA OSIGURAVANJA KVALITETE, Z</a:t>
            </a:r>
            <a:r>
              <a:rPr b="0" i="1" lang="en-GB" sz="1400" spc="-1" strike="noStrike">
                <a:solidFill>
                  <a:srgbClr val="00007e"/>
                </a:solidFill>
                <a:latin typeface="Arial"/>
              </a:rPr>
              <a:t>a</a:t>
            </a:r>
            <a:r>
              <a:rPr b="0" i="1" lang="hr-HR" sz="1400" spc="-1" strike="noStrike">
                <a:solidFill>
                  <a:srgbClr val="00007e"/>
                </a:solidFill>
                <a:latin typeface="Arial"/>
              </a:rPr>
              <a:t>greb, 14. rujna 2010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5832360" y="2514600"/>
            <a:ext cx="959040" cy="958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398520" y="876240"/>
            <a:ext cx="9144000" cy="0"/>
          </a:xfrm>
          <a:prstGeom prst="line">
            <a:avLst/>
          </a:prstGeom>
          <a:ln w="12600">
            <a:solidFill>
              <a:srgbClr val="001c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1130400" y="47520"/>
            <a:ext cx="3352680" cy="7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spAutoFit/>
          </a:bodyPr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7e"/>
                </a:solidFill>
                <a:latin typeface="Arial"/>
              </a:rPr>
              <a:t>VEL</a:t>
            </a:r>
            <a:r>
              <a:rPr b="1" lang="hr-HR" sz="2000" spc="-1" strike="noStrike">
                <a:solidFill>
                  <a:srgbClr val="00007e"/>
                </a:solidFill>
                <a:latin typeface="Arial"/>
              </a:rPr>
              <a:t>V, </a:t>
            </a:r>
            <a:r>
              <a:rPr b="1" lang="en-GB" sz="2000" spc="-1" strike="noStrike">
                <a:solidFill>
                  <a:srgbClr val="00007e"/>
                </a:solidFill>
                <a:latin typeface="Arial"/>
              </a:rPr>
              <a:t>Vara</a:t>
            </a:r>
            <a:r>
              <a:rPr b="1" lang="hr-HR" sz="2000" spc="-1" strike="noStrike">
                <a:solidFill>
                  <a:srgbClr val="00007e"/>
                </a:solidFill>
                <a:latin typeface="Arial"/>
              </a:rPr>
              <a:t>ždin, Croat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400" spc="-1" strike="noStrike">
                <a:solidFill>
                  <a:srgbClr val="00007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7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06440" y="4937040"/>
            <a:ext cx="91011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457200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  <a:tab algn="l" pos="8731080"/>
                <a:tab algn="l" pos="9128160"/>
                <a:tab algn="l" pos="9524880"/>
                <a:tab algn="l" pos="9921960"/>
                <a:tab algn="l" pos="10318680"/>
                <a:tab algn="l" pos="107157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457200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  <a:tab algn="l" pos="8731080"/>
                <a:tab algn="l" pos="9128160"/>
                <a:tab algn="l" pos="9524880"/>
                <a:tab algn="l" pos="9921960"/>
                <a:tab algn="l" pos="10318680"/>
                <a:tab algn="l" pos="10715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r.sc.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lado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Trop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š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47520" y="27972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6440" y="2370240"/>
            <a:ext cx="910116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7e"/>
                </a:solidFill>
                <a:latin typeface="Tahoma"/>
              </a:rPr>
              <a:t>VELEUČILIŠTE U VARAŽDINU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e"/>
                </a:solidFill>
                <a:latin typeface="Tahoma"/>
              </a:rPr>
              <a:t>U</a:t>
            </a:r>
            <a:r>
              <a:rPr b="1" lang="hr-HR" sz="4000" spc="-1" strike="noStrike">
                <a:solidFill>
                  <a:srgbClr val="00007e"/>
                </a:solidFill>
                <a:latin typeface="Tahoma"/>
              </a:rPr>
              <a:t>STROJ I AKTIVNOSTI JEDINICE ZA OSIGURANJE KVALITE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43040" y="358920"/>
            <a:ext cx="61308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6240"/>
                <a:tab algn="l" pos="334008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  <a:tab algn="l" pos="8731080"/>
                <a:tab algn="l" pos="9128160"/>
                <a:tab algn="l" pos="9524880"/>
                <a:tab algn="l" pos="9921960"/>
                <a:tab algn="l" pos="10318680"/>
                <a:tab algn="l" pos="10715760"/>
              </a:tabLst>
            </a:pPr>
            <a:r>
              <a:rPr b="1" lang="hr-HR" sz="2000" spc="-1" strike="noStrike">
                <a:solidFill>
                  <a:srgbClr val="001e8f"/>
                </a:solidFill>
                <a:latin typeface="Arial"/>
                <a:ea typeface="Times New Roman"/>
              </a:rPr>
              <a:t>POLYTECHNIC OF VARA</a:t>
            </a:r>
            <a:r>
              <a:rPr b="1" lang="en-GB" sz="2000" spc="-1" strike="noStrike">
                <a:solidFill>
                  <a:srgbClr val="001e8f"/>
                </a:solidFill>
                <a:latin typeface="Arial"/>
                <a:ea typeface="Times New Roman"/>
              </a:rPr>
              <a:t>Z</a:t>
            </a:r>
            <a:r>
              <a:rPr b="1" lang="hr-HR" sz="2000" spc="-1" strike="noStrike">
                <a:solidFill>
                  <a:srgbClr val="001e8f"/>
                </a:solidFill>
                <a:latin typeface="Arial"/>
                <a:ea typeface="Times New Roman"/>
              </a:rPr>
              <a:t>DIN, CROAT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6240"/>
                <a:tab algn="l" pos="334008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  <a:tab algn="l" pos="8731080"/>
                <a:tab algn="l" pos="9128160"/>
                <a:tab algn="l" pos="9524880"/>
                <a:tab algn="l" pos="9921960"/>
                <a:tab algn="l" pos="10318680"/>
                <a:tab algn="l" pos="107157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6240"/>
                <a:tab algn="l" pos="334008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  <a:tab algn="l" pos="8731080"/>
                <a:tab algn="l" pos="9128160"/>
                <a:tab algn="l" pos="9524880"/>
                <a:tab algn="l" pos="9921960"/>
                <a:tab algn="l" pos="10318680"/>
                <a:tab algn="l" pos="107157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6240"/>
                <a:tab algn="l" pos="334008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  <a:tab algn="l" pos="8731080"/>
                <a:tab algn="l" pos="9128160"/>
                <a:tab algn="l" pos="9524880"/>
                <a:tab algn="l" pos="9921960"/>
                <a:tab algn="l" pos="10318680"/>
                <a:tab algn="l" pos="10715760"/>
              </a:tabLst>
            </a:pPr>
            <a:r>
              <a:rPr b="1" lang="hr-HR" sz="2000" spc="-1" strike="noStrike">
                <a:solidFill>
                  <a:srgbClr val="001e8f"/>
                </a:solidFill>
                <a:latin typeface="Arial"/>
              </a:rPr>
              <a:t>V</a:t>
            </a:r>
            <a:r>
              <a:rPr b="1" lang="en-GB" sz="2000" spc="-1" strike="noStrike">
                <a:solidFill>
                  <a:srgbClr val="001e8f"/>
                </a:solidFill>
                <a:latin typeface="Arial"/>
              </a:rPr>
              <a:t>E</a:t>
            </a:r>
            <a:r>
              <a:rPr b="1" lang="hr-HR" sz="2000" spc="-1" strike="noStrike">
                <a:solidFill>
                  <a:srgbClr val="001e8f"/>
                </a:solidFill>
                <a:latin typeface="Arial"/>
              </a:rPr>
              <a:t>LEUČILIŠTE U VARAŽDIN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7148520" y="1117440"/>
            <a:ext cx="139680" cy="140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7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259680" y="1181160"/>
            <a:ext cx="558720" cy="558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7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516800" y="749160"/>
            <a:ext cx="330120" cy="3304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7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459640" y="946080"/>
            <a:ext cx="177840" cy="1778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7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999560" y="1219320"/>
            <a:ext cx="482400" cy="482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7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8821800" y="289080"/>
            <a:ext cx="76176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7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7391" t="7391" r="9327" b="8755"/>
          <a:stretch/>
        </p:blipFill>
        <p:spPr>
          <a:xfrm>
            <a:off x="173160" y="236520"/>
            <a:ext cx="1487520" cy="1496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79440" y="6299280"/>
            <a:ext cx="91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400" spc="-1" strike="noStrike">
                <a:solidFill>
                  <a:srgbClr val="00007e"/>
                </a:solidFill>
                <a:latin typeface="Arial"/>
              </a:rPr>
              <a:t>Seminar: UČINKOVITOST UNUTARNJEG SUSTAVA OSIGURAVANJA KVALITETE, Z</a:t>
            </a:r>
            <a:r>
              <a:rPr b="0" i="1" lang="en-GB" sz="1400" spc="-1" strike="noStrike">
                <a:solidFill>
                  <a:srgbClr val="00007e"/>
                </a:solidFill>
                <a:latin typeface="Arial"/>
              </a:rPr>
              <a:t>a</a:t>
            </a:r>
            <a:r>
              <a:rPr b="0" i="1" lang="hr-HR" sz="1400" spc="-1" strike="noStrike">
                <a:solidFill>
                  <a:srgbClr val="00007e"/>
                </a:solidFill>
                <a:latin typeface="Arial"/>
              </a:rPr>
              <a:t>greb, 14. rujna 2010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7D44B-529B-4A3C-8A61-4ACA2BD30C0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06440" y="1108080"/>
            <a:ext cx="9101160" cy="52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hr-HR" sz="2800" spc="-1" strike="noStrike">
                <a:solidFill>
                  <a:srgbClr val="00007e"/>
                </a:solidFill>
                <a:latin typeface="Tahoma"/>
              </a:rPr>
              <a:t>Stručno vijeće Veleučilišta u Varaždinu na svojoj 24. sjednici, 17. studenog 2009. donijelo je odluku o osnivanju i imenovanju članova:</a:t>
            </a:r>
            <a:br>
              <a:rPr sz="2800"/>
            </a:br>
            <a:br>
              <a:rPr sz="2800"/>
            </a:br>
            <a:r>
              <a:rPr b="1" lang="hr-HR" sz="3600" spc="-1" strike="noStrike">
                <a:solidFill>
                  <a:srgbClr val="00007e"/>
                </a:solidFill>
                <a:latin typeface="Tahoma"/>
              </a:rPr>
              <a:t>JEDINICE ZA OSIGURANJE KVALITETE</a:t>
            </a:r>
            <a:br>
              <a:rPr sz="2800"/>
            </a:br>
            <a:br>
              <a:rPr sz="2800"/>
            </a:br>
            <a:r>
              <a:rPr b="1" lang="hr-HR" sz="2800" spc="-1" strike="noStrike">
                <a:solidFill>
                  <a:srgbClr val="00007e"/>
                </a:solidFill>
                <a:latin typeface="Tahoma"/>
              </a:rPr>
              <a:t>Imenovan je voditelj jedinice i 6 članova, po jedan član sa svakog stručnog studija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7DF20-BA63-403D-ADE8-33598D55833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06440" y="1108080"/>
            <a:ext cx="9101160" cy="61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buClr>
                <a:srgbClr val="00007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7e"/>
                </a:solidFill>
                <a:latin typeface="Tahoma"/>
              </a:rPr>
              <a:t> </a:t>
            </a:r>
            <a:r>
              <a:rPr b="1" lang="hr-HR" sz="3200" spc="-1" strike="noStrike">
                <a:solidFill>
                  <a:srgbClr val="00007e"/>
                </a:solidFill>
                <a:latin typeface="Tahoma"/>
              </a:rPr>
              <a:t>Jedinica za osiguranje kvalitete</a:t>
            </a:r>
            <a:r>
              <a:rPr b="0" lang="hr-HR" sz="3200" spc="-1" strike="noStrike">
                <a:solidFill>
                  <a:srgbClr val="00007e"/>
                </a:solidFill>
                <a:latin typeface="Tahoma"/>
              </a:rPr>
              <a:t> na VELV-u priprema prioritetne aktivnosti za implementaciju </a:t>
            </a:r>
            <a:r>
              <a:rPr b="1" lang="hr-HR" sz="3200" spc="-1" strike="noStrike">
                <a:solidFill>
                  <a:srgbClr val="00007e"/>
                </a:solidFill>
                <a:latin typeface="Tahoma"/>
              </a:rPr>
              <a:t>kvalitete</a:t>
            </a:r>
            <a:r>
              <a:rPr b="0" lang="hr-HR" sz="3200" spc="-1" strike="noStrike">
                <a:solidFill>
                  <a:srgbClr val="00007e"/>
                </a:solidFill>
                <a:latin typeface="Tahoma"/>
              </a:rPr>
              <a:t> u organizacijskom i nastavnom procesu (u skladu s ESG) na 6 akreditiranih stručnih studija (5 iz tehničkog područja, 1 iz područja biomedicine) = </a:t>
            </a:r>
            <a:r>
              <a:rPr b="1" lang="hr-HR" sz="3200" spc="-1" strike="noStrike" u="sng">
                <a:solidFill>
                  <a:srgbClr val="00007e"/>
                </a:solidFill>
                <a:uFillTx/>
                <a:latin typeface="Tahoma"/>
              </a:rPr>
              <a:t>akcijski pl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spcBef>
                <a:spcPts val="2001"/>
              </a:spcBef>
              <a:buClr>
                <a:srgbClr val="00007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32C31-25DB-443C-B54B-BF7648CAB7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06440" y="1108080"/>
            <a:ext cx="9101160" cy="51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7e"/>
                </a:solidFill>
                <a:latin typeface="Tahoma"/>
              </a:rPr>
              <a:t>Akcijski plan</a:t>
            </a:r>
            <a:r>
              <a:rPr b="0" lang="hr-HR" sz="3200" spc="-1" strike="noStrike">
                <a:solidFill>
                  <a:srgbClr val="00007e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2001"/>
              </a:spcBef>
              <a:buClr>
                <a:srgbClr val="00007e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7e"/>
                </a:solidFill>
                <a:latin typeface="Tahoma"/>
              </a:rPr>
              <a:t> </a:t>
            </a:r>
            <a:r>
              <a:rPr b="1" lang="hr-HR" sz="3200" spc="-1" strike="noStrike">
                <a:solidFill>
                  <a:srgbClr val="00007e"/>
                </a:solidFill>
                <a:latin typeface="Tahoma"/>
              </a:rPr>
              <a:t>Izrada priručnika za kvalite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1749"/>
              </a:spcBef>
              <a:buClr>
                <a:srgbClr val="00007e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7e"/>
                </a:solidFill>
                <a:latin typeface="Tahoma"/>
              </a:rPr>
              <a:t>Evaluacija nastave i stručnih službi od strane studenata (metodologija provedbe i obrade podataka, objavljivanje rezultata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1749"/>
              </a:spcBef>
              <a:buClr>
                <a:srgbClr val="00007e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7e"/>
                </a:solidFill>
                <a:latin typeface="Tahoma"/>
              </a:rPr>
              <a:t>Ispitivanje završenih studenata, poslodavac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1749"/>
              </a:spcBef>
              <a:buClr>
                <a:srgbClr val="00007e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7e"/>
                </a:solidFill>
                <a:latin typeface="Tahoma"/>
              </a:rPr>
              <a:t>Analiza podataka o upisanim studentima u 1. i svim višim godinama studij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1749"/>
              </a:spcBef>
              <a:buClr>
                <a:srgbClr val="00007e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7e"/>
                </a:solidFill>
                <a:latin typeface="Tahoma"/>
              </a:rPr>
              <a:t>Analiza uspješnosti polaganja ispita i uspješnosti završavanja studija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90E93-8639-4F36-B523-B0D9E61C52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808360" y="1631880"/>
            <a:ext cx="3409920" cy="481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2"/>
          <a:srcRect l="0" t="0" r="0" b="50022"/>
          <a:stretch/>
        </p:blipFill>
        <p:spPr>
          <a:xfrm>
            <a:off x="406440" y="1108080"/>
            <a:ext cx="5302080" cy="374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083280" y="990720"/>
            <a:ext cx="3409920" cy="482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55F78-AF68-4AF2-8BE5-7B493380A1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06440" y="1108080"/>
            <a:ext cx="9101160" cy="54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7e"/>
                </a:solidFill>
                <a:latin typeface="Tahoma"/>
              </a:rPr>
              <a:t>Akcijski plan</a:t>
            </a:r>
            <a:r>
              <a:rPr b="0" lang="hr-HR" sz="3200" spc="-1" strike="noStrike">
                <a:solidFill>
                  <a:srgbClr val="00007e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2001"/>
              </a:spcBef>
              <a:buClr>
                <a:srgbClr val="00007e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7e"/>
                </a:solidFill>
                <a:latin typeface="Tahoma"/>
              </a:rPr>
              <a:t> </a:t>
            </a:r>
            <a:r>
              <a:rPr b="1" lang="hr-HR" sz="3200" spc="-1" strike="noStrike">
                <a:solidFill>
                  <a:srgbClr val="00007e"/>
                </a:solidFill>
                <a:latin typeface="Tahoma"/>
              </a:rPr>
              <a:t>Provjera uspješnosti i osvježavanje studijskih progr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1749"/>
              </a:spcBef>
              <a:buClr>
                <a:srgbClr val="00007e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7e"/>
                </a:solidFill>
                <a:latin typeface="Tahoma"/>
              </a:rPr>
              <a:t>Razvoj programa i provjera dodjele ECTS bodova za svaki kolegij, usklađivanje sa srodnim ustanovam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1749"/>
              </a:spcBef>
              <a:buClr>
                <a:srgbClr val="00007e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7e"/>
                </a:solidFill>
                <a:latin typeface="Tahoma"/>
              </a:rPr>
              <a:t>Izrada ishoda učenja za svaki kolegij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1749"/>
              </a:spcBef>
              <a:buClr>
                <a:srgbClr val="00007e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7e"/>
                </a:solidFill>
                <a:latin typeface="Tahoma"/>
              </a:rPr>
              <a:t>Osvježavanje studijskih programa uvođenjem novih, aktualnih izbornih kolegija (povratna informacija od poslodavaca, završenih studenata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E59F2-5F51-404A-B374-0F886C038B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06440" y="1108080"/>
            <a:ext cx="9101160" cy="56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7e"/>
                </a:solidFill>
                <a:latin typeface="Tahoma"/>
              </a:rPr>
              <a:t>Akcijski plan</a:t>
            </a:r>
            <a:r>
              <a:rPr b="0" lang="hr-HR" sz="3200" spc="-1" strike="noStrike">
                <a:solidFill>
                  <a:srgbClr val="00007e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2001"/>
              </a:spcBef>
              <a:buClr>
                <a:srgbClr val="00007e"/>
              </a:buClr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7e"/>
                </a:solidFill>
                <a:latin typeface="Tahoma"/>
              </a:rPr>
              <a:t> </a:t>
            </a:r>
            <a:r>
              <a:rPr b="1" lang="hr-HR" sz="3200" spc="-1" strike="noStrike">
                <a:solidFill>
                  <a:srgbClr val="00007e"/>
                </a:solidFill>
                <a:latin typeface="Tahoma"/>
              </a:rPr>
              <a:t>Traženje rješenja za poboljšanje uspjeha studen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1749"/>
              </a:spcBef>
              <a:buClr>
                <a:srgbClr val="00007e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7e"/>
                </a:solidFill>
                <a:latin typeface="Tahoma"/>
              </a:rPr>
              <a:t>Upotreba i razvijanje novih metoda pri nastavi, kontinuirano praćenje, rad u manjim grupam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1749"/>
              </a:spcBef>
              <a:buClr>
                <a:srgbClr val="00007e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7e"/>
                </a:solidFill>
                <a:latin typeface="Tahoma"/>
              </a:rPr>
              <a:t>Studenti demonstratori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1749"/>
              </a:spcBef>
              <a:buClr>
                <a:srgbClr val="00007e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7e"/>
                </a:solidFill>
                <a:latin typeface="Tahoma"/>
              </a:rPr>
              <a:t>Ocjenjivanje studenata od strane studenata (EVA-SMS, CLAROLINE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1749"/>
              </a:spcBef>
              <a:buClr>
                <a:srgbClr val="00007e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7e"/>
                </a:solidFill>
                <a:latin typeface="Tahoma"/>
              </a:rPr>
              <a:t>Povećanje broja sati terenske nastave, kvaliteta stručne prakse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58F9A-F1FF-4DF5-8C66-126C6960E0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06440" y="1108080"/>
            <a:ext cx="9101160" cy="55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7e"/>
                </a:solidFill>
                <a:latin typeface="Tahoma"/>
              </a:rPr>
              <a:t>Akcijski plan</a:t>
            </a:r>
            <a:r>
              <a:rPr b="0" lang="hr-HR" sz="3200" spc="-1" strike="noStrike">
                <a:solidFill>
                  <a:srgbClr val="00007e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2001"/>
              </a:spcBef>
              <a:buClr>
                <a:srgbClr val="00007e"/>
              </a:buClr>
              <a:buFont typeface="Tahom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7e"/>
                </a:solidFill>
                <a:latin typeface="Tahoma"/>
              </a:rPr>
              <a:t> </a:t>
            </a:r>
            <a:r>
              <a:rPr b="1" lang="hr-HR" sz="3200" spc="-1" strike="noStrike">
                <a:solidFill>
                  <a:srgbClr val="00007e"/>
                </a:solidFill>
                <a:latin typeface="Tahoma"/>
              </a:rPr>
              <a:t>Pružanje informacija studentima i jav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1749"/>
              </a:spcBef>
              <a:buClr>
                <a:srgbClr val="00007e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7e"/>
                </a:solidFill>
                <a:latin typeface="Tahoma"/>
              </a:rPr>
              <a:t>Pravovremena objava najnovijih informacija na mrežnim stranicama i lokalnim medijim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1749"/>
              </a:spcBef>
              <a:buClr>
                <a:srgbClr val="00007e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7e"/>
                </a:solidFill>
                <a:latin typeface="Tahoma"/>
              </a:rPr>
              <a:t>Studentski predstavnici u Stručnom vijeću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2001"/>
              </a:spcBef>
              <a:buClr>
                <a:srgbClr val="00007e"/>
              </a:buClr>
              <a:buFont typeface="Tahom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7e"/>
                </a:solidFill>
                <a:latin typeface="Tahoma"/>
              </a:rPr>
              <a:t> </a:t>
            </a:r>
            <a:r>
              <a:rPr b="1" lang="hr-HR" sz="3200" spc="-1" strike="noStrike">
                <a:solidFill>
                  <a:srgbClr val="00007e"/>
                </a:solidFill>
                <a:latin typeface="Tahoma"/>
              </a:rPr>
              <a:t>Informatizacija sustava (ISV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2001"/>
              </a:spcBef>
              <a:buClr>
                <a:srgbClr val="00007e"/>
              </a:buClr>
              <a:buFont typeface="Tahom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7e"/>
                </a:solidFill>
                <a:latin typeface="Tahoma"/>
              </a:rPr>
              <a:t> </a:t>
            </a:r>
            <a:r>
              <a:rPr b="1" lang="hr-HR" sz="3200" spc="-1" strike="noStrike">
                <a:solidFill>
                  <a:srgbClr val="00007e"/>
                </a:solidFill>
                <a:latin typeface="Tahoma"/>
              </a:rPr>
              <a:t>Stručno usavršavanje nastavnog osobl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1749"/>
              </a:spcBef>
              <a:buClr>
                <a:srgbClr val="00007e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7e"/>
                </a:solidFill>
                <a:latin typeface="Tahoma"/>
              </a:rPr>
              <a:t>Doktorski studiji, stručni i znanstveni skupovi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75A7C-B412-4C70-9ED0-1727EFF432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06440" y="1108080"/>
            <a:ext cx="910116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7e"/>
                </a:solidFill>
                <a:latin typeface="Tahoma"/>
              </a:rPr>
              <a:t>Akcijski plan</a:t>
            </a:r>
            <a:r>
              <a:rPr b="0" lang="hr-HR" sz="3200" spc="-1" strike="noStrike">
                <a:solidFill>
                  <a:srgbClr val="00007e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2001"/>
              </a:spcBef>
              <a:buClr>
                <a:srgbClr val="00007e"/>
              </a:buClr>
              <a:buFont typeface="Tahoma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7e"/>
                </a:solidFill>
                <a:latin typeface="Tahoma"/>
              </a:rPr>
              <a:t> </a:t>
            </a:r>
            <a:r>
              <a:rPr b="1" lang="hr-HR" sz="3200" spc="-1" strike="noStrike">
                <a:solidFill>
                  <a:srgbClr val="00007e"/>
                </a:solidFill>
                <a:latin typeface="Tahoma"/>
              </a:rPr>
              <a:t>Priprema za postupak reakreditaci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1749"/>
              </a:spcBef>
              <a:buClr>
                <a:srgbClr val="00007e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7e"/>
                </a:solidFill>
                <a:latin typeface="Tahoma"/>
              </a:rPr>
              <a:t>prikupljanje informacija i upoznavanje članova Stručnog vijeća sa aktivnostim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1749"/>
              </a:spcBef>
              <a:buClr>
                <a:srgbClr val="00007e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7e"/>
                </a:solidFill>
                <a:latin typeface="Tahoma"/>
              </a:rPr>
              <a:t>koordinacija aktivnosti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7e"/>
                </a:solidFill>
                <a:latin typeface="Tahoma"/>
              </a:rPr>
              <a:t>HVALA 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59012-5C73-4773-8DDD-2032CFEE74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09:15:21Z</dcterms:created>
  <dc:creator>Dr Vlado Tropsa</dc:creator>
  <dc:description/>
  <cp:keywords/>
  <dc:language>en-US</dc:language>
  <cp:lastModifiedBy>RH - TDU</cp:lastModifiedBy>
  <cp:lastPrinted>2000-10-24T10:13:03Z</cp:lastPrinted>
  <dcterms:modified xsi:type="dcterms:W3CDTF">2010-09-14T05:48:46Z</dcterms:modified>
  <cp:revision>649</cp:revision>
  <dc:subject>4th ICCSM, Bizovac 2003, Croatia</dc:subject>
  <dc:title>FV Modelling of Adhesive Joints</dc:title>
</cp:coreProperties>
</file>