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85C2-BC26-4895-8265-ACB24F67E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374D-34F5-48B6-9F9B-3468A7557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31"/>
          <p:cNvSpPr/>
          <p:nvPr/>
        </p:nvSpPr>
        <p:spPr>
          <a:xfrm>
            <a:off x="3848040" y="8707320"/>
            <a:ext cx="3000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1D51-D2F5-4E71-8785-513A43B84CE7}" type="slidenum">
              <a:rPr b="1" lang="hr-H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9640" cy="34416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23400" y="4354200"/>
            <a:ext cx="50007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3284640"/>
            <a:ext cx="82296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564080"/>
            <a:ext cx="82296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3284640"/>
            <a:ext cx="40158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1800" y="3284640"/>
            <a:ext cx="40158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564080"/>
            <a:ext cx="40158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1800" y="4564080"/>
            <a:ext cx="40158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3284640"/>
            <a:ext cx="26496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200" y="3284640"/>
            <a:ext cx="26496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9640" y="3284640"/>
            <a:ext cx="26496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564080"/>
            <a:ext cx="26496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200" y="4564080"/>
            <a:ext cx="26496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9640" y="4564080"/>
            <a:ext cx="26496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328464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328464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328464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1800" y="328464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69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3284640"/>
            <a:ext cx="40158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1800" y="328464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564080"/>
            <a:ext cx="40158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328464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1800" y="3284640"/>
            <a:ext cx="40158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1800" y="4564080"/>
            <a:ext cx="40158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3284640"/>
            <a:ext cx="40158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1800" y="3284640"/>
            <a:ext cx="40158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564080"/>
            <a:ext cx="82296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grb"/>
          <p:cNvPicPr/>
          <p:nvPr/>
        </p:nvPicPr>
        <p:blipFill>
          <a:blip r:embed="rId2"/>
          <a:stretch/>
        </p:blipFill>
        <p:spPr>
          <a:xfrm>
            <a:off x="3168720" y="2133720"/>
            <a:ext cx="2843280" cy="3671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3" descr="Untitled-2_r2_c2"/>
          <p:cNvPicPr/>
          <p:nvPr/>
        </p:nvPicPr>
        <p:blipFill>
          <a:blip r:embed="rId3"/>
          <a:stretch/>
        </p:blipFill>
        <p:spPr>
          <a:xfrm>
            <a:off x="0" y="1413000"/>
            <a:ext cx="733320" cy="51242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2" descr="Untitled-2_r2_c2"/>
          <p:cNvPicPr/>
          <p:nvPr/>
        </p:nvPicPr>
        <p:blipFill>
          <a:blip r:embed="rId4"/>
          <a:stretch/>
        </p:blipFill>
        <p:spPr>
          <a:xfrm rot="1889400">
            <a:off x="105840" y="5805000"/>
            <a:ext cx="1225800" cy="115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826560" y="6453360"/>
            <a:ext cx="2737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bebcd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bebcd0"/>
                </a:solidFill>
                <a:latin typeface="Arial"/>
              </a:rPr>
              <a:t>http://www.vspu.hr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74760" y="328464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920" indent="-165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62760" indent="-132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28080" indent="-132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93040" indent="-132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93040" indent="-132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93040" indent="-132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6" descr="vspu"/>
          <p:cNvPicPr/>
          <p:nvPr/>
        </p:nvPicPr>
        <p:blipFill>
          <a:blip r:embed="rId5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826920" y="6453360"/>
            <a:ext cx="27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bebcd0"/>
                </a:solidFill>
                <a:latin typeface="Arial"/>
              </a:rPr>
              <a:t>http://www.vspu.hr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cc00"/>
                </a:solidFill>
                <a:latin typeface="Arial"/>
              </a:rPr>
              <a:t>VIJEĆE VELEUČILIŠTA I VISOKIH ŠKOL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2420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r. sc. Dragutin Fu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333399"/>
                </a:solidFill>
                <a:latin typeface="Arial"/>
              </a:rPr>
              <a:t>UČINKOVITOST UNUTARNJEG SUSTAVA OSIGURAVANJA KVALIT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Zagreb, 14. rujna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1"/>
          <p:cNvSpPr/>
          <p:nvPr/>
        </p:nvSpPr>
        <p:spPr>
          <a:xfrm>
            <a:off x="826920" y="6453360"/>
            <a:ext cx="27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bebcd0"/>
                </a:solidFill>
                <a:latin typeface="Arial"/>
              </a:rPr>
              <a:t>http://www.vspu.hr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HVALA NA POZORN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ragutin.funda@vspu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bs00554_"/>
          <p:cNvPicPr/>
          <p:nvPr/>
        </p:nvPicPr>
        <p:blipFill>
          <a:blip r:embed="rId1"/>
          <a:stretch/>
        </p:blipFill>
        <p:spPr>
          <a:xfrm>
            <a:off x="2627280" y="1557360"/>
            <a:ext cx="3975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826920" y="6453360"/>
            <a:ext cx="27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bebcd0"/>
                </a:solidFill>
                <a:latin typeface="Arial"/>
              </a:rPr>
              <a:t>http://www.vspu.hr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2400"/>
            </a:b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VISOKA ŠKOLA ZA POSLOVANJE I UPRAVLJANJE S PRAVOM JAVNOSTI “BALTAZAR ADAM KRČELIĆ” ZAPREŠIĆ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400" y="1844280"/>
            <a:ext cx="8661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tručni stud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Menadžment u kul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Poslovni taj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Poslovna ekonomija i fina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pecijalistički diplomski stručni stud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Komunikacijski menadž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Projektni menadž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826920" y="6453360"/>
            <a:ext cx="27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bebcd0"/>
                </a:solidFill>
                <a:latin typeface="Arial"/>
              </a:rPr>
              <a:t>http://www.vspu.hr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400"/>
            </a:b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UČINKOVITOST UNUTARNJEG SUSTAVA OSIGURAVANJA KVALITET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4400" y="1844280"/>
            <a:ext cx="8661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dluka Stručnog vijeća o usvajanju Sustava praćenja i unapređenja kvalitete nastave i ostalih procesa (Urbroj: 0037-07/4-2010., od 27. 04. 2010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Dekan, prodekani, voditelji stručnih studija, voditelji specijalističkih diplomskih stručnih studija, voditelj tima za provedbu sustava praćenja i unapređenja kvalitete nast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826920" y="6453360"/>
            <a:ext cx="27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bebcd0"/>
                </a:solidFill>
                <a:latin typeface="Arial"/>
              </a:rPr>
              <a:t>http://www.vspu.hr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UČINKOVITOST UNUTARNJEG SUSTAVA OSIGURAVANJA KVALITETE 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4400" y="1844280"/>
            <a:ext cx="8661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lan aktivnosti na praćenju kvalitete i učinkovitosti nast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Provođenje samoprosudbe nastavnika i vanjskih suradnika - dio cjelovitog sustava praćenja kvalitete i učinkovitosti nast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Mišljenje studenata o obrazovnim procesima i radu nastavnika i vanjskih suradnika - dio cjelovitog sustava praćenja kvalitete i učinkovitosti nast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826920" y="6453360"/>
            <a:ext cx="27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bebcd0"/>
                </a:solidFill>
                <a:latin typeface="Arial"/>
              </a:rPr>
              <a:t>http://www.vspu.hr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UČINKOVITOST UNUTARNJEG SUSTAVA OSIGURAVANJA KVALITETE 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4400" y="1844280"/>
            <a:ext cx="8661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Izdavanje nastavnih materijala za nastavne predmete na stručnim i specijalističkim studi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Izdavanje zbornika radova zaposlenika, vanjskih suradnika i studenata šk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Organizacija stručnih skup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Sustavno praćenje zapošljivosti završenih studenata škole i zadovoljstva poslodavaca s njihovim kompetenci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826920" y="6453360"/>
            <a:ext cx="27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bebcd0"/>
                </a:solidFill>
                <a:latin typeface="Arial"/>
              </a:rPr>
              <a:t>http://www.vspu.hr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UČINKOVITOST UNUTARNJEG SUSTAVA OSIGURAVANJA KVALITETE 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4400" y="1844280"/>
            <a:ext cx="8661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Djelotvorno povezivanje škole s gospodarstvom, državnim i javnim sektorom te lokalnom zajedni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Zapošljavanje ponajprije nastavnika, sukladno pozitivnim zakonskim propisima, te stalna briga o njihovom stručnom usavršavanju i napredovanju u z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Osiguravanje prostornih i drugih uvjeta za kvalitetno izvođenje obrazovnog proc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826920" y="6453360"/>
            <a:ext cx="27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bebcd0"/>
                </a:solidFill>
                <a:latin typeface="Arial"/>
              </a:rPr>
              <a:t>http://www.vspu.hr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UČINKOVITOST UNUTARNJEG SUSTAVA OSIGURAVANJA KVALITETE 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4400" y="1844280"/>
            <a:ext cx="8661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Nabavka potrebne stručne literature i ostale knjižničarske građe za studente i nastavn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Jačanje suradnje s visokoškolskim ustanovama iz inozemstva s kojima škola može uspoređivati sadržaje, organizaciju i nastavne metode, ali i omogućiti suradnju stude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Daljnje provođenje sustava upravljanja kvalitetom sukladno međunarodnoj normi ISO 9001: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826920" y="6453360"/>
            <a:ext cx="27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bebcd0"/>
                </a:solidFill>
                <a:latin typeface="Arial"/>
              </a:rPr>
              <a:t>http://www.vspu.hr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4400" y="1844280"/>
            <a:ext cx="8661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770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826920" y="6453360"/>
            <a:ext cx="27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bebcd0"/>
                </a:solidFill>
                <a:latin typeface="Arial"/>
              </a:rPr>
              <a:t>http://www.vspu.hr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UČINKOVITOST UNUTARNJEG SUSTAVA OSIGURAVANJA KVALITETE 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4400" y="1844280"/>
            <a:ext cx="8661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ntegrirani sustavi upravljanja (ISO 9001, ISO/IEC 27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Društvena odgovornost SA 8000 (ISO 26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SO 3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7:23:42Z</dcterms:created>
  <dc:creator>Ivana Ogrizek</dc:creator>
  <dc:description/>
  <dc:language>en-US</dc:language>
  <cp:lastModifiedBy>Korisnik</cp:lastModifiedBy>
  <dcterms:modified xsi:type="dcterms:W3CDTF">2010-09-14T10:03:01Z</dcterms:modified>
  <cp:revision>108</cp:revision>
  <dc:subject/>
  <dc:title>Slide 1</dc:title>
</cp:coreProperties>
</file>